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FA3A-AEA4-4B66-BA92-72F651EC9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6C08-7CA8-40F7-94A6-388DB4EF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1F44-2CBF-47F4-8173-7878F1EB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3814-6511-4C1B-B55B-975F78D5F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DDFC-4CEB-4143-B5ED-F4706FBA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15BE-11A8-4BF0-B859-45C592F3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EC9B-E8E0-40B4-82C6-C2B25829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04B2-581F-4205-906F-4B30905A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D618-385D-4EF9-8BF1-187D8389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D5F3-BB24-45BA-9780-33B06687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16B9-8F3D-4651-A4A5-F5A860B7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F255-26A8-4AD9-BFCE-0ABB194A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CB1F-4053-438C-B4AF-4E5433E87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грязнение сре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826920" y="404640"/>
            <a:ext cx="7777440" cy="3116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0981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асите нашу Землю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3068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Презен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по экологическому воспит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20880" y="3232080"/>
            <a:ext cx="316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Составила: Мурашова С.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СП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201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пасите наш воздух о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3458880" cy="2185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148360" y="1197000"/>
            <a:ext cx="3276360" cy="218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55640" y="3933720"/>
            <a:ext cx="3281400" cy="2187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219640" y="3933720"/>
            <a:ext cx="32338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те нашу воду о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3289320" cy="2186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076720" y="1268280"/>
            <a:ext cx="3270240" cy="2186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00000" y="4149720"/>
            <a:ext cx="3384720" cy="2203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076720" y="4149720"/>
            <a:ext cx="3527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пасите нашу Землю о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3322440" cy="21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716360" y="1052640"/>
            <a:ext cx="3743280" cy="2109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84360" y="3789360"/>
            <a:ext cx="3384360" cy="2540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4716360" y="3860640"/>
            <a:ext cx="3959280" cy="2367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50760" y="3232080"/>
            <a:ext cx="24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 пож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321300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 вырубки лесных масси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11120" y="6400800"/>
            <a:ext cx="21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 мус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56200" y="6329520"/>
            <a:ext cx="34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 переизбытка удобр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еловек, запомни правила просты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250920" y="1557360"/>
            <a:ext cx="8677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можем природ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26920" y="396864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55640" y="1484280"/>
            <a:ext cx="3281400" cy="2187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4038480" cy="2158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076720" y="3933720"/>
            <a:ext cx="327348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643280" y="981000"/>
            <a:ext cx="42498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ы, человек, любя природ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Хоть иногда ее жал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 увеселительных похо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е растопчи ее поле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 не исчерпывай до д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 помни истину просту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е жги ее напропал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с много – а она одн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.М. Пришв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40388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6T15:21:43Z</dcterms:created>
  <dc:creator>яшка2</dc:creator>
  <dc:description/>
  <dc:language>en-US</dc:language>
  <cp:lastModifiedBy>яшка2</cp:lastModifiedBy>
  <dcterms:modified xsi:type="dcterms:W3CDTF">2017-03-26T18:20:28Z</dcterms:modified>
  <cp:revision>5</cp:revision>
  <dc:subject/>
  <dc:title>Загрязнение среды</dc:title>
</cp:coreProperties>
</file>