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2BDE-5478-4E81-9D83-49DF0576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1AF-5669-4D24-8A7E-0897B6F5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35AA-2D9C-4D5A-83C6-AA5B8920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1F6F-893A-4742-A2DB-0ECBA8FA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0344-E187-4430-BF86-AEACDEBD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C8E1-8999-40A4-A95A-3A858633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280E-6789-407A-95FC-2C013531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ED45-32B1-460A-A6C0-5CDF1CBB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EF80-3684-4ACF-B5D0-D4519F31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DA22-4992-468B-A371-67CD7F45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5AA5-9B1F-4FF1-9273-FABE89A3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1D20-5356-4B4E-AB15-E8B10BD3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3D94-0A92-494E-A84D-FD80DE4D9A9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840" y="2214720"/>
            <a:ext cx="571500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Bookman Old Style"/>
              </a:rPr>
              <a:t>Чтобы сильным стать и ловким,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Bookman Old Style"/>
              </a:rPr>
              <a:t>Приступаем к тренировке.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Bookman Old Style"/>
              </a:rPr>
              <a:t>Носом вдох, а выдох ртом.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Bookman Old Style"/>
              </a:rPr>
              <a:t>Дышим глубже, а потом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Bookman Old Style"/>
              </a:rPr>
              <a:t>Шаг на месте, не спеша.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Bookman Old Style"/>
              </a:rPr>
              <a:t>Как погода хороша!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Bookman Old Style"/>
              </a:rPr>
              <a:t>Мы проверили осанку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Bookman Old Style"/>
              </a:rPr>
              <a:t>И свели лопатки.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Bookman Old Style"/>
              </a:rPr>
              <a:t>Мы походим на носках,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Bookman Old Style"/>
              </a:rPr>
              <a:t>И идём на пятк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Text Box 5" descr=""/>
          <p:cNvPicPr/>
          <p:nvPr/>
        </p:nvPicPr>
        <p:blipFill>
          <a:blip r:embed="rId2"/>
          <a:stretch/>
        </p:blipFill>
        <p:spPr>
          <a:xfrm>
            <a:off x="96840" y="384120"/>
            <a:ext cx="8693280" cy="1541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im7-tub-ru.yandex.net/i?id=78464842-64-72&amp;n=21"/>
          <p:cNvPicPr/>
          <p:nvPr/>
        </p:nvPicPr>
        <p:blipFill>
          <a:blip r:embed="rId3"/>
          <a:stretch/>
        </p:blipFill>
        <p:spPr>
          <a:xfrm>
            <a:off x="5205240" y="2639880"/>
            <a:ext cx="3372120" cy="33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1547640" y="476280"/>
            <a:ext cx="705672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2060"/>
                </a:solidFill>
                <a:latin typeface="Calibri"/>
              </a:rPr>
              <a:t>ЗРИТЕЛЬНЫ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2060"/>
                </a:solidFill>
                <a:latin typeface="Calibri"/>
              </a:rPr>
              <a:t>ТРЕНАЖЁР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(зарядка для глаз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1808688-6fdaec76a7ef0def.gif"/>
          <p:cNvPicPr/>
          <p:nvPr/>
        </p:nvPicPr>
        <p:blipFill>
          <a:blip r:embed="rId1"/>
          <a:stretch/>
        </p:blipFill>
        <p:spPr>
          <a:xfrm>
            <a:off x="1792440" y="0"/>
            <a:ext cx="5559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Овал 2"/>
          <p:cNvSpPr/>
          <p:nvPr/>
        </p:nvSpPr>
        <p:spPr>
          <a:xfrm>
            <a:off x="6372360" y="2852640"/>
            <a:ext cx="360360" cy="36036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4"/>
          <p:cNvSpPr/>
          <p:nvPr/>
        </p:nvSpPr>
        <p:spPr>
          <a:xfrm>
            <a:off x="2916360" y="2852640"/>
            <a:ext cx="360360" cy="36036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5"/>
          <p:cNvSpPr/>
          <p:nvPr/>
        </p:nvSpPr>
        <p:spPr>
          <a:xfrm>
            <a:off x="3419640" y="2276640"/>
            <a:ext cx="360360" cy="360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1.32547E-006 C -0.00173 0.04673 -0.00347 0.09369 -0.01076 0.14458 C -0.01805 0.19547 -0.02083 0.25261 -0.0434 0.30512 C -0.06597 0.35763 -0.11145 0.43211 -0.14565 0.45918 C -0.17986 0.48624 -0.21579 0.48254 -0.24809 0.46704 C -0.28038 0.45154 -0.31371 0.42055 -0.33975 0.36595 C -0.36579 0.31136 -0.39357 0.21004 -0.40486 0.13972 C -0.41614 0.0694 -0.4151 0.01203 -0.40711 -0.05621 C -0.39913 -0.12445 -0.37986 -0.21374 -0.35659 -0.26972 C -0.33333 -0.3257 -0.30104 -0.3708 -0.26736 -0.39162 C -0.23368 -0.41244 -0.19184 -0.42378 -0.15416 -0.39486 C -0.11649 -0.36595 -0.06597 -0.28105 -0.04097 -0.21836 C -0.01597 -0.15567 -0.01006 -0.05227 -0.00364 -0.0192 E">
                                      <p:cBhvr>
                                        <p:cTn id="6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059 0.0798 0.0033 0.12144 -0.00712 0.18135 C -0.01754 0.24126 -0.03438 0.3102 -0.0625 0.3597 C -0.09063 0.4092 -0.13455 0.46865 -0.17587 0.47837 C -0.21719 0.48808 -0.2724 0.47282 -0.31076 0.41753 C -0.34913 0.36225 -0.39219 0.23456 -0.4059 0.14619 C -0.41962 0.05783 -0.40451 -0.03863 -0.39271 -0.11242 C -0.3809 -0.18622 -0.36424 -0.24752 -0.3349 -0.29702 C -0.30556 -0.34652 -0.26076 -0.40921 -0.21684 -0.40921 C -0.17292 -0.40921 -0.10799 -0.36503 -0.07101 -0.29702 C -0.03403 -0.22901 -0.01059 -0.07981 0 0 Z">
                                      <p:cBhvr>
                                        <p:cTn id="9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69558E-006 C -0.00989 0.03193 -0.01979 0.06385 -0.00955 0.12515 C 0.000699999999999999 0.18645 0.03056 0.31391 0.06146 0.36757 C 0.09236 0.42124 0.13681 0.45756 0.17587 0.44784 C 0.21493 0.43813 0.26771 0.37498 0.29636 0.30974 C 0.325 0.24451 0.34601 0.13972 0.34827 0.05622 C 0.35052 -0.02729 0.33281 -0.1263 0.30972 -0.19107 C 0.28663 -0.25584 0.24792 -0.31344 0.20972 -0.3324 C 0.17153 -0.35137 0.11441 -0.33865 0.08073 -0.30511 C 0.04705 -0.27157 0.02222 -0.18436 0.00729 -0.13162 C -0.00764 -0.07888 -0.00573 -0.01272 -0.00833 0.01111 E">
                                      <p:cBhvr>
                                        <p:cTn id="19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65 0.04464 -0.01632 0.04395 -0.0059 0.10432 C 0.00451 0.1647 0.0316 0.3065 0.06267 0.36294 C 0.09375 0.41938 0.13941 0.45801 0.18073 0.44321 C 0.22205 0.4284 0.28299 0.35045 0.31094 0.27457 C 0.33889 0.1987 0.34913 0.06893 0.34826 -0.01273 C 0.3474 -0.09438 0.32969 -0.15823 0.30608 -0.21513 C 0.28247 -0.27204 0.24184 -0.33681 0.20608 -0.35462 C 0.17031 -0.37243 0.12344 -0.35439 0.09167 -0.3227 C 0.0599 -0.291 0.03108 -0.2186 0.0158 -0.16378 C 0.00052 -0.10895 0.00365 -0.04465 0 0 Z">
                                      <p:cBhvr>
                                        <p:cTn id="22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4000"/>
                            </p:stCondLst>
                            <p:childTnLst>
                              <p:par>
                                <p:cTn id="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34259E-006 C 0.00086 -0.01249 -0.00591 -0.04857 0.0052 -0.07541 C 0.01632 -0.10224 0.04184 -0.14596 0.06632 -0.16053 C 0.0908 -0.17511 0.12864 -0.17094 0.15191 -0.16215 C 0.17517 -0.15336 0.19253 -0.13694 0.20607 -0.10756 C 0.21961 -0.07818 0.24062 -0.02498 0.23298 0.01458 C 0.22534 0.05413 0.18489 0.10919 0.16024 0.13001 C 0.13559 0.15082 0.10902 0.12561 0.08437 0.13972 C 0.05972 0.15383 0.02725 0.18367 0.01215 0.21513 C -0.00295 0.24659 -0.01372 0.2917 -0.00591 0.32917 C 0.00191 0.36665 0.02968 0.42263 0.05902 0.43998 C 0.08836 0.45732 0.14201 0.45177 0.16996 0.4335 C 0.19791 0.41522 0.21892 0.36734 0.22656 0.33079 C 0.2342 0.29424 0.22847 0.24474 0.2158 0.21351 C 0.20312 0.18228 0.17343 0.15638 0.15069 0.14296 C 0.12795 0.12954 0.1026 0.14643 0.07951 0.13324 C 0.05642 0.12006 0.02656 0.08837 0.01215 0.06431 C -0.00226 0.04025 -0.004 0.00139 -0.00712 -0.0111 E">
                                      <p:cBhvr>
                                        <p:cTn id="32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9000"/>
                            </p:stCondLst>
                            <p:childTnLst>
                              <p:par>
                                <p:cTn id="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34259E-006 C -0.00191 -0.02336 -0.00226 -0.04603 0.00486 -0.06893 C 0.01198 -0.09183 0.02951 -0.12213 0.04253 -0.13786 C 0.05555 -0.15359 0.07309 -0.15868 0.0835 -0.16354 C 0.09392 -0.1684 0.09288 -0.16886 0.1052 -0.16678 C 0.11753 -0.1647 0.14253 -0.15799 0.15781 -0.15082 C 0.17309 -0.14365 0.18611 -0.13786 0.1967 -0.12352 C 0.20729 -0.10918 0.21614 -0.08836 0.2217 -0.0643 C 0.22725 -0.04025 0.24027 -0.01341 0.2302 0.02082 C 0.22014 0.05506 0.18593 0.11867 0.16145 0.14134 C 0.13698 0.16401 0.1085 0.14458 0.08316 0.1573 C 0.05781 0.17002 0.02326 0.18807 0.00972 0.21837 C -0.00382 0.24867 -0.00035 0.30581 0.00243 0.33843 C 0.0052 0.37104 0.02135 0.39973 0.02691 0.4143 C 0.03246 0.42887 0.03402 0.42263 0.03541 0.42563 C 0.0368 0.42864 0.01892 0.4261 0.03541 0.43188 C 0.05191 0.43766 0.10798 0.46311 0.13489 0.46079 C 0.1618 0.45825 0.17968 0.44113 0.1967 0.41569 C 0.21371 0.39047 0.23541 0.34328 0.23732 0.30974 C 0.23923 0.27597 0.22395 0.23965 0.2085 0.21351 C 0.19305 0.18737 0.16562 0.16285 0.14461 0.15244 C 0.12361 0.14203 0.10225 0.16077 0.08194 0.15082 C 0.06163 0.14088 0.03715 0.11936 0.02291 0.0923 C 0.00868 0.06662 0.00069 0.00879 -0.00365 -0.00809 E">
                                      <p:cBhvr>
                                        <p:cTn id="35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4000"/>
                            </p:stCondLst>
                            <p:childTnLst>
                              <p:par>
                                <p:cTn id="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ая соединительная линия 2"/>
          <p:cNvSpPr/>
          <p:nvPr/>
        </p:nvSpPr>
        <p:spPr>
          <a:xfrm>
            <a:off x="4356000" y="404640"/>
            <a:ext cx="0" cy="6048720"/>
          </a:xfrm>
          <a:prstGeom prst="line">
            <a:avLst/>
          </a:prstGeom>
          <a:ln w="7632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4"/>
          <p:cNvSpPr/>
          <p:nvPr/>
        </p:nvSpPr>
        <p:spPr>
          <a:xfrm>
            <a:off x="179280" y="3213000"/>
            <a:ext cx="8785440" cy="0"/>
          </a:xfrm>
          <a:prstGeom prst="line">
            <a:avLst/>
          </a:prstGeom>
          <a:ln w="7632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6"/>
          <p:cNvSpPr/>
          <p:nvPr/>
        </p:nvSpPr>
        <p:spPr>
          <a:xfrm flipH="1" flipV="1">
            <a:off x="8675280" y="3068280"/>
            <a:ext cx="289080" cy="1443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8"/>
          <p:cNvSpPr/>
          <p:nvPr/>
        </p:nvSpPr>
        <p:spPr>
          <a:xfrm flipH="1">
            <a:off x="8675280" y="3213000"/>
            <a:ext cx="289080" cy="1447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9"/>
          <p:cNvSpPr/>
          <p:nvPr/>
        </p:nvSpPr>
        <p:spPr>
          <a:xfrm flipH="1">
            <a:off x="178920" y="3068640"/>
            <a:ext cx="289080" cy="1443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0"/>
          <p:cNvSpPr/>
          <p:nvPr/>
        </p:nvSpPr>
        <p:spPr>
          <a:xfrm flipH="1">
            <a:off x="4356000" y="6237360"/>
            <a:ext cx="144720" cy="2160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1"/>
          <p:cNvSpPr/>
          <p:nvPr/>
        </p:nvSpPr>
        <p:spPr>
          <a:xfrm flipH="1">
            <a:off x="4211280" y="404640"/>
            <a:ext cx="144360" cy="2160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12"/>
          <p:cNvSpPr/>
          <p:nvPr/>
        </p:nvSpPr>
        <p:spPr>
          <a:xfrm flipH="1" flipV="1">
            <a:off x="4211280" y="6237360"/>
            <a:ext cx="144360" cy="2160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3"/>
          <p:cNvSpPr/>
          <p:nvPr/>
        </p:nvSpPr>
        <p:spPr>
          <a:xfrm flipH="1" flipV="1">
            <a:off x="178920" y="3213000"/>
            <a:ext cx="289080" cy="1447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4"/>
          <p:cNvSpPr/>
          <p:nvPr/>
        </p:nvSpPr>
        <p:spPr>
          <a:xfrm flipH="1" flipV="1">
            <a:off x="4356000" y="404640"/>
            <a:ext cx="144720" cy="2160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6"/>
          <p:cNvSpPr/>
          <p:nvPr/>
        </p:nvSpPr>
        <p:spPr>
          <a:xfrm>
            <a:off x="1403280" y="907920"/>
            <a:ext cx="6048360" cy="48974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7"/>
          <p:cNvSpPr/>
          <p:nvPr/>
        </p:nvSpPr>
        <p:spPr>
          <a:xfrm>
            <a:off x="1692360" y="2133720"/>
            <a:ext cx="2303280" cy="2087280"/>
          </a:xfrm>
          <a:prstGeom prst="ellipse">
            <a:avLst/>
          </a:prstGeom>
          <a:noFill/>
          <a:ln w="76320">
            <a:solidFill>
              <a:srgbClr val="008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8"/>
          <p:cNvSpPr/>
          <p:nvPr/>
        </p:nvSpPr>
        <p:spPr>
          <a:xfrm>
            <a:off x="4716360" y="2133720"/>
            <a:ext cx="2303640" cy="2087280"/>
          </a:xfrm>
          <a:prstGeom prst="ellipse">
            <a:avLst/>
          </a:prstGeom>
          <a:noFill/>
          <a:ln w="76320">
            <a:solidFill>
              <a:srgbClr val="008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30"/>
          <p:cNvCxnSpPr/>
          <p:nvPr/>
        </p:nvCxnSpPr>
        <p:spPr>
          <a:xfrm>
            <a:off x="7380360" y="2852280"/>
            <a:ext cx="72000" cy="289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3" name="Прямая со стрелкой 32"/>
          <p:cNvCxnSpPr/>
          <p:nvPr/>
        </p:nvCxnSpPr>
        <p:spPr>
          <a:xfrm flipH="1">
            <a:off x="4139640" y="5805000"/>
            <a:ext cx="43236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4" name="Прямая со стрелкой 35"/>
          <p:cNvCxnSpPr/>
          <p:nvPr/>
        </p:nvCxnSpPr>
        <p:spPr>
          <a:xfrm flipV="1">
            <a:off x="1402920" y="3067920"/>
            <a:ext cx="1080" cy="432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5" name="Прямая со стрелкой 41"/>
          <p:cNvCxnSpPr>
            <a:stCxn id="60" idx="0"/>
          </p:cNvCxnSpPr>
          <p:nvPr/>
        </p:nvCxnSpPr>
        <p:spPr>
          <a:xfrm>
            <a:off x="2842920" y="2133720"/>
            <a:ext cx="361080" cy="7200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66" name="Прямая со стрелкой 43"/>
          <p:cNvCxnSpPr>
            <a:endCxn id="60" idx="5"/>
          </p:cNvCxnSpPr>
          <p:nvPr/>
        </p:nvCxnSpPr>
        <p:spPr>
          <a:xfrm flipH="1">
            <a:off x="3658680" y="3715920"/>
            <a:ext cx="192960" cy="19908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67" name="Прямая со стрелкой 45"/>
          <p:cNvCxnSpPr/>
          <p:nvPr/>
        </p:nvCxnSpPr>
        <p:spPr>
          <a:xfrm flipH="1" flipV="1">
            <a:off x="1691640" y="3357360"/>
            <a:ext cx="143640" cy="28800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68" name="Прямая со стрелкой 47"/>
          <p:cNvCxnSpPr/>
          <p:nvPr/>
        </p:nvCxnSpPr>
        <p:spPr>
          <a:xfrm flipH="1">
            <a:off x="5147640" y="2204640"/>
            <a:ext cx="361080" cy="14472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69" name="Прямая со стрелкой 52"/>
          <p:cNvCxnSpPr/>
          <p:nvPr/>
        </p:nvCxnSpPr>
        <p:spPr>
          <a:xfrm>
            <a:off x="5435640" y="4149720"/>
            <a:ext cx="289440" cy="7200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0" name="Прямая со стрелкой 54"/>
          <p:cNvCxnSpPr>
            <a:stCxn id="61" idx="6"/>
          </p:cNvCxnSpPr>
          <p:nvPr/>
        </p:nvCxnSpPr>
        <p:spPr>
          <a:xfrm flipH="1" flipV="1">
            <a:off x="6947640" y="2852280"/>
            <a:ext cx="72360" cy="32472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71" name="Овал 23"/>
          <p:cNvSpPr/>
          <p:nvPr/>
        </p:nvSpPr>
        <p:spPr>
          <a:xfrm>
            <a:off x="4140360" y="260280"/>
            <a:ext cx="431640" cy="432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25"/>
          <p:cNvSpPr/>
          <p:nvPr/>
        </p:nvSpPr>
        <p:spPr>
          <a:xfrm>
            <a:off x="4140360" y="6165720"/>
            <a:ext cx="431640" cy="432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29"/>
          <p:cNvSpPr/>
          <p:nvPr/>
        </p:nvSpPr>
        <p:spPr>
          <a:xfrm>
            <a:off x="179280" y="2997360"/>
            <a:ext cx="432000" cy="43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31"/>
          <p:cNvSpPr/>
          <p:nvPr/>
        </p:nvSpPr>
        <p:spPr>
          <a:xfrm>
            <a:off x="1187280" y="2997360"/>
            <a:ext cx="432000" cy="43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33"/>
          <p:cNvSpPr/>
          <p:nvPr/>
        </p:nvSpPr>
        <p:spPr>
          <a:xfrm>
            <a:off x="1619280" y="3357720"/>
            <a:ext cx="360360" cy="3585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34"/>
          <p:cNvSpPr/>
          <p:nvPr/>
        </p:nvSpPr>
        <p:spPr>
          <a:xfrm>
            <a:off x="5219640" y="2060640"/>
            <a:ext cx="360360" cy="360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0.02082 L 1.11111E-006 0.84732 E">
                                      <p:cBhvr>
                                        <p:cTn id="44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9688E-006 L 1.11111E-006 -0.84732 E">
                                      <p:cBhvr>
                                        <p:cTn id="53" dur="3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8422E-006 L 0.91354 -3.38422E-006 E">
                                      <p:cBhvr>
                                        <p:cTn id="66" dur="3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1354 -3.38422E-006 L 8.33333E-007 -3.38422E-006 E">
                                      <p:cBhvr>
                                        <p:cTn id="69" dur="3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7000"/>
                            </p:stCondLst>
                            <p:childTnLst>
                              <p:par>
                                <p:cTn id="78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38422E-006 L 0.0224 -0.10062 L 0.06337 -0.18737 L 0.11406 -0.24982 L 0.15018 -0.27712 C 0.20799 -0.31089 0.26684 -0.33587 0.32396 -0.33587 C 0.38924 -0.33587 0.45625 -0.31251 0.50799 -0.27874 L 0.56945 -0.22739 L 0.61285 -0.1647 L 0.65139 -0.07494 L 0.65365 -3.38422E-006 E">
                                      <p:cBhvr>
                                        <p:cTn id="79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2000"/>
                            </p:stCondLst>
                            <p:childTnLst>
                              <p:par>
                                <p:cTn id="81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364 -3.38422E-006 L 0.65729 0.07449 L 0.63576 0.1691 L 0.57656 0.25422 L 0.51996 0.30882 C 0.4441 0.35855 0.38663 0.37775 0.32899 0.37775 C 0.26354 0.37775 0.21875 0.36989 0.14774 0.31206 L 0.09705 0.27019 L 0.0441 0.20287 L 0.01042 0.10641 L 1.66667E-006 -3.38422E-006 E">
                                      <p:cBhvr>
                                        <p:cTn id="82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7000"/>
                            </p:stCondLst>
                            <p:childTnLst>
                              <p:par>
                                <p:cTn id="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7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9000"/>
                            </p:stCondLst>
                            <p:childTnLst>
                              <p:par>
                                <p:cTn id="91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40273E-006 C -0.01996 -0.08235 0.0158 -0.17187 0.07987 -0.19916 C 0.14393 -0.22692 0.21233 -0.18181 0.23195 -0.09923 C 0.25226 -0.01688 0.21615 0.07241 0.15226 0.0997 C 0.08803 0.12723 0.0198 0.08258 5E-006 -3.40273E-006 Z">
                                      <p:cBhvr>
                                        <p:cTn id="92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1000"/>
                            </p:stCondLst>
                            <p:childTnLst>
                              <p:par>
                                <p:cTn id="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30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3347E-006 C -0.02482 0.01018 -0.04288 0.02892 -0.05538 0.05783 C -0.06788 0.08675 -0.08871 0.13394 -0.07465 0.17326 C -0.06059 0.21259 -0.00989 0.28522 0.029 0.29378 C 0.06789 0.30234 0.1349 0.26001 0.15903 0.22462 C 0.18316 0.18922 0.18438 0.11983 0.17361 0.08189 C 0.16285 0.04395 0.12327 0.01041 0.0941 -0.00324 C 0.06493 -0.01688 0.02483 -0.01018 -1.66667E-006 1.13347E-006 Z">
                                      <p:cBhvr>
                                        <p:cTn id="10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7" name="Прямая со стрелкой 2"/>
          <p:cNvCxnSpPr/>
          <p:nvPr/>
        </p:nvCxnSpPr>
        <p:spPr>
          <a:xfrm>
            <a:off x="4211280" y="260280"/>
            <a:ext cx="73800" cy="640944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Прямая со стрелкой 4"/>
          <p:cNvCxnSpPr/>
          <p:nvPr/>
        </p:nvCxnSpPr>
        <p:spPr>
          <a:xfrm>
            <a:off x="250560" y="3212640"/>
            <a:ext cx="8498520" cy="1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9" name="Прямая со стрелкой 6"/>
          <p:cNvCxnSpPr/>
          <p:nvPr/>
        </p:nvCxnSpPr>
        <p:spPr>
          <a:xfrm flipH="1">
            <a:off x="178560" y="3212640"/>
            <a:ext cx="50580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0" name="Прямая со стрелкой 9"/>
          <p:cNvCxnSpPr/>
          <p:nvPr/>
        </p:nvCxnSpPr>
        <p:spPr>
          <a:xfrm flipV="1">
            <a:off x="4211280" y="188640"/>
            <a:ext cx="1080" cy="504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1" name="Равнобедренный треугольник 12"/>
          <p:cNvSpPr/>
          <p:nvPr/>
        </p:nvSpPr>
        <p:spPr>
          <a:xfrm>
            <a:off x="755640" y="549360"/>
            <a:ext cx="7561440" cy="5616360"/>
          </a:xfrm>
          <a:prstGeom prst="triangle">
            <a:avLst>
              <a:gd name="adj" fmla="val 45630"/>
            </a:avLst>
          </a:prstGeom>
          <a:noFill/>
          <a:ln w="7632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 стрелкой 14"/>
          <p:cNvCxnSpPr/>
          <p:nvPr/>
        </p:nvCxnSpPr>
        <p:spPr>
          <a:xfrm>
            <a:off x="7811640" y="5445000"/>
            <a:ext cx="289440" cy="43272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83" name="Прямая со стрелкой 17"/>
          <p:cNvCxnSpPr/>
          <p:nvPr/>
        </p:nvCxnSpPr>
        <p:spPr>
          <a:xfrm flipH="1">
            <a:off x="4500720" y="6165360"/>
            <a:ext cx="576360" cy="108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84" name="Прямая со стрелкой 19"/>
          <p:cNvCxnSpPr/>
          <p:nvPr/>
        </p:nvCxnSpPr>
        <p:spPr>
          <a:xfrm flipV="1">
            <a:off x="971280" y="5515920"/>
            <a:ext cx="216360" cy="36108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85" name="Прямая со стрелкой 21"/>
          <p:cNvCxnSpPr/>
          <p:nvPr/>
        </p:nvCxnSpPr>
        <p:spPr>
          <a:xfrm flipV="1">
            <a:off x="3708360" y="980640"/>
            <a:ext cx="216720" cy="43272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86" name="Прямая со стрелкой 23"/>
          <p:cNvCxnSpPr/>
          <p:nvPr/>
        </p:nvCxnSpPr>
        <p:spPr>
          <a:xfrm>
            <a:off x="4500720" y="980640"/>
            <a:ext cx="288000" cy="36108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87" name="Овал 24"/>
          <p:cNvSpPr/>
          <p:nvPr/>
        </p:nvSpPr>
        <p:spPr>
          <a:xfrm>
            <a:off x="3132000" y="2060640"/>
            <a:ext cx="2376720" cy="2232000"/>
          </a:xfrm>
          <a:prstGeom prst="ellipse">
            <a:avLst/>
          </a:prstGeom>
          <a:noFill/>
          <a:ln w="76320">
            <a:solidFill>
              <a:srgbClr val="95373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25"/>
          <p:cNvSpPr/>
          <p:nvPr/>
        </p:nvSpPr>
        <p:spPr>
          <a:xfrm>
            <a:off x="3492360" y="4292640"/>
            <a:ext cx="1511280" cy="1368360"/>
          </a:xfrm>
          <a:prstGeom prst="ellipse">
            <a:avLst/>
          </a:prstGeom>
          <a:noFill/>
          <a:ln w="76320">
            <a:solidFill>
              <a:srgbClr val="95373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Прямая со стрелкой 27"/>
          <p:cNvCxnSpPr/>
          <p:nvPr/>
        </p:nvCxnSpPr>
        <p:spPr>
          <a:xfrm>
            <a:off x="4500720" y="2060280"/>
            <a:ext cx="288000" cy="73800"/>
          </a:xfrm>
          <a:prstGeom prst="straightConnector1">
            <a:avLst/>
          </a:prstGeom>
          <a:ln w="76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90" name="Прямая со стрелкой 29"/>
          <p:cNvCxnSpPr/>
          <p:nvPr/>
        </p:nvCxnSpPr>
        <p:spPr>
          <a:xfrm flipH="1">
            <a:off x="5292000" y="3573360"/>
            <a:ext cx="143640" cy="288000"/>
          </a:xfrm>
          <a:prstGeom prst="straightConnector1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91" name="Прямая со стрелкой 31"/>
          <p:cNvCxnSpPr>
            <a:endCxn id="87" idx="3"/>
          </p:cNvCxnSpPr>
          <p:nvPr/>
        </p:nvCxnSpPr>
        <p:spPr>
          <a:xfrm flipH="1" flipV="1">
            <a:off x="3479760" y="3965040"/>
            <a:ext cx="300600" cy="185040"/>
          </a:xfrm>
          <a:prstGeom prst="straightConnector1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92" name="Прямая со стрелкой 33"/>
          <p:cNvCxnSpPr/>
          <p:nvPr/>
        </p:nvCxnSpPr>
        <p:spPr>
          <a:xfrm flipH="1">
            <a:off x="3491640" y="4652640"/>
            <a:ext cx="72360" cy="361080"/>
          </a:xfrm>
          <a:prstGeom prst="straightConnector1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93" name="Прямая со стрелкой 35"/>
          <p:cNvCxnSpPr>
            <a:endCxn id="88" idx="5"/>
          </p:cNvCxnSpPr>
          <p:nvPr/>
        </p:nvCxnSpPr>
        <p:spPr>
          <a:xfrm flipV="1">
            <a:off x="4427280" y="5460480"/>
            <a:ext cx="356040" cy="200880"/>
          </a:xfrm>
          <a:prstGeom prst="straightConnector1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94" name="Прямая со стрелкой 37"/>
          <p:cNvCxnSpPr/>
          <p:nvPr/>
        </p:nvCxnSpPr>
        <p:spPr>
          <a:xfrm flipH="1" flipV="1">
            <a:off x="4571640" y="4365000"/>
            <a:ext cx="288000" cy="216360"/>
          </a:xfrm>
          <a:prstGeom prst="straightConnector1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</p:cxnSp>
      <p:sp>
        <p:nvSpPr>
          <p:cNvPr id="95" name="Овал 20"/>
          <p:cNvSpPr/>
          <p:nvPr/>
        </p:nvSpPr>
        <p:spPr>
          <a:xfrm>
            <a:off x="179280" y="2997360"/>
            <a:ext cx="432000" cy="43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22"/>
          <p:cNvSpPr/>
          <p:nvPr/>
        </p:nvSpPr>
        <p:spPr>
          <a:xfrm>
            <a:off x="4067280" y="6237360"/>
            <a:ext cx="433440" cy="43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26"/>
          <p:cNvSpPr/>
          <p:nvPr/>
        </p:nvSpPr>
        <p:spPr>
          <a:xfrm>
            <a:off x="3995640" y="260280"/>
            <a:ext cx="432000" cy="43200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28"/>
          <p:cNvSpPr/>
          <p:nvPr/>
        </p:nvSpPr>
        <p:spPr>
          <a:xfrm>
            <a:off x="4067280" y="1916280"/>
            <a:ext cx="360360" cy="36036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8422E-006 L 0.89774 -3.38422E-006 E">
                                      <p:cBhvr>
                                        <p:cTn id="108" dur="5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89774 -3.38422E-006 L 8.33333E-007 -3.38422E-006 E">
                                      <p:cBhvr>
                                        <p:cTn id="111" dur="5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0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6 7.77238E-007 L -0.00781 -0.89174 E">
                                      <p:cBhvr>
                                        <p:cTn id="121" dur="5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89174 L 0.00018 7.77238E-007 E">
                                      <p:cBhvr>
                                        <p:cTn id="124" dur="5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7474E-006 L 0.44896 0.83946 E">
                                      <p:cBhvr>
                                        <p:cTn id="13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896 0.83946 L -0.37014 0.82905 E">
                                      <p:cBhvr>
                                        <p:cTn id="137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014 0.82905 L -2.77778E-007 3.7474E-006 E">
                                      <p:cBhvr>
                                        <p:cTn id="14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4000"/>
                            </p:stCondLst>
                            <p:childTnLst>
                              <p:par>
                                <p:cTn id="149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77778E-007 -3.51145E-006 C 0.01858 -0.00347 0.03594 -0.00763 0.05052 -0.00323 C 0.0651 0.00116 0.07726 0.01758 0.08733 0.02707 C 0.0974 0.03655 0.10226 0.02938 0.11146 0.05436 C 0.12066 0.07935 0.14497 0.13926 0.14219 0.17673 C 0.13941 0.21421 0.11806 0.25631 0.09514 0.27944 C 0.07222 0.30257 0.0283 0.3072 0.00486 0.31622 C -0.01858 0.32524 -0.0309 0.31576 -0.04583 0.33403 C -0.06076 0.35231 -0.08837 0.3951 -0.08438 0.4254 C -0.08038 0.45571 -0.04774 0.50775 -0.02222 0.51654 C 0.0033 0.52533 0.0526 0.5022 0.06858 0.47838 C 0.08455 0.45455 0.08351 0.40111 0.07344 0.37405 C 0.06337 0.34698 0.03177 0.32964 0.00833 0.31622 C -0.0151 0.3028 -0.0474 0.31182 -0.06753 0.29378 C -0.08767 0.27574 -0.10434 0.24127 -0.11215 0.20865 C -0.11997 0.17604 -0.12309 0.12977 -0.11458 0.09808 C -0.10608 0.06639 -0.08038 0.03424 -0.06146 0.01782 C -0.04253 0.00139 -0.01858 0.00347 2.77778E-007 -3.51145E-006 Z">
                                      <p:cBhvr>
                                        <p:cTn id="150" dur="3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8000"/>
                            </p:stCondLst>
                            <p:childTnLst>
                              <p:par>
                                <p:cTn id="152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C 0.02587 -0.00463 0.05174 -0.00925 0.07465 0.00647 C 0.09757 0.0222 0.12864 0.05551 0.13733 0.09484 C 0.14601 0.13416 0.14826 0.20472 0.12639 0.24242 C 0.10451 0.28013 0.03229 0.30696 0.00608 0.32107 C -0.02014 0.33518 -0.01771 0.31621 -0.03142 0.32755 C -0.04514 0.33888 -0.07153 0.36248 -0.07587 0.38862 C -0.08021 0.41476 -0.07708 0.46542 -0.05781 0.48462 C -0.03854 0.50428 0.01632 0.51446 0.03976 0.50567 C 0.06319 0.49688 0.07917 0.45871 0.08316 0.43187 C 0.08715 0.40504 0.07691 0.36479 0.06389 0.34513 C 0.05087 0.32547 0.02552 0.31459 0.00486 0.31321 C -0.0158 0.31182 -0.04653 0.31668 -0.06024 0.33726 C -0.07396 0.35785 -0.08212 0.40828 -0.07708 0.43673 C -0.07205 0.46518 -0.0507 0.49641 -0.03021 0.50728 C -0.00972 0.51793 0.02604 0.51793 0.04583 0.50243 C 0.06562 0.4867 0.08594 0.43812 0.08906 0.41267 C 0.09219 0.38723 0.07812 0.36572 0.0651 0.34999 C 0.05208 0.33426 0.03264 0.3287 0.01076 0.31783 C -0.01111 0.30696 -0.04583 0.30164 -0.06632 0.28429 C -0.08681 0.26694 -0.10295 0.24127 -0.11215 0.21351 C -0.12136 0.18575 -0.12761 0.14758 -0.1217 0.11728 C -0.1158 0.08697 -0.0974 0.0532 -0.07708 0.03215 C -0.05677 0.0111 -0.0257 -0.00555 0 -0.00949 C 0.02569 -0.01342 0.05417 -0.01087 0.07708 0.00809 C 0.1 0.02706 0.12934 0.06801 0.13733 0.10432 C 0.14531 0.14064 0.13958 0.19361 0.12535 0.22646 C 0.11111 0.25931 0.08003 0.28961 0.05174 0.30187 C 0.02344 0.31413 -0.01597 0.31552 -0.04462 0.30025 C -0.07326 0.28499 -0.10868 0.24659 -0.12049 0.21027 C -0.13229 0.17395 -0.13472 0.11936 -0.11563 0.08189 C -0.09653 0.04441 -0.02431 0.00162 -0.00608 -0.01434 E">
                                      <p:cBhvr>
                                        <p:cTn id="153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9" name="Прямая со стрелкой 2"/>
          <p:cNvCxnSpPr/>
          <p:nvPr/>
        </p:nvCxnSpPr>
        <p:spPr>
          <a:xfrm>
            <a:off x="4284360" y="259920"/>
            <a:ext cx="143640" cy="648252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Прямая со стрелкой 4"/>
          <p:cNvCxnSpPr/>
          <p:nvPr/>
        </p:nvCxnSpPr>
        <p:spPr>
          <a:xfrm flipV="1">
            <a:off x="4284360" y="188280"/>
            <a:ext cx="1080" cy="6483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Прямая со стрелкой 6"/>
          <p:cNvCxnSpPr/>
          <p:nvPr/>
        </p:nvCxnSpPr>
        <p:spPr>
          <a:xfrm>
            <a:off x="323640" y="3141360"/>
            <a:ext cx="8569440" cy="1080"/>
          </a:xfrm>
          <a:prstGeom prst="straightConnector1">
            <a:avLst/>
          </a:prstGeom>
          <a:ln w="76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2" name="Прямая со стрелкой 8"/>
          <p:cNvCxnSpPr/>
          <p:nvPr/>
        </p:nvCxnSpPr>
        <p:spPr>
          <a:xfrm flipH="1">
            <a:off x="250920" y="3141360"/>
            <a:ext cx="576360" cy="1080"/>
          </a:xfrm>
          <a:prstGeom prst="straightConnector1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03" name="Прямая со стрелкой 14"/>
          <p:cNvCxnSpPr/>
          <p:nvPr/>
        </p:nvCxnSpPr>
        <p:spPr>
          <a:xfrm>
            <a:off x="1115640" y="1844640"/>
            <a:ext cx="1080" cy="2448720"/>
          </a:xfrm>
          <a:prstGeom prst="straightConnector1">
            <a:avLst/>
          </a:prstGeom>
          <a:ln w="57240">
            <a:solidFill>
              <a:srgbClr val="008000"/>
            </a:solidFill>
            <a:prstDash val="dash"/>
            <a:miter/>
            <a:tailEnd len="med" type="triangle" w="med"/>
          </a:ln>
        </p:spPr>
      </p:cxnSp>
      <p:cxnSp>
        <p:nvCxnSpPr>
          <p:cNvPr id="104" name="Прямая со стрелкой 15"/>
          <p:cNvCxnSpPr/>
          <p:nvPr/>
        </p:nvCxnSpPr>
        <p:spPr>
          <a:xfrm>
            <a:off x="1907640" y="2205000"/>
            <a:ext cx="1080" cy="2448720"/>
          </a:xfrm>
          <a:prstGeom prst="straightConnector1">
            <a:avLst/>
          </a:prstGeom>
          <a:ln w="57240">
            <a:solidFill>
              <a:srgbClr val="008000"/>
            </a:solidFill>
            <a:prstDash val="dash"/>
            <a:miter/>
            <a:tailEnd len="med" type="triangle" w="med"/>
          </a:ln>
        </p:spPr>
      </p:cxnSp>
      <p:cxnSp>
        <p:nvCxnSpPr>
          <p:cNvPr id="105" name="Прямая со стрелкой 16"/>
          <p:cNvCxnSpPr/>
          <p:nvPr/>
        </p:nvCxnSpPr>
        <p:spPr>
          <a:xfrm>
            <a:off x="2700000" y="2492280"/>
            <a:ext cx="1080" cy="2449800"/>
          </a:xfrm>
          <a:prstGeom prst="straightConnector1">
            <a:avLst/>
          </a:prstGeom>
          <a:ln w="57240">
            <a:solidFill>
              <a:srgbClr val="008000"/>
            </a:solidFill>
            <a:prstDash val="dash"/>
            <a:miter/>
            <a:tailEnd len="med" type="triangle" w="med"/>
          </a:ln>
        </p:spPr>
      </p:cxnSp>
      <p:cxnSp>
        <p:nvCxnSpPr>
          <p:cNvPr id="106" name="Прямая со стрелкой 17"/>
          <p:cNvCxnSpPr/>
          <p:nvPr/>
        </p:nvCxnSpPr>
        <p:spPr>
          <a:xfrm>
            <a:off x="3563640" y="2708280"/>
            <a:ext cx="1080" cy="2449800"/>
          </a:xfrm>
          <a:prstGeom prst="straightConnector1">
            <a:avLst/>
          </a:prstGeom>
          <a:ln w="57240">
            <a:solidFill>
              <a:srgbClr val="008000"/>
            </a:solidFill>
            <a:prstDash val="dash"/>
            <a:miter/>
            <a:tailEnd len="med" type="triangle" w="med"/>
          </a:ln>
        </p:spPr>
      </p:cxnSp>
      <p:cxnSp>
        <p:nvCxnSpPr>
          <p:cNvPr id="107" name="Прямая со стрелкой 23"/>
          <p:cNvCxnSpPr/>
          <p:nvPr/>
        </p:nvCxnSpPr>
        <p:spPr>
          <a:xfrm flipV="1">
            <a:off x="5148000" y="980640"/>
            <a:ext cx="1080" cy="2592720"/>
          </a:xfrm>
          <a:prstGeom prst="straightConnector1">
            <a:avLst/>
          </a:prstGeom>
          <a:ln w="57240">
            <a:solidFill>
              <a:srgbClr val="008000"/>
            </a:solidFill>
            <a:prstDash val="dash"/>
            <a:miter/>
            <a:tailEnd len="med" type="triangle" w="med"/>
          </a:ln>
        </p:spPr>
      </p:cxnSp>
      <p:cxnSp>
        <p:nvCxnSpPr>
          <p:cNvPr id="108" name="Прямая со стрелкой 25"/>
          <p:cNvCxnSpPr/>
          <p:nvPr/>
        </p:nvCxnSpPr>
        <p:spPr>
          <a:xfrm flipV="1">
            <a:off x="6084360" y="1196640"/>
            <a:ext cx="1080" cy="2592720"/>
          </a:xfrm>
          <a:prstGeom prst="straightConnector1">
            <a:avLst/>
          </a:prstGeom>
          <a:ln w="57240">
            <a:solidFill>
              <a:srgbClr val="008000"/>
            </a:solidFill>
            <a:prstDash val="dash"/>
            <a:miter/>
            <a:tailEnd len="med" type="triangle" w="med"/>
          </a:ln>
        </p:spPr>
      </p:cxnSp>
      <p:cxnSp>
        <p:nvCxnSpPr>
          <p:cNvPr id="109" name="Прямая со стрелкой 26"/>
          <p:cNvCxnSpPr/>
          <p:nvPr/>
        </p:nvCxnSpPr>
        <p:spPr>
          <a:xfrm flipV="1">
            <a:off x="7019640" y="1483920"/>
            <a:ext cx="1080" cy="2592720"/>
          </a:xfrm>
          <a:prstGeom prst="straightConnector1">
            <a:avLst/>
          </a:prstGeom>
          <a:ln w="57240">
            <a:solidFill>
              <a:srgbClr val="008000"/>
            </a:solidFill>
            <a:prstDash val="dash"/>
            <a:miter/>
            <a:tailEnd len="med" type="triangle" w="med"/>
          </a:ln>
        </p:spPr>
      </p:cxnSp>
      <p:cxnSp>
        <p:nvCxnSpPr>
          <p:cNvPr id="110" name="Прямая со стрелкой 27"/>
          <p:cNvCxnSpPr/>
          <p:nvPr/>
        </p:nvCxnSpPr>
        <p:spPr>
          <a:xfrm flipV="1">
            <a:off x="7956360" y="1699920"/>
            <a:ext cx="1080" cy="2592720"/>
          </a:xfrm>
          <a:prstGeom prst="straightConnector1">
            <a:avLst/>
          </a:prstGeom>
          <a:ln w="57240">
            <a:solidFill>
              <a:srgbClr val="008000"/>
            </a:solidFill>
            <a:prstDash val="dash"/>
            <a:miter/>
            <a:tailEnd len="med" type="triangle" w="med"/>
          </a:ln>
        </p:spPr>
      </p:cxnSp>
      <p:sp>
        <p:nvSpPr>
          <p:cNvPr id="111" name="Овал 29"/>
          <p:cNvSpPr/>
          <p:nvPr/>
        </p:nvSpPr>
        <p:spPr>
          <a:xfrm>
            <a:off x="611280" y="2133720"/>
            <a:ext cx="3673440" cy="1800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30"/>
          <p:cNvSpPr/>
          <p:nvPr/>
        </p:nvSpPr>
        <p:spPr>
          <a:xfrm>
            <a:off x="4356000" y="2205000"/>
            <a:ext cx="3672000" cy="1800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Прямая со стрелкой 32"/>
          <p:cNvCxnSpPr/>
          <p:nvPr/>
        </p:nvCxnSpPr>
        <p:spPr>
          <a:xfrm flipV="1">
            <a:off x="4716000" y="2349000"/>
            <a:ext cx="361080" cy="216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4" name="Прямая со стрелкой 36"/>
          <p:cNvCxnSpPr>
            <a:stCxn id="112" idx="7"/>
          </p:cNvCxnSpPr>
          <p:nvPr/>
        </p:nvCxnSpPr>
        <p:spPr>
          <a:xfrm>
            <a:off x="7489800" y="2468520"/>
            <a:ext cx="396000" cy="2404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5" name="Прямая со стрелкой 40"/>
          <p:cNvCxnSpPr/>
          <p:nvPr/>
        </p:nvCxnSpPr>
        <p:spPr>
          <a:xfrm flipH="1">
            <a:off x="5940000" y="4005000"/>
            <a:ext cx="4327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6" name="Прямая со стрелкой 43"/>
          <p:cNvCxnSpPr>
            <a:endCxn id="111" idx="7"/>
          </p:cNvCxnSpPr>
          <p:nvPr/>
        </p:nvCxnSpPr>
        <p:spPr>
          <a:xfrm flipH="1" flipV="1">
            <a:off x="3746160" y="2396520"/>
            <a:ext cx="249840" cy="1688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7" name="Прямая со стрелкой 46"/>
          <p:cNvCxnSpPr/>
          <p:nvPr/>
        </p:nvCxnSpPr>
        <p:spPr>
          <a:xfrm flipH="1">
            <a:off x="684000" y="2491920"/>
            <a:ext cx="288000" cy="289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8" name="Прямая со стрелкой 49"/>
          <p:cNvCxnSpPr/>
          <p:nvPr/>
        </p:nvCxnSpPr>
        <p:spPr>
          <a:xfrm>
            <a:off x="2195280" y="3933360"/>
            <a:ext cx="36108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9" name="Полилиния 50"/>
          <p:cNvSpPr/>
          <p:nvPr/>
        </p:nvSpPr>
        <p:spPr>
          <a:xfrm>
            <a:off x="484200" y="549360"/>
            <a:ext cx="8048520" cy="2519280"/>
          </a:xfrm>
          <a:prstGeom prst="pie">
            <a:avLst/>
          </a:prstGeom>
          <a:noFill/>
          <a:ln w="127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Прямая со стрелкой 52"/>
          <p:cNvCxnSpPr/>
          <p:nvPr/>
        </p:nvCxnSpPr>
        <p:spPr>
          <a:xfrm flipV="1">
            <a:off x="610920" y="1988640"/>
            <a:ext cx="144720" cy="4327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21" name="Прямая со стрелкой 54"/>
          <p:cNvCxnSpPr>
            <a:endCxn id="119" idx="12"/>
          </p:cNvCxnSpPr>
          <p:nvPr/>
        </p:nvCxnSpPr>
        <p:spPr>
          <a:xfrm flipV="1">
            <a:off x="2916000" y="1067760"/>
            <a:ext cx="540360" cy="34524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22" name="Прямая со стрелкой 56"/>
          <p:cNvCxnSpPr/>
          <p:nvPr/>
        </p:nvCxnSpPr>
        <p:spPr>
          <a:xfrm>
            <a:off x="5435640" y="1052280"/>
            <a:ext cx="289440" cy="21636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23" name="Прямая со стрелкой 59"/>
          <p:cNvCxnSpPr>
            <a:stCxn id="119" idx="13"/>
          </p:cNvCxnSpPr>
          <p:nvPr/>
        </p:nvCxnSpPr>
        <p:spPr>
          <a:xfrm>
            <a:off x="8278920" y="2003400"/>
            <a:ext cx="181440" cy="4183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24" name="Овал 31"/>
          <p:cNvSpPr/>
          <p:nvPr/>
        </p:nvSpPr>
        <p:spPr>
          <a:xfrm>
            <a:off x="179280" y="2924280"/>
            <a:ext cx="360360" cy="360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33"/>
          <p:cNvSpPr/>
          <p:nvPr/>
        </p:nvSpPr>
        <p:spPr>
          <a:xfrm>
            <a:off x="4140360" y="2924280"/>
            <a:ext cx="360360" cy="360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34"/>
          <p:cNvSpPr/>
          <p:nvPr/>
        </p:nvSpPr>
        <p:spPr>
          <a:xfrm>
            <a:off x="971640" y="1700280"/>
            <a:ext cx="360360" cy="360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35"/>
          <p:cNvSpPr/>
          <p:nvPr/>
        </p:nvSpPr>
        <p:spPr>
          <a:xfrm>
            <a:off x="4140360" y="189000"/>
            <a:ext cx="360360" cy="360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37"/>
          <p:cNvSpPr/>
          <p:nvPr/>
        </p:nvSpPr>
        <p:spPr>
          <a:xfrm>
            <a:off x="8532720" y="2997360"/>
            <a:ext cx="360360" cy="36036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9"/>
          <p:cNvSpPr/>
          <p:nvPr/>
        </p:nvSpPr>
        <p:spPr>
          <a:xfrm>
            <a:off x="6012000" y="6381720"/>
            <a:ext cx="288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сайта: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iki.rdf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22222E-006 -3.00486E-006 L -0.90955 -0.00509 E">
                                      <p:cBhvr>
                                        <p:cTn id="163" dur="5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8000"/>
                            </p:stCondLst>
                            <p:childTnLst>
                              <p:par>
                                <p:cTn id="16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0955 -0.00509 L -0.004 -0.00509 E">
                                      <p:cBhvr>
                                        <p:cTn id="166" dur="5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5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77778E-007 3.56465E-006 L 0.01198 0.9077 E">
                                      <p:cBhvr>
                                        <p:cTn id="176" dur="5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98 0.9077 L -0.00382 -0.00509 E">
                                      <p:cBhvr>
                                        <p:cTn id="179" dur="5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89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8000"/>
                            </p:stCondLst>
                            <p:childTnLst>
                              <p:par>
                                <p:cTn id="191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8281 0.04742 L 0.08281 0.38053 E">
                                      <p:cBhvr>
                                        <p:cTn id="19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500"/>
                            </p:stCondLst>
                            <p:childTnLst>
                              <p:par>
                                <p:cTn id="194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16944 0.08929 L 0.16944 0.4224 E">
                                      <p:cBhvr>
                                        <p:cTn id="195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3000"/>
                            </p:stCondLst>
                            <p:childTnLst>
                              <p:par>
                                <p:cTn id="197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26389 0.12075 L 0.26389 0.45386 E">
                                      <p:cBhvr>
                                        <p:cTn id="19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5500"/>
                            </p:stCondLst>
                            <p:childTnLst>
                              <p:par>
                                <p:cTn id="200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43715 0.23364 L 0.43715 -0.09946 E">
                                      <p:cBhvr>
                                        <p:cTn id="201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8500"/>
                            </p:stCondLst>
                            <p:childTnLst>
                              <p:par>
                                <p:cTn id="203" nodeType="after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53958 0.27551 L 0.53958 -0.07841 E">
                                      <p:cBhvr>
                                        <p:cTn id="204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1000"/>
                            </p:stCondLst>
                            <p:childTnLst>
                              <p:par>
                                <p:cTn id="206" nodeType="after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64184 0.31761 L 0.64184 -0.03654 E">
                                      <p:cBhvr>
                                        <p:cTn id="207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3500"/>
                            </p:stCondLst>
                            <p:childTnLst>
                              <p:par>
                                <p:cTn id="209" nodeType="after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74427 0.34907 L 0.74427 -0.00509 E">
                                      <p:cBhvr>
                                        <p:cTn id="21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6000"/>
                            </p:stCondLst>
                            <p:childTnLst>
                              <p:par>
                                <p:cTn id="2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6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7000"/>
                            </p:stCondLst>
                            <p:childTnLst>
                              <p:par>
                                <p:cTn id="219" nodeType="after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9.62295E-007 C 0.00486 -0.02475 -0.00712 -0.03979 -0.02656 -0.06061 C -0.04601 -0.08119 -0.07153 -0.11312 -0.11684 -0.12399 C -0.16215 -0.13509 -0.25122 -0.13902 -0.29878 -0.12746 C -0.34635 -0.11566 -0.38698 -0.08305 -0.40243 -0.0539 C -0.41788 -0.02475 -0.40677 0.01943 -0.39149 0.04719 C -0.37622 0.07495 -0.34688 0.09877 -0.31094 0.11265 C -0.27465 0.12653 -0.21719 0.13463 -0.17483 0.13046 C -0.13229 0.12653 -0.08455 0.1108 -0.05538 0.08813 C -0.02622 0.06546 -0.00486 0.02452 2.77778E-007 9.62295E-007 Z">
                                      <p:cBhvr>
                                        <p:cTn id="220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3000"/>
                            </p:stCondLst>
                            <p:childTnLst>
                              <p:par>
                                <p:cTn id="222" nodeType="after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16667E-006 -2.24613E-006 C 0.00746 -0.03146 0.0151 -0.06269 0.04687 -0.08512 C 0.07864 -0.10756 0.14132 -0.13185 0.19027 -0.13486 C 0.23923 -0.13786 0.30451 -0.1226 0.34097 -0.1027 C 0.37743 -0.08281 0.40191 -0.0414 0.40954 -0.0155 C 0.41718 0.01041 0.39618 0.03609 0.38663 0.05344 C 0.37708 0.07079 0.37031 0.07726 0.35173 0.08837 C 0.33316 0.09947 0.30625 0.11427 0.27465 0.12075 C 0.24305 0.12723 0.19948 0.13255 0.1625 0.12677 C 0.12552 0.12098 0.07777 0.10016 0.05295 0.08559 C 0.02812 0.07102 0.02135 0.05506 0.01319 0.0391 C 0.00503 0.02313 0.00555 0.00046 0.00347 -0.00971 E">
                                      <p:cBhvr>
                                        <p:cTn id="223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0"/>
                            </p:stCondLst>
                            <p:childTnLst>
                              <p:par>
                                <p:cTn id="2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1000"/>
                            </p:stCondLst>
                            <p:childTnLst>
                              <p:par>
                                <p:cTn id="232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88889E-006 -0.00023 C 0.00816 -0.02614 0.02847 -0.11589 0.04878 -0.16215 C 0.06909 -0.20842 0.08906 -0.26463 0.12204 -0.27619 C 0.15503 -0.28776 0.20208 -0.22114 0.24635 -0.23109 C 0.29045 -0.2415 0.35208 -0.3176 0.38732 -0.33865 C 0.42257 -0.3597 0.43611 -0.35924 0.45833 -0.35762 C 0.48055 -0.356 0.49236 -0.34883 0.521 -0.32917 C 0.54965 -0.30951 0.59878 -0.24821 0.63073 -0.23918 C 0.66232 -0.23016 0.68402 -0.26833 0.71024 -0.27458 C 0.73645 -0.28082 0.76319 -0.29401 0.78854 -0.27619 C 0.81389 -0.25838 0.84618 -0.19477 0.86198 -0.16817 C 0.87777 -0.14157 0.88003 -0.1256 0.88368 -0.11589 C 0.88732 -0.10617 0.87986 -0.13278 0.88368 -0.11034 C 0.8875 -0.0879 0.90243 -0.000230000000000001 0.90694 0.01943 C 0.91145 0.0391 0.91041 0.01041 0.91128 0.0081 E">
                                      <p:cBhvr>
                                        <p:cTn id="233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7000"/>
                            </p:stCondLst>
                            <p:childTnLst>
                              <p:par>
                                <p:cTn id="235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90954 0.00555 C 0.90052 -0.05598 0.89166 -0.11728 0.87222 -0.1647 C 0.85277 -0.21212 0.82118 -0.26 0.7927 -0.27874 C 0.76423 -0.29748 0.72777 -0.28383 0.70173 -0.27735 C 0.67569 -0.27087 0.66232 -0.23595 0.63611 -0.24011 C 0.60989 -0.24427 0.57448 -0.28244 0.54444 -0.3028 C 0.51441 -0.32315 0.49027 -0.36178 0.4552 -0.36225 C 0.42014 -0.36271 0.35329 -0.31459 0.3342 -0.30604 C 0.3151 -0.29748 0.34409 -0.31459 0.34027 -0.31089 C 0.33645 -0.30719 0.32413 -0.29493 0.31128 -0.2836 C 0.29843 -0.27226 0.27882 -0.25121 0.26354 -0.24335 C 0.24826 -0.23548 0.23645 -0.23363 0.21979 -0.2371 C 0.20312 -0.24057 0.17899 -0.257 0.16389 -0.26417 C 0.14878 -0.27134 0.14704 -0.29285 0.12864 -0.28036 C 0.11024 -0.26787 0.07569 -0.23618 0.05347 -0.18899 C 0.03125 -0.1418 0.00764 -0.0377 -0.00434 0.00208 E">
                                      <p:cBhvr>
                                        <p:cTn id="236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0T03:36:45Z</dcterms:created>
  <dc:creator>Я</dc:creator>
  <dc:description/>
  <dc:language>en-US</dc:language>
  <cp:lastModifiedBy>User</cp:lastModifiedBy>
  <dcterms:modified xsi:type="dcterms:W3CDTF">2019-10-09T15:25:41Z</dcterms:modified>
  <cp:revision>29</cp:revision>
  <dc:subject/>
  <dc:title>Слайд 1</dc:title>
</cp:coreProperties>
</file>