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FBA-E884-48B1-BB04-50FBD348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981-D098-4C93-AB59-63DA1976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A17-25E1-446C-8336-2BC25517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098-5F67-47EE-926F-AB8825BE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D5C-2E7F-43C8-9ED7-DD2CF026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848-7F69-47DA-951A-E5D21925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FAC-9A2B-418C-A0A0-8BC3B244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80B-98CC-4389-A061-31E800A2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7D8-92AE-4676-9AC4-2C2ED761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C50-3FF3-44D0-8E8D-079E141F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9BB-EFBD-4953-A9C2-A2FC00A4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539-37AB-4EB5-9061-17F1BE35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d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8786-72DB-46E2-AC5C-31CFAA23B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582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гры – «профессии»</a:t>
            </a:r>
            <a:br>
              <a:rPr sz="48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мл груп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04000" y="5589720"/>
            <a:ext cx="14320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едставила воспитател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О В Казако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D:\Новая папка (4) к аттестации\профессии\повар.jpg"/>
          <p:cNvPicPr/>
          <p:nvPr/>
        </p:nvPicPr>
        <p:blipFill>
          <a:blip r:embed="rId1"/>
          <a:stretch/>
        </p:blipFill>
        <p:spPr>
          <a:xfrm>
            <a:off x="3152880" y="3645000"/>
            <a:ext cx="293184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5" name="Picture 4" descr="D:\Новая папка (4) к аттестации\профессии\лук 015.jpg"/>
          <p:cNvPicPr/>
          <p:nvPr/>
        </p:nvPicPr>
        <p:blipFill>
          <a:blip r:embed="rId1"/>
          <a:stretch/>
        </p:blipFill>
        <p:spPr>
          <a:xfrm>
            <a:off x="0" y="44280"/>
            <a:ext cx="4143240" cy="3108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D:\Новая папка (4) к аттестации\профессии\лук 014.jpg"/>
          <p:cNvPicPr/>
          <p:nvPr/>
        </p:nvPicPr>
        <p:blipFill>
          <a:blip r:embed="rId2"/>
          <a:stretch/>
        </p:blipFill>
        <p:spPr>
          <a:xfrm>
            <a:off x="5003640" y="115920"/>
            <a:ext cx="4046760" cy="30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D:\Новая папка (4) к аттестации\профессии\лук 017.jpg"/>
          <p:cNvPicPr/>
          <p:nvPr/>
        </p:nvPicPr>
        <p:blipFill>
          <a:blip r:embed="rId3"/>
          <a:stretch/>
        </p:blipFill>
        <p:spPr>
          <a:xfrm>
            <a:off x="5200560" y="3854520"/>
            <a:ext cx="3840120" cy="288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D:\Новая папка (4) к аттестации\профессии\лук 018.jpg"/>
          <p:cNvPicPr/>
          <p:nvPr/>
        </p:nvPicPr>
        <p:blipFill>
          <a:blip r:embed="rId4"/>
          <a:stretch/>
        </p:blipFill>
        <p:spPr>
          <a:xfrm>
            <a:off x="314280" y="3879720"/>
            <a:ext cx="3828960" cy="2872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242280" y="3068640"/>
            <a:ext cx="86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сех излечит исцелит добрый доктор Айбол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1" name="Picture 2" descr="D:\Новая папка (4) к аттестации\профессии\лук 023.jpg"/>
          <p:cNvPicPr/>
          <p:nvPr/>
        </p:nvPicPr>
        <p:blipFill>
          <a:blip r:embed="rId1"/>
          <a:stretch/>
        </p:blipFill>
        <p:spPr>
          <a:xfrm>
            <a:off x="4716360" y="260280"/>
            <a:ext cx="4023000" cy="301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D:\Новая папка (4) к аттестации\профессии\лук 021.jpg"/>
          <p:cNvPicPr/>
          <p:nvPr/>
        </p:nvPicPr>
        <p:blipFill>
          <a:blip r:embed="rId2"/>
          <a:stretch/>
        </p:blipFill>
        <p:spPr>
          <a:xfrm>
            <a:off x="179280" y="26028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D:\Новая папка (4) к аттестации\профессии\лук 022.jpg"/>
          <p:cNvPicPr/>
          <p:nvPr/>
        </p:nvPicPr>
        <p:blipFill>
          <a:blip r:embed="rId3"/>
          <a:stretch/>
        </p:blipFill>
        <p:spPr>
          <a:xfrm>
            <a:off x="206280" y="3429000"/>
            <a:ext cx="4262400" cy="3197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:\Новая папка (4) к аттестации\профессии\лук 025.jpg"/>
          <p:cNvPicPr/>
          <p:nvPr/>
        </p:nvPicPr>
        <p:blipFill>
          <a:blip r:embed="rId4"/>
          <a:stretch/>
        </p:blipFill>
        <p:spPr>
          <a:xfrm>
            <a:off x="4549680" y="3429000"/>
            <a:ext cx="41896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6" name="Picture 2" descr="D:\Новая папка (4) к аттестации\профессии\профессии 014.jpg"/>
          <p:cNvPicPr/>
          <p:nvPr/>
        </p:nvPicPr>
        <p:blipFill>
          <a:blip r:embed="rId1"/>
          <a:stretch/>
        </p:blipFill>
        <p:spPr>
          <a:xfrm>
            <a:off x="15840" y="189000"/>
            <a:ext cx="4172040" cy="3128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D:\Новая папка (4) к аттестации\профессии\профессии 008.jpg"/>
          <p:cNvPicPr/>
          <p:nvPr/>
        </p:nvPicPr>
        <p:blipFill>
          <a:blip r:embed="rId2"/>
          <a:stretch/>
        </p:blipFill>
        <p:spPr>
          <a:xfrm>
            <a:off x="4572000" y="189000"/>
            <a:ext cx="4314960" cy="3236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D:\Новая папка (4) к аттестации\профессии\профессии 009.jpg"/>
          <p:cNvPicPr/>
          <p:nvPr/>
        </p:nvPicPr>
        <p:blipFill>
          <a:blip r:embed="rId3"/>
          <a:stretch/>
        </p:blipFill>
        <p:spPr>
          <a:xfrm>
            <a:off x="108000" y="3645000"/>
            <a:ext cx="3949560" cy="2962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4228560" y="4365720"/>
            <a:ext cx="434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у а чтоб не простудитьс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адо вкусно подкреп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D:\Новая папка (4) к аттестации\профессии\лук 006.jpg"/>
          <p:cNvPicPr/>
          <p:nvPr/>
        </p:nvPicPr>
        <p:blipFill>
          <a:blip r:embed="rId1"/>
          <a:stretch/>
        </p:blipFill>
        <p:spPr>
          <a:xfrm>
            <a:off x="108000" y="327024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D:\Новая папка (4) к аттестации\профессии\лук 010.jpg"/>
          <p:cNvPicPr/>
          <p:nvPr/>
        </p:nvPicPr>
        <p:blipFill>
          <a:blip r:embed="rId2"/>
          <a:stretch/>
        </p:blipFill>
        <p:spPr>
          <a:xfrm>
            <a:off x="4229280" y="115920"/>
            <a:ext cx="4895640" cy="36734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621360" y="836640"/>
            <a:ext cx="253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Arial"/>
              </a:rPr>
              <a:t>Витаминк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Arial"/>
              </a:rPr>
              <a:t>с гря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882040" y="4653000"/>
            <a:ext cx="222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доровье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318960" y="428760"/>
            <a:ext cx="7993080" cy="3080160"/>
          </a:xfrm>
          <a:prstGeom prst="rect">
            <a:avLst/>
          </a:prstGeom>
          <a:solidFill>
            <a:srgbClr val="dff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соответствии с требованиями ФГОС я предоставляю детям возможность выбрать себе в предметном пространстве разнообразные атрибуты, создаю условия для возникнов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гровых сюжетов на различные социально-коммуникативные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D:\Новая папка (4) к аттестации\профессии\рис. детки.jpg"/>
          <p:cNvPicPr/>
          <p:nvPr/>
        </p:nvPicPr>
        <p:blipFill>
          <a:blip r:embed="rId1"/>
          <a:stretch/>
        </p:blipFill>
        <p:spPr>
          <a:xfrm>
            <a:off x="2411280" y="3681360"/>
            <a:ext cx="33894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21:26Z</dcterms:created>
  <dc:creator>ppsworld.ru</dc:creator>
  <dc:description/>
  <dc:language>en-US</dc:language>
  <cp:lastModifiedBy>Оксана Владимировна</cp:lastModifiedBy>
  <dcterms:modified xsi:type="dcterms:W3CDTF">2019-10-10T13:03:33Z</dcterms:modified>
  <cp:revision>10</cp:revision>
  <dc:subject/>
  <dc:title>PRESENTATION  NAME</dc:title>
</cp:coreProperties>
</file>