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39.png" ContentType="image/png"/>
  <Override PartName="/ppt/media/image9.png" ContentType="image/png"/>
  <Override PartName="/ppt/media/image2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10.png" ContentType="image/png"/>
  <Override PartName="/ppt/media/image29.jpeg" ContentType="image/jpeg"/>
  <Override PartName="/ppt/media/image51.jpeg" ContentType="image/jpeg"/>
  <Override PartName="/ppt/media/image23.png" ContentType="image/png"/>
  <Override PartName="/ppt/media/image55.jpeg" ContentType="image/jpeg"/>
  <Override PartName="/ppt/media/image50.jpeg" ContentType="image/jpeg"/>
  <Override PartName="/ppt/media/image27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8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4.jpeg" ContentType="image/jpeg"/>
  <Override PartName="/ppt/media/image41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image49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7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Олег" initials="О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25.xml><?xml version="1.0" encoding="utf-8"?>
<p:cmLst xmlns:p="http://schemas.openxmlformats.org/presentationml/2006/main">
  <p:cm authorId="0" dt="2011-04-17T18:14:13.453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5CAF-273F-4BC5-891D-1A1F34CC1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7FBE-FF1E-4238-9E79-4C4AD2F2D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350-2F49-467E-9D71-4230FBE3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337-03E8-48D3-BC15-9F7F4A13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341-B482-4CED-9FC4-2194A6CB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09C-1580-48A1-BD0B-648F828C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1B9-B6A9-46D7-9786-05FD7451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92B-349E-4809-8C5A-1A4A4336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63B-DC67-4608-8B88-4FC3F4F7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72A-F125-4183-A9EA-D4B0C79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F22-F365-4DC4-9EDF-D320BD54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34F-7BD5-4215-AC75-3BB07E8F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344-C0B9-42DE-BD3E-1C56EEDE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029-62C2-4F76-BBA5-3468E2AB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9DFB-FCF6-48D3-B441-1229E25A9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25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0" y="214200"/>
            <a:ext cx="335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C:\Users\Наталья\Desktop\Соседина\соседина\DSC_0148.jpg"/>
          <p:cNvPicPr/>
          <p:nvPr/>
        </p:nvPicPr>
        <p:blipFill>
          <a:blip r:embed="rId1"/>
          <a:stretch/>
        </p:blipFill>
        <p:spPr>
          <a:xfrm>
            <a:off x="785880" y="1500120"/>
            <a:ext cx="8001000" cy="5072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829800" y="189000"/>
            <a:ext cx="77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общеразвивающего вида детский сад № 31 поселок Мир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МО Кавказский рай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3"/>
          <p:cNvSpPr txBox="1"/>
          <p:nvPr/>
        </p:nvSpPr>
        <p:spPr>
          <a:xfrm>
            <a:off x="684360" y="189000"/>
            <a:ext cx="79214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Impact"/>
              </a:rPr>
              <a:t>Мы играем и занимаем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Impact"/>
              <a:ea typeface="Impact"/>
            </a:endParaRPr>
          </a:p>
        </p:txBody>
      </p:sp>
      <p:pic>
        <p:nvPicPr>
          <p:cNvPr id="82" name="Наташа Королёва - Маленкая Страна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Наташа Королёва - Маленкая Стран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Наташа Королёва - Маленкая Страна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C:\Users\Наталья\Desktop\Соседина\IMAG2525.jpg"/>
          <p:cNvPicPr/>
          <p:nvPr/>
        </p:nvPicPr>
        <p:blipFill>
          <a:blip r:embed="rId4"/>
          <a:stretch/>
        </p:blipFill>
        <p:spPr>
          <a:xfrm>
            <a:off x="214200" y="2428920"/>
            <a:ext cx="2428920" cy="40003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C:\Users\Наталья\Desktop\Соседина\IMAG2541.jpg"/>
          <p:cNvPicPr/>
          <p:nvPr/>
        </p:nvPicPr>
        <p:blipFill>
          <a:blip r:embed="rId5"/>
          <a:stretch/>
        </p:blipFill>
        <p:spPr>
          <a:xfrm>
            <a:off x="5896080" y="3143160"/>
            <a:ext cx="324792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C:\Users\Наталья\Desktop\Соседина\IMAG2500.jpg"/>
          <p:cNvPicPr/>
          <p:nvPr/>
        </p:nvPicPr>
        <p:blipFill>
          <a:blip r:embed="rId6"/>
          <a:stretch/>
        </p:blipFill>
        <p:spPr>
          <a:xfrm>
            <a:off x="2786040" y="1285920"/>
            <a:ext cx="3195720" cy="3571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7" descr="C:\Users\Наталья\Desktop\Соседина\IMAG2462.jpg"/>
          <p:cNvPicPr/>
          <p:nvPr/>
        </p:nvPicPr>
        <p:blipFill>
          <a:blip r:embed="rId1"/>
          <a:stretch/>
        </p:blipFill>
        <p:spPr>
          <a:xfrm>
            <a:off x="1285920" y="285840"/>
            <a:ext cx="4214880" cy="2928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C:\Users\Наталья\Desktop\Соседина\IMAG25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4290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900000" y="0"/>
            <a:ext cx="7272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ы с мозаико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Рисунок 7" descr="C:\Users\Наталья\Desktop\Соседина\IMAG2533.jpg"/>
          <p:cNvPicPr/>
          <p:nvPr/>
        </p:nvPicPr>
        <p:blipFill>
          <a:blip r:embed="rId1"/>
          <a:stretch/>
        </p:blipFill>
        <p:spPr>
          <a:xfrm>
            <a:off x="0" y="178596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C:\Users\Наталья\Desktop\Соседина\IMAG2481.jpg"/>
          <p:cNvPicPr/>
          <p:nvPr/>
        </p:nvPicPr>
        <p:blipFill>
          <a:blip r:embed="rId2"/>
          <a:stretch/>
        </p:blipFill>
        <p:spPr>
          <a:xfrm>
            <a:off x="3571920" y="4500720"/>
            <a:ext cx="4929120" cy="23572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C:\Users\Наталья\Desktop\Соседина\IMAG2491.jpg"/>
          <p:cNvPicPr/>
          <p:nvPr/>
        </p:nvPicPr>
        <p:blipFill>
          <a:blip r:embed="rId3"/>
          <a:stretch/>
        </p:blipFill>
        <p:spPr>
          <a:xfrm>
            <a:off x="6000840" y="1214280"/>
            <a:ext cx="3143160" cy="3378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C:\Users\Наталья\Desktop\Соседина\IMAG2588.jpg"/>
          <p:cNvPicPr/>
          <p:nvPr/>
        </p:nvPicPr>
        <p:blipFill>
          <a:blip r:embed="rId4"/>
          <a:stretch/>
        </p:blipFill>
        <p:spPr>
          <a:xfrm>
            <a:off x="3357720" y="1428840"/>
            <a:ext cx="24285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84360" y="404640"/>
            <a:ext cx="75596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метрические форм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ff00ff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Рисунок 7" descr="C:\Users\Наталья\Desktop\Соседина\IMAG2521.jpg"/>
          <p:cNvPicPr/>
          <p:nvPr/>
        </p:nvPicPr>
        <p:blipFill>
          <a:blip r:embed="rId1"/>
          <a:stretch/>
        </p:blipFill>
        <p:spPr>
          <a:xfrm>
            <a:off x="642960" y="142884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187280" y="333360"/>
            <a:ext cx="691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ы с пазлам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Рисунок 6" descr="C:\Users\Наталья\Desktop\гномы\IMAG2820.jpg"/>
          <p:cNvPicPr/>
          <p:nvPr/>
        </p:nvPicPr>
        <p:blipFill>
          <a:blip r:embed="rId1"/>
          <a:stretch/>
        </p:blipFill>
        <p:spPr>
          <a:xfrm>
            <a:off x="714240" y="1428840"/>
            <a:ext cx="2905200" cy="5151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C:\Users\Наталья\Desktop\Соседина\IMAG2468.jpg"/>
          <p:cNvPicPr/>
          <p:nvPr/>
        </p:nvPicPr>
        <p:blipFill>
          <a:blip r:embed="rId2"/>
          <a:stretch/>
        </p:blipFill>
        <p:spPr>
          <a:xfrm>
            <a:off x="4929120" y="1500120"/>
            <a:ext cx="3286080" cy="507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539640" y="333360"/>
            <a:ext cx="79423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лкая мотор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Рисунок 17" descr="C:\Users\Наталья\Desktop\Соседина\соседина\IMAG1809.jpg"/>
          <p:cNvPicPr/>
          <p:nvPr/>
        </p:nvPicPr>
        <p:blipFill>
          <a:blip r:embed="rId1"/>
          <a:stretch/>
        </p:blipFill>
        <p:spPr>
          <a:xfrm>
            <a:off x="4500720" y="1714680"/>
            <a:ext cx="4410000" cy="4937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C:\Users\Наталья\Desktop\гномы\IMAG2795.jpg"/>
          <p:cNvPicPr/>
          <p:nvPr/>
        </p:nvPicPr>
        <p:blipFill>
          <a:blip r:embed="rId2"/>
          <a:stretch/>
        </p:blipFill>
        <p:spPr>
          <a:xfrm>
            <a:off x="214200" y="4071960"/>
            <a:ext cx="4214880" cy="25779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C:\Users\Наталья\Desktop\гномы\IMAG2810.jpg"/>
          <p:cNvPicPr/>
          <p:nvPr/>
        </p:nvPicPr>
        <p:blipFill>
          <a:blip r:embed="rId3"/>
          <a:stretch/>
        </p:blipFill>
        <p:spPr>
          <a:xfrm>
            <a:off x="1071720" y="1214280"/>
            <a:ext cx="2286000" cy="30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71640" y="26028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Рисунок 11" descr="C:\Users\Наталья\Desktop\гномы\IMAG2784.jpg"/>
          <p:cNvPicPr/>
          <p:nvPr/>
        </p:nvPicPr>
        <p:blipFill>
          <a:blip r:embed="rId3"/>
          <a:stretch/>
        </p:blipFill>
        <p:spPr>
          <a:xfrm>
            <a:off x="285840" y="214200"/>
            <a:ext cx="4286160" cy="49294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C:\Users\Наталья\Desktop\Соседина\IMAG2584.jpg"/>
          <p:cNvPicPr/>
          <p:nvPr/>
        </p:nvPicPr>
        <p:blipFill>
          <a:blip r:embed="rId4"/>
          <a:stretch/>
        </p:blipFill>
        <p:spPr>
          <a:xfrm>
            <a:off x="4643280" y="1571760"/>
            <a:ext cx="400068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971640" y="189000"/>
            <a:ext cx="71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 и Leg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Рисунок 8" descr="C:\Users\Наталья\Desktop\гномы\IMAG2840.jpg"/>
          <p:cNvPicPr/>
          <p:nvPr/>
        </p:nvPicPr>
        <p:blipFill>
          <a:blip r:embed="rId1"/>
          <a:stretch/>
        </p:blipFill>
        <p:spPr>
          <a:xfrm>
            <a:off x="2500200" y="2786040"/>
            <a:ext cx="4030920" cy="4071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357960" y="928800"/>
            <a:ext cx="2786040" cy="4286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3"/>
          <a:stretch/>
        </p:blipFill>
        <p:spPr>
          <a:xfrm>
            <a:off x="0" y="1143000"/>
            <a:ext cx="30322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500040" y="-214200"/>
            <a:ext cx="81374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ы в кукольном уголк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ff0066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0" y="1071720"/>
            <a:ext cx="4637160" cy="3786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4643280" y="928800"/>
            <a:ext cx="4500720" cy="40719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C:\Users\Наталья\Desktop\гномы\IMAG2766.jpg"/>
          <p:cNvPicPr/>
          <p:nvPr/>
        </p:nvPicPr>
        <p:blipFill>
          <a:blip r:embed="rId3"/>
          <a:stretch/>
        </p:blipFill>
        <p:spPr>
          <a:xfrm>
            <a:off x="3714840" y="4071960"/>
            <a:ext cx="41432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extBox 5" descr=""/>
          <p:cNvPicPr/>
          <p:nvPr/>
        </p:nvPicPr>
        <p:blipFill>
          <a:blip r:embed="rId1"/>
          <a:stretch/>
        </p:blipFill>
        <p:spPr>
          <a:xfrm>
            <a:off x="426960" y="2193840"/>
            <a:ext cx="8620200" cy="2408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логический домик"/>
          <p:cNvPicPr/>
          <p:nvPr/>
        </p:nvPicPr>
        <p:blipFill>
          <a:blip r:embed="rId2"/>
          <a:stretch/>
        </p:blipFill>
        <p:spPr>
          <a:xfrm>
            <a:off x="857160" y="357120"/>
            <a:ext cx="2457720" cy="1922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гусеница"/>
          <p:cNvPicPr/>
          <p:nvPr/>
        </p:nvPicPr>
        <p:blipFill>
          <a:blip r:embed="rId3"/>
          <a:stretch/>
        </p:blipFill>
        <p:spPr>
          <a:xfrm>
            <a:off x="4714920" y="4071960"/>
            <a:ext cx="20034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30200" y="214200"/>
            <a:ext cx="31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й сад, детский сад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так говор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, что дружно в 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одной семьей раст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C:\Users\Наталья\Desktop\IMAG2346.jpg"/>
          <p:cNvPicPr/>
          <p:nvPr/>
        </p:nvPicPr>
        <p:blipFill>
          <a:blip r:embed="rId1"/>
          <a:stretch/>
        </p:blipFill>
        <p:spPr>
          <a:xfrm>
            <a:off x="0" y="1643040"/>
            <a:ext cx="500076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C:\Users\Наталья\Desktop\гномы\IMAG2743.jpg"/>
          <p:cNvPicPr/>
          <p:nvPr/>
        </p:nvPicPr>
        <p:blipFill>
          <a:blip r:embed="rId2"/>
          <a:stretch/>
        </p:blipFill>
        <p:spPr>
          <a:xfrm>
            <a:off x="5000760" y="285840"/>
            <a:ext cx="3929040" cy="2928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C:\Users\Наталья\Desktop\гномы\IMAG2748.jpg"/>
          <p:cNvPicPr/>
          <p:nvPr/>
        </p:nvPicPr>
        <p:blipFill>
          <a:blip r:embed="rId3"/>
          <a:stretch/>
        </p:blipFill>
        <p:spPr>
          <a:xfrm>
            <a:off x="5000760" y="3429000"/>
            <a:ext cx="3951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5" descr="C:\Users\Наталья\Desktop\Соседина\IMAG2552.jpg"/>
          <p:cNvPicPr/>
          <p:nvPr/>
        </p:nvPicPr>
        <p:blipFill>
          <a:blip r:embed="rId1"/>
          <a:stretch/>
        </p:blipFill>
        <p:spPr>
          <a:xfrm>
            <a:off x="214200" y="1071720"/>
            <a:ext cx="4714920" cy="38574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C:\Users\Наталья\Desktop\Соседина\IMAG2560.jpg"/>
          <p:cNvPicPr/>
          <p:nvPr/>
        </p:nvPicPr>
        <p:blipFill>
          <a:blip r:embed="rId2"/>
          <a:stretch/>
        </p:blipFill>
        <p:spPr>
          <a:xfrm>
            <a:off x="4929120" y="1500120"/>
            <a:ext cx="4000680" cy="51818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109520" y="0"/>
            <a:ext cx="715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Arial"/>
              </a:rPr>
              <a:t>Наше настро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C:\Users\Наталья\Desktop\Соседина\IMAG2639.jpg"/>
          <p:cNvPicPr/>
          <p:nvPr/>
        </p:nvPicPr>
        <p:blipFill>
          <a:blip r:embed="rId1"/>
          <a:stretch/>
        </p:blipFill>
        <p:spPr>
          <a:xfrm>
            <a:off x="285840" y="3286080"/>
            <a:ext cx="4714920" cy="33688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C:\Users\Наталья\Desktop\Соседина\IMAG2638.jpg"/>
          <p:cNvPicPr/>
          <p:nvPr/>
        </p:nvPicPr>
        <p:blipFill>
          <a:blip r:embed="rId2"/>
          <a:stretch/>
        </p:blipFill>
        <p:spPr>
          <a:xfrm>
            <a:off x="5072040" y="1357200"/>
            <a:ext cx="3786120" cy="450072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3" descr=""/>
          <p:cNvPicPr/>
          <p:nvPr/>
        </p:nvPicPr>
        <p:blipFill>
          <a:blip r:embed="rId3"/>
          <a:stretch/>
        </p:blipFill>
        <p:spPr>
          <a:xfrm>
            <a:off x="853920" y="42840"/>
            <a:ext cx="74361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C:\Users\Наталья\Desktop\Соседина\IMAG2653.jpg"/>
          <p:cNvPicPr/>
          <p:nvPr/>
        </p:nvPicPr>
        <p:blipFill>
          <a:blip r:embed="rId1"/>
          <a:stretch/>
        </p:blipFill>
        <p:spPr>
          <a:xfrm>
            <a:off x="0" y="142884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C:\Users\Наталья\Desktop\Соседина\IMAG2651.jpg"/>
          <p:cNvPicPr/>
          <p:nvPr/>
        </p:nvPicPr>
        <p:blipFill>
          <a:blip r:embed="rId2"/>
          <a:stretch/>
        </p:blipFill>
        <p:spPr>
          <a:xfrm>
            <a:off x="5143680" y="1143000"/>
            <a:ext cx="4000320" cy="3500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C:\Users\Наталья\Desktop\Соседина\IMAG2658.jpg"/>
          <p:cNvPicPr/>
          <p:nvPr/>
        </p:nvPicPr>
        <p:blipFill>
          <a:blip r:embed="rId3"/>
          <a:stretch/>
        </p:blipFill>
        <p:spPr>
          <a:xfrm>
            <a:off x="3786120" y="428616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1126800" y="285840"/>
            <a:ext cx="72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РАДУЖНАЯ </a:t>
            </a:r>
            <a:r>
              <a:rPr b="1" lang="ru-RU" sz="5400" spc="-1" strike="noStrike">
                <a:solidFill>
                  <a:srgbClr val="a3a3e0"/>
                </a:solidFill>
                <a:latin typeface="Arial"/>
              </a:rPr>
              <a:t>СТР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C:\Users\Наталья\Desktop\Соседина\IMAG2630.jpg"/>
          <p:cNvPicPr/>
          <p:nvPr/>
        </p:nvPicPr>
        <p:blipFill>
          <a:blip r:embed="rId1"/>
          <a:stretch/>
        </p:blipFill>
        <p:spPr>
          <a:xfrm>
            <a:off x="4429080" y="2714760"/>
            <a:ext cx="4714920" cy="35319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C:\Users\Наталья\Desktop\Соседина\IMAG2627.jpg"/>
          <p:cNvPicPr/>
          <p:nvPr/>
        </p:nvPicPr>
        <p:blipFill>
          <a:blip r:embed="rId2"/>
          <a:stretch/>
        </p:blipFill>
        <p:spPr>
          <a:xfrm>
            <a:off x="357120" y="2000160"/>
            <a:ext cx="3929040" cy="42148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 flipH="1">
            <a:off x="0" y="428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"/>
              </a:rPr>
              <a:t>РАЗНОЦВЕТНЫЙ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ОЖД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684360" y="260280"/>
            <a:ext cx="78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Работа с родителя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95280" y="1197000"/>
            <a:ext cx="4105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Bookman Old Style"/>
              </a:rPr>
              <a:t>-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Bookman Old Style"/>
              </a:rPr>
              <a:t>-родительские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Bookman Old Style"/>
              </a:rPr>
              <a:t>-семинары-практику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Bookman Old Style"/>
              </a:rPr>
              <a:t>-тематические вы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Bookman Old Style"/>
              </a:rPr>
              <a:t>-родительские гости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5" descr="C:\Users\Наталья\Desktop\Соседина\соседина\род. собрание\имас.jpg"/>
          <p:cNvPicPr/>
          <p:nvPr/>
        </p:nvPicPr>
        <p:blipFill>
          <a:blip r:embed="rId1"/>
          <a:stretch/>
        </p:blipFill>
        <p:spPr>
          <a:xfrm>
            <a:off x="4286160" y="1428840"/>
            <a:ext cx="4632480" cy="51084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C:\Users\Наталья\Desktop\Соседина\соседина\род. собрание\DSC09424.JPG"/>
          <p:cNvPicPr/>
          <p:nvPr/>
        </p:nvPicPr>
        <p:blipFill>
          <a:blip r:embed="rId2"/>
          <a:stretch/>
        </p:blipFill>
        <p:spPr>
          <a:xfrm>
            <a:off x="0" y="3714840"/>
            <a:ext cx="4214880" cy="28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971640" y="476280"/>
            <a:ext cx="6696000" cy="38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a061"/>
                    </a:gs>
                  </a:gsLst>
                  <a:lin ang="5400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a061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a061"/>
                    </a:gs>
                  </a:gsLst>
                  <a:lin ang="5400000"/>
                </a:gradFill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a06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6" name="Picture 11" descr="логический домик"/>
          <p:cNvPicPr/>
          <p:nvPr/>
        </p:nvPicPr>
        <p:blipFill>
          <a:blip r:embed="rId1"/>
          <a:stretch/>
        </p:blipFill>
        <p:spPr>
          <a:xfrm>
            <a:off x="6012000" y="4365720"/>
            <a:ext cx="2457360" cy="1922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гусеница"/>
          <p:cNvPicPr/>
          <p:nvPr/>
        </p:nvPicPr>
        <p:blipFill>
          <a:blip r:embed="rId2"/>
          <a:stretch/>
        </p:blipFill>
        <p:spPr>
          <a:xfrm>
            <a:off x="2050920" y="4653000"/>
            <a:ext cx="2003400" cy="2003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логический домик"/>
          <p:cNvPicPr/>
          <p:nvPr/>
        </p:nvPicPr>
        <p:blipFill>
          <a:blip r:embed="rId3"/>
          <a:stretch/>
        </p:blipFill>
        <p:spPr>
          <a:xfrm>
            <a:off x="5929200" y="4357800"/>
            <a:ext cx="2457720" cy="19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Наталья\Desktop\IMG_20141222_115122_41.jpg"/>
          <p:cNvPicPr/>
          <p:nvPr/>
        </p:nvPicPr>
        <p:blipFill>
          <a:blip r:embed="rId1"/>
          <a:stretch/>
        </p:blipFill>
        <p:spPr>
          <a:xfrm>
            <a:off x="468360" y="692280"/>
            <a:ext cx="3635280" cy="5195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879360" y="2428920"/>
            <a:ext cx="497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оспитат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осе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ристина Никола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8" descr="фото с паровозиком"/>
          <p:cNvPicPr/>
          <p:nvPr/>
        </p:nvPicPr>
        <p:blipFill>
          <a:blip r:embed="rId1"/>
          <a:stretch/>
        </p:blipFill>
        <p:spPr>
          <a:xfrm>
            <a:off x="2357280" y="2786040"/>
            <a:ext cx="4249800" cy="3187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8" name="WordArt 4"/>
          <p:cNvSpPr txBox="1"/>
          <p:nvPr/>
        </p:nvSpPr>
        <p:spPr>
          <a:xfrm>
            <a:off x="684360" y="549360"/>
            <a:ext cx="7920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Franklin Gothic Heavy"/>
              </a:rPr>
              <a:t>Дидактическая игра как средство обучения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Franklin Gothic Heavy"/>
              <a:ea typeface="Franklin Gothic Heav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Franklin Gothic Heavy"/>
              </a:rPr>
              <a:t>и воспитания детей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Franklin Gothic Heavy"/>
              <a:ea typeface="Franklin Gothic Heav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Franklin Gothic Heavy"/>
              </a:rPr>
              <a:t>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Franklin Gothic Heavy"/>
              <a:ea typeface="Franklin Gothic Heavy"/>
            </a:endParaRPr>
          </a:p>
        </p:txBody>
      </p:sp>
      <p:pic>
        <p:nvPicPr>
          <p:cNvPr id="59" name="Picture 11" descr="логический домик"/>
          <p:cNvPicPr/>
          <p:nvPr/>
        </p:nvPicPr>
        <p:blipFill>
          <a:blip r:embed="rId2"/>
          <a:stretch/>
        </p:blipFill>
        <p:spPr>
          <a:xfrm>
            <a:off x="179280" y="1197000"/>
            <a:ext cx="2457720" cy="1922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гусеница"/>
          <p:cNvPicPr/>
          <p:nvPr/>
        </p:nvPicPr>
        <p:blipFill>
          <a:blip r:embed="rId3"/>
          <a:stretch/>
        </p:blipFill>
        <p:spPr>
          <a:xfrm>
            <a:off x="6804000" y="4379760"/>
            <a:ext cx="20034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8"/>
          <p:cNvSpPr/>
          <p:nvPr/>
        </p:nvSpPr>
        <p:spPr>
          <a:xfrm>
            <a:off x="5076720" y="907920"/>
            <a:ext cx="3816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28760" y="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овый нормативный документ, я ФГОС активно изучаю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Ребенка каждого развить - такую цель определяет 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Поставленную цель считаю актуальной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Развить эмоции, моторику и речь разв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Хочу, чтоб научились дети в жизни детск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Общаться, понимать , дружи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21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1116000" y="404640"/>
            <a:ext cx="684072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Impact"/>
              </a:rPr>
              <a:t>Создание развивающей сре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Impact"/>
              <a:ea typeface="Impact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156360" y="5013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Poor Richard"/>
              </a:rPr>
              <a:t>Дидактический стол для игр с песком и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6227640" y="1928880"/>
            <a:ext cx="2665440" cy="25081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7" name="Рисунок 8" descr="C:\Users\Наталья\Desktop\Соседина\IMAG2603.jpg"/>
          <p:cNvPicPr/>
          <p:nvPr/>
        </p:nvPicPr>
        <p:blipFill>
          <a:blip r:embed="rId2"/>
          <a:stretch/>
        </p:blipFill>
        <p:spPr>
          <a:xfrm>
            <a:off x="214200" y="1643040"/>
            <a:ext cx="221472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3000240" y="1643040"/>
            <a:ext cx="2376720" cy="19731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3000240" y="4286160"/>
            <a:ext cx="2355840" cy="19828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39640" y="260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Poor Richard"/>
              </a:rPr>
              <a:t>Настольно – печатные игры, пазлы</a:t>
            </a:r>
            <a:r>
              <a:rPr b="1" i="1" lang="ru-RU" sz="3200" spc="-1" strike="noStrike">
                <a:solidFill>
                  <a:srgbClr val="0000ff"/>
                </a:solidFill>
                <a:latin typeface="Poor Richard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Poor Richard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Poor Richard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Poor Richard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6" descr="C:\Users\Наталья\Desktop\Соседина\IMAG2609.jpg"/>
          <p:cNvPicPr/>
          <p:nvPr/>
        </p:nvPicPr>
        <p:blipFill>
          <a:blip r:embed="rId1"/>
          <a:stretch/>
        </p:blipFill>
        <p:spPr>
          <a:xfrm>
            <a:off x="285840" y="1071720"/>
            <a:ext cx="4071960" cy="2571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C:\Users\Наталья\Desktop\Соседина\IMAG2611.jpg"/>
          <p:cNvPicPr/>
          <p:nvPr/>
        </p:nvPicPr>
        <p:blipFill>
          <a:blip r:embed="rId2"/>
          <a:stretch/>
        </p:blipFill>
        <p:spPr>
          <a:xfrm>
            <a:off x="4929120" y="1000080"/>
            <a:ext cx="3981600" cy="2928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C:\Users\Наталья\Desktop\Соседина\IMAG2605.jpg"/>
          <p:cNvPicPr/>
          <p:nvPr/>
        </p:nvPicPr>
        <p:blipFill>
          <a:blip r:embed="rId3"/>
          <a:stretch/>
        </p:blipFill>
        <p:spPr>
          <a:xfrm>
            <a:off x="4929120" y="4143240"/>
            <a:ext cx="4064040" cy="2495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9" descr="C:\Users\Наталья\Desktop\Соседина\IMAG2485.jpg"/>
          <p:cNvPicPr/>
          <p:nvPr/>
        </p:nvPicPr>
        <p:blipFill>
          <a:blip r:embed="rId4"/>
          <a:stretch/>
        </p:blipFill>
        <p:spPr>
          <a:xfrm>
            <a:off x="357120" y="3857760"/>
            <a:ext cx="4071960" cy="27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F:\DSC00239.JPG"/>
          <p:cNvPicPr/>
          <p:nvPr/>
        </p:nvPicPr>
        <p:blipFill>
          <a:blip r:embed="rId1"/>
          <a:stretch/>
        </p:blipFill>
        <p:spPr>
          <a:xfrm>
            <a:off x="428760" y="428760"/>
            <a:ext cx="8429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xtBox 1" descr=""/>
          <p:cNvPicPr/>
          <p:nvPr/>
        </p:nvPicPr>
        <p:blipFill>
          <a:blip r:embed="rId1"/>
          <a:stretch/>
        </p:blipFill>
        <p:spPr>
          <a:xfrm>
            <a:off x="1079640" y="158760"/>
            <a:ext cx="6941880" cy="1127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357720" y="3071880"/>
            <a:ext cx="2933640" cy="3786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5662440" y="1285920"/>
            <a:ext cx="3481560" cy="29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0" y="1285920"/>
            <a:ext cx="35002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7:14:35Z</dcterms:created>
  <dc:creator/>
  <dc:description/>
  <dc:language>en-US</dc:language>
  <cp:lastModifiedBy>USER</cp:lastModifiedBy>
  <dcterms:modified xsi:type="dcterms:W3CDTF">2019-10-10T13:55:50Z</dcterms:modified>
  <cp:revision>164</cp:revision>
  <dc:subject/>
  <dc:title>Слайд 1</dc:title>
</cp:coreProperties>
</file>