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5B3-B89E-4D57-AB99-74DFCADE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C19-7F35-419B-A540-9D0D9B34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012-C344-4392-AEB4-FC23FD7F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BC9-2A13-4054-B86B-877BD2F8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4D66-2216-4FB9-826A-FAC52C4A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1ECA-81CF-4AD0-BEB3-A2BE84EC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80FB-53D6-4F5A-8FF6-1BC04FAD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C191-917A-4101-903D-B49E62C1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6992-91F6-4E75-811D-5A6AC7A6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0595-E213-4816-9EFE-F465477F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BBCA-EE3F-4879-B5DE-F56B49D1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DFD-71CC-4CFF-930B-6ACB14BD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C05A-8E43-41C3-9C29-34FE1702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1068-0590-4376-877A-D97621F0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F7C3-24C0-4579-BD15-E9457F31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6EF1-7961-4B24-94E9-70203525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96A3-E905-47DB-BBC0-E8DC2806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DC6E7-5773-44F0-8DC9-6B8A0940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99C2-DC05-49AA-B179-26F5CA0D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66A6B-526F-43B1-A843-FA6112BE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C8D7-7800-4385-B0F5-0D548EA4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E06A-423E-4A8F-BE29-234A9E12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6C1-34BF-4A2E-A0CB-D96039CF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80682-7369-4A35-AB5D-CFFB1A9D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BB30F-0D6F-4429-A03F-0B7271E8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4312-DF61-4D55-8765-9EF1AE52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C836-302A-4437-B625-414D2237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0B2A-31CA-45A5-8CEA-A6C7A0A0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DE0B-6038-42BC-B82C-8F8925A6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872F-94F4-4B58-9CE4-EE9042BF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33282-81D9-40EB-8093-14A6AF15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D05C8-1420-4FB6-830C-0EC2D66D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01BD2-52CE-4B19-A8D7-47180135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D36-800C-4C11-A1AA-4482525E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B383-878F-428C-BEC2-6A87BD0F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6B7AF-6054-4FEA-A09C-72A5C9E8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A3642-44C2-4133-A096-51877181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7C26-F740-42F0-9568-BDF3EE20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37926-5A65-4728-BD76-FF283D94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34428-7782-49C5-8A60-48A9C2EE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F1D0-D10F-4606-A2F1-86344502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AEB54-973E-4599-9E26-1B2D4F7A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A383-78C2-4ED8-89C9-5D070626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74E35-DC57-4724-9638-EADFD16E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9CA-A0B9-4D80-AD73-ED4E9B16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13233-03B2-4F8E-BDCF-8F713B57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40F91-5349-401D-BF4F-89158A1B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475CA-0535-4AC1-9E46-B4BB2A35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0CF10-FC87-4CA4-982A-7BDF3563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A7589-3550-4951-82D1-5B7C4175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53C6-885A-48F8-A167-B7F59A87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1139A-FE7B-4F1B-A09B-9F46D357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335C3-5E49-424F-9E0D-4B0B2326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71D2C-C07E-4035-AE76-F3E5D8A8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348D6-F673-4A9A-8DB8-0F76DDB0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F6F-0A87-4242-A8B8-58D0716C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78419-7C51-4EE6-8E25-198DEADA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40B88-0021-4512-A5AE-249C728F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37E17-BD2F-4C5F-BA7B-E6BDB022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97CB4-46B5-49EA-86B4-739682F9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2D9A7-790C-49CC-9E4D-30A0178F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567EB-D9AC-45EE-A9AB-6314F60C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38E9C-AE04-4588-A031-0FA518FE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0429B-6B9D-4BA1-B6E1-549C7EBB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D8228-A687-433E-80F0-A343A1FB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C0D17-4117-4811-9AE1-0AB9E510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DFA-0BF0-4378-B609-ECB6B12F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CEFA7-64A9-4F51-9689-09600641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A705A-2B3E-44D2-8D0B-A85AF6CF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4BF16-D9CB-47D1-9266-52E45124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2EAB9-E184-45A4-9F34-CE0EEA4E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FC3E7-EFB7-4670-AEDB-E781FBF0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0D0E6-49DD-4F42-A205-3AC56FD9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BD74B-7BD5-406D-A98D-510AECC4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0BB5F-DFEF-418B-8A22-C7BD15FD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2073D-0B9A-450B-BE5A-E3AF533A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1EE1B-117C-4EF9-9942-C6AA8229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9EF-47CE-436B-88A6-14341B94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15DAA-C2C9-4AF4-B0EF-63707B3B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8807A-89D4-410A-AF42-E46B90F2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09E89-994A-4D70-AE63-7CD12F29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1979F-DBE5-4499-8E13-D317B74D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4F1A2-2D13-435B-A235-3D770C8C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144E4-0230-4EAC-83D5-20FDD8BB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0D1DE-47F8-4C6D-8EE7-E55505A6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1F3EC-0632-4C92-AD1B-0F4ABD0A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A0564-07DE-45E4-AA0F-A4DACBD4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9AD33-B335-48B2-AB3E-2E34B98D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CB8-9919-406A-81E9-355E5BE3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D98FC-71E4-4DB2-86D1-0A0A2CCF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5B234-11CD-4B93-BC1A-F792E270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D05B8-EF6B-468A-8159-64373940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73C75-344B-4E80-99F3-776DBD30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A01B-BE63-44C6-987F-937A0349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AF270-FF71-40C6-A6FB-7EAD74FC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15ECF-52E0-487E-96A2-28BA8FAB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BE03-F042-48F0-89CB-491C1204B3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0687-D96B-4FA4-9261-B5CA78AF03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D800-B516-48EF-9EAF-D99B6E712B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E81A-8E68-4C3D-B72F-FFCCD775862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0BD7-88F9-4591-8D29-9001DA25F3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C65A-4348-498A-AAD3-8329BADEEF1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AB48-ED9E-49AE-92A0-8F97FB82C2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1698-1116-4913-A1C8-F897E13F3A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собенности воспитания мальчиков и девочек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786040" y="5981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а воспитатель 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/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г «Незабудк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армалина Оксана Юрьевна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Рисунок 3" descr="новый коллаж.jpg"/>
          <p:cNvPicPr/>
          <p:nvPr/>
        </p:nvPicPr>
        <p:blipFill>
          <a:blip r:embed="rId1"/>
          <a:stretch/>
        </p:blipFill>
        <p:spPr>
          <a:xfrm>
            <a:off x="2643120" y="1928880"/>
            <a:ext cx="37861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orbel"/>
              </a:rPr>
              <a:t>Анатомо-физиологические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orbel"/>
              </a:rPr>
              <a:t>особенности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907560"/>
            <a:ext cx="44956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Девочк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ождаются более зрелыми на 3-4 недели, в период половой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зрелости разница с альчиками два года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Девочки более чувствительны к шуму, у них выше кожная чувствительность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Зона Брока (речевая зона) расположена  в обоих полушариях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Лучше развито периферическое зрение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аньше развиваются области левого полушария мозга, отвечающие за речь.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Более гибкие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48320" y="981000"/>
            <a:ext cx="44956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Мальчик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Начинают ходить на 2-3 месяца позже, на 4-6 месяцев позже говорить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Острота слуха до 8 лет выше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Зона Брока (речевая зона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асположена в одном полушарии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4. Специализация правого полушария в отношении пространственных функций  имеется уже в 6 лет, а у девочек нет и в 13 ле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5.Позже развиваются лобные области мозга, отвечающие за планирование и контроль поведени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6.Мышечная сила больше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c0000"/>
                </a:solidFill>
                <a:latin typeface="Corbel"/>
              </a:rPr>
              <a:t>Умственная деятельнос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24000" y="1197000"/>
            <a:ext cx="41716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doni MT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Bodoni MT"/>
              </a:rPr>
              <a:t>МАЛЬЧИ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Легче справляются с геометрией (пространственноемышление, мысленные манипуляции с геометрическими формами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Лучше выполняют поисковую деятельность, выдвигают новые иде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Ориентируются на точность рабо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 Любят задания на сообразительнос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 Трудно выполнять многоэтапные, однообразные зад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00720" y="1268280"/>
            <a:ext cx="4186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doni MT"/>
              </a:rPr>
              <a:t>        </a:t>
            </a:r>
            <a:r>
              <a:rPr b="1" lang="ru-RU" sz="2800" spc="-1" strike="noStrike">
                <a:solidFill>
                  <a:srgbClr val="ff0066"/>
                </a:solidFill>
                <a:latin typeface="Bodoni MT"/>
              </a:rPr>
              <a:t>ДЕВОЧ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Легче справляются с алгеброй (счёт, манипуляции с числами и т.д.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Лучше выполняют типовые, шаблонные зад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 Ориентируются на быстроту выполнения рабо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 Любят задания на повторе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Превосходят в произвольном вниман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c0000"/>
                </a:solidFill>
                <a:latin typeface="Corbel"/>
              </a:rPr>
              <a:t>Игровая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4300" spc="-1" strike="noStrike">
                <a:solidFill>
                  <a:srgbClr val="cc0000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76" name="Organization Chart 3"/>
          <p:cNvGrpSpPr/>
          <p:nvPr/>
        </p:nvGrpSpPr>
        <p:grpSpPr>
          <a:xfrm>
            <a:off x="457200" y="1600200"/>
            <a:ext cx="4038120" cy="4923000"/>
            <a:chOff x="457200" y="1600200"/>
            <a:chExt cx="4038120" cy="4923000"/>
          </a:xfrm>
        </p:grpSpPr>
        <p:cxnSp>
          <p:nvCxnSpPr>
            <p:cNvPr id="377" name="_s1028"/>
            <p:cNvCxnSpPr>
              <a:stCxn id="378" idx="0"/>
              <a:endCxn id="379" idx="2"/>
            </p:cNvCxnSpPr>
            <p:nvPr/>
          </p:nvCxnSpPr>
          <p:spPr>
            <a:xfrm flipV="1" rot="16200000">
              <a:off x="2526840" y="3517560"/>
              <a:ext cx="985320" cy="1087560"/>
            </a:xfrm>
            <a:prstGeom prst="bentConnector3">
              <a:avLst>
                <a:gd name="adj1" fmla="val 15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0" name="_s1029"/>
            <p:cNvCxnSpPr>
              <a:stCxn id="381" idx="0"/>
              <a:endCxn id="379" idx="2"/>
            </p:cNvCxnSpPr>
            <p:nvPr/>
          </p:nvCxnSpPr>
          <p:spPr>
            <a:xfrm flipH="1" flipV="1" rot="5400000">
              <a:off x="1440000" y="3517560"/>
              <a:ext cx="985320" cy="1087920"/>
            </a:xfrm>
            <a:prstGeom prst="bentConnector3">
              <a:avLst>
                <a:gd name="adj1" fmla="val 15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9" name="_s1030"/>
            <p:cNvSpPr/>
            <p:nvPr/>
          </p:nvSpPr>
          <p:spPr>
            <a:xfrm>
              <a:off x="1544400" y="1600200"/>
              <a:ext cx="1863720" cy="1969200"/>
            </a:xfrm>
            <a:custGeom>
              <a:avLst/>
              <a:gdLst>
                <a:gd name="textAreaLeft" fmla="*/ 90720 w 1863720"/>
                <a:gd name="textAreaRight" fmla="*/ 1773000 w 1863720"/>
                <a:gd name="textAreaTop" fmla="*/ 90720 h 1969200"/>
                <a:gd name="textAreaBottom" fmla="*/ 1878480 h 1969200"/>
              </a:gdLst>
              <a:ahLst/>
              <a:rect l="textAreaLeft" t="textAreaTop" r="textAreaRight" b="textAreaBottom"/>
              <a:pathLst>
                <a:path w="21600" h="22822">
                  <a:moveTo>
                    <a:pt x="3600" y="0"/>
                  </a:moveTo>
                  <a:arcTo wR="3600" hR="3600" stAng="16200000" swAng="-5400000"/>
                  <a:lnTo>
                    <a:pt x="0" y="19222"/>
                  </a:lnTo>
                  <a:arcTo wR="3600" hR="3600" stAng="10800000" swAng="-5400000"/>
                  <a:lnTo>
                    <a:pt x="18000" y="22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мальч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_s1031"/>
            <p:cNvSpPr/>
            <p:nvPr/>
          </p:nvSpPr>
          <p:spPr>
            <a:xfrm>
              <a:off x="457200" y="4554000"/>
              <a:ext cx="1863720" cy="1969200"/>
            </a:xfrm>
            <a:custGeom>
              <a:avLst/>
              <a:gdLst>
                <a:gd name="textAreaLeft" fmla="*/ 90720 w 1863720"/>
                <a:gd name="textAreaRight" fmla="*/ 1773000 w 1863720"/>
                <a:gd name="textAreaTop" fmla="*/ 90720 h 1969200"/>
                <a:gd name="textAreaBottom" fmla="*/ 1878480 h 1969200"/>
              </a:gdLst>
              <a:ahLst/>
              <a:rect l="textAreaLeft" t="textAreaTop" r="textAreaRight" b="textAreaBottom"/>
              <a:pathLst>
                <a:path w="21600" h="22822">
                  <a:moveTo>
                    <a:pt x="3600" y="0"/>
                  </a:moveTo>
                  <a:arcTo wR="3600" hR="3600" stAng="16200000" swAng="-5400000"/>
                  <a:lnTo>
                    <a:pt x="0" y="19222"/>
                  </a:lnTo>
                  <a:arcTo wR="3600" hR="3600" stAng="10800000" swAng="-5400000"/>
                  <a:lnTo>
                    <a:pt x="18000" y="22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Любят разбирать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игрушки, изучать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их строение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1032"/>
            <p:cNvSpPr/>
            <p:nvPr/>
          </p:nvSpPr>
          <p:spPr>
            <a:xfrm>
              <a:off x="2631600" y="4554000"/>
              <a:ext cx="1863720" cy="1969200"/>
            </a:xfrm>
            <a:custGeom>
              <a:avLst/>
              <a:gdLst>
                <a:gd name="textAreaLeft" fmla="*/ 90720 w 1863720"/>
                <a:gd name="textAreaRight" fmla="*/ 1773000 w 1863720"/>
                <a:gd name="textAreaTop" fmla="*/ 90720 h 1969200"/>
                <a:gd name="textAreaBottom" fmla="*/ 1878480 h 1969200"/>
              </a:gdLst>
              <a:ahLst/>
              <a:rect l="textAreaLeft" t="textAreaTop" r="textAreaRight" b="textAreaBottom"/>
              <a:pathLst>
                <a:path w="21600" h="22822">
                  <a:moveTo>
                    <a:pt x="3600" y="0"/>
                  </a:moveTo>
                  <a:arcTo wR="3600" hR="3600" stAng="16200000" swAng="-5400000"/>
                  <a:lnTo>
                    <a:pt x="0" y="19222"/>
                  </a:lnTo>
                  <a:arcTo wR="3600" hR="3600" stAng="10800000" swAng="-5400000"/>
                  <a:lnTo>
                    <a:pt x="18000" y="22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Игры мальчико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опираются н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дальнее зрение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при этом он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используют вс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предоставленно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пм пространство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Organization Chart 11"/>
          <p:cNvGrpSpPr/>
          <p:nvPr/>
        </p:nvGrpSpPr>
        <p:grpSpPr>
          <a:xfrm>
            <a:off x="4616280" y="1568520"/>
            <a:ext cx="4032000" cy="4954680"/>
            <a:chOff x="4616280" y="1568520"/>
            <a:chExt cx="4032000" cy="4954680"/>
          </a:xfrm>
        </p:grpSpPr>
        <p:cxnSp>
          <p:nvCxnSpPr>
            <p:cNvPr id="383" name="_s1035"/>
            <p:cNvCxnSpPr>
              <a:stCxn id="384" idx="0"/>
              <a:endCxn id="385" idx="2"/>
            </p:cNvCxnSpPr>
            <p:nvPr/>
          </p:nvCxnSpPr>
          <p:spPr>
            <a:xfrm flipV="1" rot="16200000">
              <a:off x="6679440" y="3502440"/>
              <a:ext cx="991440" cy="1085760"/>
            </a:xfrm>
            <a:prstGeom prst="bentConnector3">
              <a:avLst>
                <a:gd name="adj1" fmla="val 26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_s1036"/>
            <p:cNvCxnSpPr>
              <a:stCxn id="387" idx="0"/>
              <a:endCxn id="385" idx="2"/>
            </p:cNvCxnSpPr>
            <p:nvPr/>
          </p:nvCxnSpPr>
          <p:spPr>
            <a:xfrm flipH="1" flipV="1" rot="5400000">
              <a:off x="5593680" y="3502440"/>
              <a:ext cx="991440" cy="1086480"/>
            </a:xfrm>
            <a:prstGeom prst="bentConnector3">
              <a:avLst>
                <a:gd name="adj1" fmla="val 26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5" name="_s1037"/>
            <p:cNvSpPr/>
            <p:nvPr/>
          </p:nvSpPr>
          <p:spPr>
            <a:xfrm>
              <a:off x="5702040" y="1568520"/>
              <a:ext cx="1860840" cy="1981800"/>
            </a:xfrm>
            <a:custGeom>
              <a:avLst/>
              <a:gdLst>
                <a:gd name="textAreaLeft" fmla="*/ 90720 w 1860840"/>
                <a:gd name="textAreaRight" fmla="*/ 1770120 w 1860840"/>
                <a:gd name="textAreaTop" fmla="*/ 90720 h 1981800"/>
                <a:gd name="textAreaBottom" fmla="*/ 1891080 h 1981800"/>
              </a:gdLst>
              <a:ahLst/>
              <a:rect l="textAreaLeft" t="textAreaTop" r="textAreaRight" b="textAreaBottom"/>
              <a:pathLst>
                <a:path w="21600" h="23004">
                  <a:moveTo>
                    <a:pt x="3600" y="0"/>
                  </a:moveTo>
                  <a:arcTo wR="3600" hR="3600" stAng="16200000" swAng="-5400000"/>
                  <a:lnTo>
                    <a:pt x="0" y="19404"/>
                  </a:lnTo>
                  <a:arcTo wR="3600" hR="3600" stAng="10800000" swAng="-5400000"/>
                  <a:lnTo>
                    <a:pt x="18000" y="23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дев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1038"/>
            <p:cNvSpPr/>
            <p:nvPr/>
          </p:nvSpPr>
          <p:spPr>
            <a:xfrm>
              <a:off x="4616280" y="4541400"/>
              <a:ext cx="1860840" cy="1981800"/>
            </a:xfrm>
            <a:custGeom>
              <a:avLst/>
              <a:gdLst>
                <a:gd name="textAreaLeft" fmla="*/ 90720 w 1860840"/>
                <a:gd name="textAreaRight" fmla="*/ 1770120 w 1860840"/>
                <a:gd name="textAreaTop" fmla="*/ 90720 h 1981800"/>
                <a:gd name="textAreaBottom" fmla="*/ 1891080 h 1981800"/>
              </a:gdLst>
              <a:ahLst/>
              <a:rect l="textAreaLeft" t="textAreaTop" r="textAreaRight" b="textAreaBottom"/>
              <a:pathLst>
                <a:path w="21600" h="23004">
                  <a:moveTo>
                    <a:pt x="3600" y="0"/>
                  </a:moveTo>
                  <a:arcTo wR="3600" hR="3600" stAng="16200000" swAng="-5400000"/>
                  <a:lnTo>
                    <a:pt x="0" y="19404"/>
                  </a:lnTo>
                  <a:arcTo wR="3600" hR="3600" stAng="10800000" swAng="-5400000"/>
                  <a:lnTo>
                    <a:pt x="18000" y="23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ребуется м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лких игрушек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трибутов к игр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лоскутки, куклы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39"/>
            <p:cNvSpPr/>
            <p:nvPr/>
          </p:nvSpPr>
          <p:spPr>
            <a:xfrm>
              <a:off x="6787440" y="4541400"/>
              <a:ext cx="1860840" cy="1981800"/>
            </a:xfrm>
            <a:custGeom>
              <a:avLst/>
              <a:gdLst>
                <a:gd name="textAreaLeft" fmla="*/ 90720 w 1860840"/>
                <a:gd name="textAreaRight" fmla="*/ 1770120 w 1860840"/>
                <a:gd name="textAreaTop" fmla="*/ 90720 h 1981800"/>
                <a:gd name="textAreaBottom" fmla="*/ 1891080 h 1981800"/>
              </a:gdLst>
              <a:ahLst/>
              <a:rect l="textAreaLeft" t="textAreaTop" r="textAreaRight" b="textAreaBottom"/>
              <a:pathLst>
                <a:path w="21600" h="23004">
                  <a:moveTo>
                    <a:pt x="3600" y="0"/>
                  </a:moveTo>
                  <a:arcTo wR="3600" hR="3600" stAng="16200000" swAng="-5400000"/>
                  <a:lnTo>
                    <a:pt x="0" y="19404"/>
                  </a:lnTo>
                  <a:arcTo wR="3600" hR="3600" stAng="10800000" swAng="-5400000"/>
                  <a:lnTo>
                    <a:pt x="18000" y="23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гры девоч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аще опираютс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 ближнее зрени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м достаточ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больш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странст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685764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вочки                Мальчи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1125000"/>
            <a:ext cx="410040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испытывают потребность в том, чтобы их любили за то, какие они есть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требуется больше помощи и ободр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ля того, чтобы доверять близким и испытывать уверенность в себе, девочкам прежде всего необходима забота, понимание и уваже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5245200" y="1196640"/>
            <a:ext cx="389880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испытывают потребность в том, чтобы окружающих радовали их достижен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требуется больше одобрения и мотивации их деятельнос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ля того, чтобы заботиться о других и испытывать побуждение к деятельности, мальчикам прежде всего необходимо доверие, приятие и одобре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вочки                Мальчи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1268280"/>
            <a:ext cx="4027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Женщина или девочка счастлива, если чувствует, что может получить необходимую ей поддержку. Она приходит в уныние, когда чувствует, что помощи ей ждать неоткуда и придется делать все сам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вочка соревновательна, но на уровне межличностных отношени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ольше ориентируются на отноше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100480" y="1197000"/>
            <a:ext cx="4043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альчик или мужчина счастлив, если чувствует, что в нем нуждаются и он может оказать кому-то необходимую поддержку. Мальчик приходит в уныние, когда чувствует, что никому не нужен или не в силах выполнить поставленную перед ним задач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альчики предпочитают дух соревновательности и справедливой борьб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ольше ориентируются на результат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5:50:46Z</dcterms:created>
  <dc:creator>Loner-XP</dc:creator>
  <dc:description/>
  <dc:language>en-US</dc:language>
  <cp:lastModifiedBy>Анечка</cp:lastModifiedBy>
  <dcterms:modified xsi:type="dcterms:W3CDTF">2018-01-22T12:15:04Z</dcterms:modified>
  <cp:revision>4</cp:revision>
  <dc:subject/>
  <dc:title>Особенности воспитания мальчиков и девоч</dc:title>
</cp:coreProperties>
</file>