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730-7A1D-4D2E-AC5E-31D7BED3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B29-DB98-47F6-8B00-8BBC01E4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282-5084-4744-B8C2-FBBDC25D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E88-EE89-4EB1-B9E0-B440B761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90D-DFE8-4F47-BD6A-3D4EA1C1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2AE-5410-433B-B932-38F0A2CE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150-5492-453C-8A35-9FBD6DF8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D9D-2F1E-41DC-BAB9-D78F19BB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4C4-5E24-462C-A33A-1E3601F4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047-561C-40F3-8E2D-AC35557B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3B1-3266-4E96-A875-BE09E772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A94-179F-452F-9FFC-D830F150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C5C9-7FC8-4B1C-A538-CD7DA016C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лчков Сергей Иль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У СОШ № 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ководитель: Ерофеева Ирин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380880"/>
            <a:ext cx="7924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Муниципальный конкур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кроссвордо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«Путь к слову»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освященный 215-летию со д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рождения В.И. Да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90544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9880" y="590544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905120" y="5905440"/>
            <a:ext cx="190476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715000" y="590544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238880" y="590544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213372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0" y="396252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8191440" y="396252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8191440" y="2057400"/>
            <a:ext cx="9525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горизонт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чка куклы балаганной, русского шута в красном кафт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Детская игрушка, усаженная бубенч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Васильев вечер, детская игра для встречи Нового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 Одно из потешных лиц немой комед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. Народное музыкальное орудие у пастухов, реб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. Палка, веселко, которым бьют мяч, и самая игра 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. Сопелка, д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. Название общественной пляски обычно в 4 п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вертика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гра, где становятся столбцом по двое, а одиночка впереди «горит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Увеселительное сборище в необычных одеждах и личин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Потешные ог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Собранье сельских девок и молодежи на вольном воздухе для пляски с песн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. Бавушка, игрушка, бирюль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. Шапка, поминаемая в сказках, песн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. Игра, в которой один с завязанными глазами ловит друг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2. Воинская конная игра, подражание рыцарским турнир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. Дудка, дудочка, свирель, сопел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7. Род лежачей арфы, фортепиано в 4 октавы, без клавиш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9. Балясничать, балагурить, шутить, забавля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316080"/>
                <a:gridCol w="317160"/>
                <a:gridCol w="316080"/>
                <a:gridCol w="317520"/>
                <a:gridCol w="315720"/>
                <a:gridCol w="316080"/>
                <a:gridCol w="311040"/>
                <a:gridCol w="322560"/>
                <a:gridCol w="315720"/>
                <a:gridCol w="317520"/>
                <a:gridCol w="316080"/>
                <a:gridCol w="317160"/>
                <a:gridCol w="316080"/>
                <a:gridCol w="316080"/>
                <a:gridCol w="317160"/>
                <a:gridCol w="316080"/>
                <a:gridCol w="317520"/>
                <a:gridCol w="315720"/>
                <a:gridCol w="316080"/>
                <a:gridCol w="317520"/>
                <a:gridCol w="316080"/>
                <a:gridCol w="315720"/>
                <a:gridCol w="317520"/>
                <a:gridCol w="316080"/>
                <a:gridCol w="317160"/>
                <a:gridCol w="316080"/>
              </a:tblGrid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74680"/>
          <a:ext cx="8229240" cy="5851080"/>
        </p:xfrm>
        <a:graphic>
          <a:graphicData uri="http://schemas.openxmlformats.org/drawingml/2006/table">
            <a:tbl>
              <a:tblPr/>
              <a:tblGrid>
                <a:gridCol w="316440"/>
                <a:gridCol w="316440"/>
                <a:gridCol w="316440"/>
                <a:gridCol w="316440"/>
                <a:gridCol w="316440"/>
                <a:gridCol w="317160"/>
                <a:gridCol w="316440"/>
                <a:gridCol w="316440"/>
                <a:gridCol w="316440"/>
                <a:gridCol w="316440"/>
                <a:gridCol w="316440"/>
                <a:gridCol w="316440"/>
                <a:gridCol w="316440"/>
                <a:gridCol w="316440"/>
                <a:gridCol w="316440"/>
                <a:gridCol w="316800"/>
                <a:gridCol w="316440"/>
                <a:gridCol w="316800"/>
                <a:gridCol w="316440"/>
                <a:gridCol w="316440"/>
                <a:gridCol w="316800"/>
                <a:gridCol w="316440"/>
                <a:gridCol w="316440"/>
                <a:gridCol w="316440"/>
                <a:gridCol w="316440"/>
                <a:gridCol w="316440"/>
              </a:tblGrid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Алексеевна</cp:lastModifiedBy>
  <dcterms:modified xsi:type="dcterms:W3CDTF">2016-10-31T09:14:4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