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7.jpeg" ContentType="image/jpeg"/>
  <Override PartName="/ppt/media/image16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1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36.png" ContentType="image/png"/>
  <Override PartName="/ppt/media/image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4022-7512-48B9-99D5-F87BBFCC7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www.livebusiness.ru/out.php?url=http://animoto.com/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6433-0960-4646-B4AA-EB077FF2F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974B-C5C3-459C-9A76-BFCF04F6FB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следнее время приобретают популярность размещенные в Интернете средства обработки разнообразных документов. Есть подобные средства и для работы с презентациями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Google Presentation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http://doc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z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z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ho Show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ocke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//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ocke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rese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spresent.com) и т. п. Основными преимуществами использования этих средств является их бесплатность и доступность из любого компьютера, подключенного к Интернету. Для хранения созданных файлов можно использовать электронные хранилища данных в Интернете. Удобным является также то, что созданную компьютерную презентацию с разрешения автора могут просматривать другие пользователи Интерн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98F5-E5BD-4422-A2E4-0F4C664DB0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системы обработки слайдовых компьютерных презентаций – это разноплановые программы, которые предоставляют докладчику широкие возможности для иллюстрации его идей или учебного матери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ие в слайды презентации текстов, графических изображений, видео и звуковых о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тирование и форматирование объектов презен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шаблонов и стилей оформления слай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эффектов анимации к объектам презен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ройка последовательности и длительности отображения объектов презен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ройка режимов демонстрации слайдов на экране монитора или с использованием мультимедийного проекто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я созданной презен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ечати слайдов презентации на монохромном или цветном принтер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презентации в файлах разных форматов для воспроизведения с использованием разных программных проду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ие в файлы презентаций средств воспроизведения презентации для демонстрации ее на компьютере, на котором не установлена ни одна система обработки презентаций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844C-C935-48C6-8EF4-BFCCCE8EF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работки презентаци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Microsoft Office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 ся к программам обработ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овых презентац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werPoint 2007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все возможности систем обработки презентаций, которые были рассмотрены выше. Она может работать в двух основных режимах – режим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здания и редактирования презентац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в режиме е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монстр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ым форматом файлов презентаций, подготовленных с использование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werPoint 200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является формат PPTХ. Кроме того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werPoint 2007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работу с  презентациями, созданными в предыдущих версиях программы в формате PPT, а также сохранение презентаций в файлах разных форм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werPoint 2007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предоставляет пользователю возможность сохранить презентации в формате веб-страниц, а отдельные слайды презентации – как графические файлы форматов GIF, JPG, PNG, BMP, TIF, WMF, EM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бъектом в системах обработки слайдовых презентаций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вокупность отдельных слайдов. На слайдах могут находиться различные объе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1926-C5B1-4D3B-A355-68AD09E64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дея PowerPoint появилась у Боба Гаскинса (Bob Gaskins), студента университета Беркли, который решил, что наступает век графических интерактивных материалов. В 1984 году Гаскинс присоединился к Forethought и нанял разработчика Денниса Остина (Dennis Austin). Боб и Деннис объединили усилия и создали программу Presenter. Деннис создал оригинальную версию программы с Томом Рудкиным (Tom Rudkin). Позже Боб решил сменить имя на PowerPoint, которое и стало названием конечного продук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 1987 году вышел PowerPoint 1.0 для Apple Macintosh. Он работал в чёрно-белом цвете. Вскоре появились цветные Macintosh и новая версия PowerPoint не заставила себя ждать. Программное руководство с первой редакции было уникально. Это была книга синего цвета в твердом переплете. Компания Forethought считала, что это лучше, чем куча исполняемых файлов помощи на компьютере и инструкций в электронном виде. Но обновление инструкции было необоснованно дорого. Идея с подобными книгами была вскоре заброше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зже, в 1987 году, Forethought и её продукт были куплены Microsoft за 14 млн долларов. В 1990 году вышла версия для Windows. C 1990 года PowerPoint стал стандартом в наборе программ Microsoft Off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 2002 году вышла версия PowerPoint, которая не только была включена в пакет Microsoft Office XP, но также распространялась как отдельный продукт. В ней появились такие функции, как сравнение и смешение изменений в презентации, возможность задавать пути анимации для индивидуальных форм, создание пирамидальных, радиальных и целевых диаграмм, а также кругов Эйлера, панель задач для просмотра и выбора объектов буфера обмена, защита презентации паролем, автоматическая генерация фотоальбома, а также «умные теги» для быстрого выбора формата текста, скопированного в презентаци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Microsoft PowerPoint 2003 не сильно отличается от предшественника. Он увеличивает эффективность работы в группе и теперь имеет возможность создания «Пакета для CD», который позволяет скопировать презентацию с мультимедийным содержанием и просмотреть её на компакт-диск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ерсия PowerPoint 2007 привносит основные изменения в интерфейс программы и увеличивает графические возмож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ледняя версия - PowerPoint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2CF4-0159-4257-BB90-BB1E07BD9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это электронная презентация, содержащая текст, таблицы, диаграммы, графику, анимацию и другие элементы. При самостоятельном создании презентации необходимо создать слайды, для чего можно использовать рисование векторной графики, вставку растровых рисунков, электронных таблиц, диаграмм, колонтитулов и текстовых блоков. Полное создание презентации включает несколько этап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фонового слайда на основе мастера слай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кета страниц слай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авку и форматирование тек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авка графических о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гиперссы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авка диаграмм и табл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авка звука и виде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ение слай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эффектов для используемых графических о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эффектов для смены слай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пустой презентации можно создать презентацию любой сложности, используя ручное редактирование и форматирование страниц каждого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5B0A-889A-46DA-B96F-9BC47EE6C0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стые в использовании инструменты позволяют добавлять в слайды такие элементы, как таблицы, диаграммы, мультимедийные объекты и различные фигуры. Потребуется всего одно нажатие, чтобы добавить таблицу. Так же просто создать трёхмерную диаграмму и сделать её анимированной. С помощью медиабраузера можно перемещать фотографии из библиотек iPhoto или Aperture, видео из папки «Фильмы» и музыку из библиотеки iTu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ждый слайд вашей презентации будет выглядеть на все сто благодаря мощным графическим инструментам, встроенным в Keynote. Чтобы быстро и аккуратно удалить фон изображения или добавить стандартную фигуру, например, круг или звезду, используйте инструмент «Быстрая альфа». С помощью функции выравнивания можно легко управлять расположением объектов на слайдах. Таким образом, все объекты, которые вы добавляете в слайды, — графика, изображения, текстовые блоки или фигуры — будут размещены именно там, где вы хотите. Вы по достоинству оцените новую функцию соединительных линий, добавляя блок-схему или диаграмму: линии, соединяющие два объекта, остаются зафиксированными независимо от вносимых изменений. При перемещении объектов линии перемещаются вместе с ни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имание всей аудитории будет приковано к вашей презентации — ведь в вашем распоряжении 25 оригинальных переходов между слайдами, включая трёхмерные. С помощью новой функции Magic Move повторяющиеся на всех слайдах элементы (например, логотип вашей компании) автоматически изменяют расположение, размер, прозрачность и угол поворо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нимация текста и других элементов — идеальный способ подчеркнуть ваш тезис. Делайте плавные переходы от текста одного слайда к тексту другого. Элементы списка, столбцы диаграммы и строки таблицы могут появляться на слайде постепенно, один за другим. Или же слайд появится целиком: вращаясь или выезжая на экран слева. Вы можете задать дополнительные настройки анимации, выбрав, на какой элемент эффект будет накладываться в первую очередь, его продолжительность, а также его направление: по прямой или кривой ли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Keynote предлагает множество способов демонстрации презентаций. Вы можете импортировать презентации, созданные в Microsoft PowerPoint, или сохранять презентации в виде файлов Microsoft PowerPoint. Вы также можете экспортировать презентацию как видеоролик QuickTime, файл PDF, HTML или графический файл и даже выложить презентацию на YouTube. Keynote конвертирует её в нужный формат самостоятель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D069-AE4F-4444-840E-284CF7D09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любой презентации, которые вы создаете с помощью настольных ПК, теперь может быть сделано с Zoho Sh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можете создавать презентации, используя некоторые ультра прохладной готовые темы, как Jazzy, Funky, фэнтези, аннотация, равнины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основных функций, как рисование, изменение размера и вращение доступны как часть проекта галереи. Теперь вы можете отформатировать форме, как вы хотите использовать некоторые настроенные свойства для фор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BE3A-832F-40CB-8306-2F9B53AD0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абота с медиаданными – их хранение и обработка являются необходимыми в повседневной работе. Сервисы, позволяющие реализовать эту задачу, - всегда нужны и востребованы. Одним из сервисов этого класса является проект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moto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 С его помощью можно создать презентацию с использованием различных видеоэффектов. Презентация использует предварительно загруженные фотографии и музыкальное оформление. При этом сервис сам компонует слайды, добавляет спецэффекты и в результате создает довольно красочный видеоролик-презентаци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озможности создания презентаций Animoto доступны зарегистрированным пользователям. После авторизации пользователь выбирает тип будущей презентации – краткая (Animoto short) или длинная (Full-length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первом случае будет создан 30-секундный видеоролик, состоящий из прибл. 12-15 кадров. А создание длинной презентации (Full-length) возможно только тем пользователям, которые внесли плату за работу с сервис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добавления кадров в презентацию можно загрузить графические файлы со своего компьютера. Заметим, что при этом доступна одновременная загрузка сразу нескольких файлов – для этого их нужно выделить по очереди, удерживая клавиши Shift или Ctrl. Для создания презентации в нее нужно включить как минимум десять графических файло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роме этого, сервис позволяет включить в свою будущую презентацию фотографии, которые размещены на наиболее известных фотохостингах – flickr, facebook, Picasa, photobucket, smugmug. Для этого нужно авторизироваться на соответствующем сайте и выбрать нужные фотографи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сле загрузки фотографий система предлагает минимальные возможности их редактирования. Так, например, отдельные графические файлы можно повернуть или взять в рамочку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ледующий этап – добавление музыкального сопровождения. Звуковой файл можно также загрузить с компьютера пользователя или же выбрать готовый из коллекции звуков, размещенных на сайте. Во втором случае пользователю предлагается три каталога с музыкой разных стилей – Indie Rock, Electronica, Hip Hop. Выбрав направление, вы увидите список, в котором можно просмотреть прослушать музыкальный фрагмент и вставить понравившийся в вашу презентаци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завершения создания презентации нужно ввести ее название, описание и имя автора. Далее система формирует презентацию, размещает файлы в указанном порядке, подключает звук. Это может занять несколько минут, информация о ходе формирования файла-презентации размещается на странице сайт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Завершение создания презентации означает, что в окне браузера появится кнопка для ее воспроизведения, нажав на которую можно будет просмотреть презентацию непосредственно в окне браузер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2296-808F-4907-9502-B456857A7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oogle переименовала свой пакет офисных онлайн-приложений из Docs &amp; Spreadsheets в Google Docs, и добавила к нему программу для создания презентаций, выполнив тем самым обещание, данное еще в апреле. Редактор презентаций также будет доступен пользователям более полного пакета - Google Apps, в который входят Web-почта, IM-сервис, календарь и дизайнер Web-страниц. Отсутствие средства создания презентаций до сих пор было единственным существенным пробелом, мешающим Google Apps стать полноценным конкурентом Microsoft Office и Outlook/Exchange. Как ожидается, следующим этапом станет появление в составе Google Apps wiki-компонента, созданного на базе технологий компании JotSpot, которую Google купила около года тому назад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онный компонент Google Docs поддерживает возможность импорта презентаций PowerPoint. В дальнейшем также планируется реализовать и функцию экспорта в файлы PowerPoi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B454-A12A-4720-A0BD-DEDDBC6AE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 последнее десятилетие в мире произошла компьютерная революция. Компьютеры основательно вошли в нашу жизнь. Многие сферы деятельности человека невозможно представить без помощи компьютера. Бизнес, как одна из самых динамичных областей деятельности, тоже не остался в стороне от этого процесса. В этой ситуации возникает вопрос, как на компьютере максимально удобно и эффективно представить нужную вам информацию для другого человека, чтобы облегчить его общение с компьютером, привлечь его внимание, заинтересовать. Здесь очень большую помощь могут оказать современные мультимедиа технологи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звестно, что человек большую часть информации воспринимает органами зрения (~80%), и органами слуха (~15%) (это давно замечено и эффективно используется в кино и на телевидении). Мультимедиа технологии позволяют воздействовать одновременно на эти важнейшие органы чувств человека. Сопровождая динамический визуальный ряд (слайд-шоу, анимацию, видео) звуком, мы можем рассчитывать на большее внимание со стороны человека. Следовательно, мультимедиа технологии позволяют представлять информацию в максимально эффективном вид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отличие от видео, мультимедиа технологии позволяют управлять потоком информации, т.е. могут быть интерактивны. Мультимедиа презентации дают прямой доступ к информации. Пользователь может сразу видеть все содержание и переходить к тому, что его заинтересовало. Извлечение информации не будет связано с большими затратами труда и времен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отличие от других видов представления информации мультимедиа презентации могут содержать десятки тысяч страниц текста и тысячи рисунков и фотографий, несколько часов видео и аудио записей, анимацию и трехмерную графику, при этом обеспечивая низкую стоимость тиражирования и длительный срок хран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лектронная визитная карточка с мультимедиа презентацией будет не только оригинальным презентом партнеру, но и расскажет за Вас то, что Вы не успели или не имели возможности рассказать и показать на деловой встреч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 показывает мировой опыт, одним из условий эффективной деятельности любой компании является формирование ее привлекательного облика в глазах партнеров и клиентов. При этом необходимо обеспечить, чтобы уровень представления информации был высоким и современным. 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сокие требования к представлению компании на внешнем и внутреннем рынке диктуют использование высоких технологий. Выход состоит в использовании современных компьютерных мультимедийных технологий. Новизна и преимущества предлагаемой технологии подачи информации состоят в современной форме презентации с использованием мультимедийного компьютера. Это особенно эффективно, поскольку никакой другой вид рекламы не даст Вам такие возможности представления информации. 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роме рекламных целей презентации могут выполнять и другие практические функции: обучение и проверка знаний Ваших сотрудников, клиентов или потребителей продукции; распространение нормативно-технической документации, методических материалов и т.п. 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зможно, использовать мультимедиа технологию в бытовых целях, для создания красиво оформленных мультимедийных дисков с Вашим домашним видео, фотографиями, рисунками, музыкой. Такой диск может быть подарком Вашим родным и знакомым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D3B0-5799-4BD7-B69D-00B34FD91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A8ED-8797-4E6B-AF94-4BCDB4854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Электронная презентация — это современный эффективный способ представления информации о товарах и услугах, о разрабатываемых программных продуктах и предлагаемых технологиях, в котором удачно сочетаются возможности справочника, буклета, каталога и проспекта вместе взятых. Как правило, в электронной презентации задействованы все современные мультимедийные возможности: она включает графику и анимацию, тексты и таблицы, фотографии, видео- и аудиоматериалы, то есть все то, что может наилучшим образом рассказать о компании, об оказываемых ею услугах, о конкретном продукте и пр. В большинстве случаев презентации размещаются на компакт-дисках с автозапуском, собственным интерфейсом и краткой информацией об услугах, ценах и контактными сведениями. Кроме того, поскольку диски позволяют разместить массу информации, очень удобно включать в презентации разнообразные каталоги продукции, слайд-шоу, видеофрагменты, анимационные заставки и пр. Не стоит забывать и о вкладышах к диску, которые размещаются на обеих сторонах его пластикового футляра. Оформленные в виде небольших красочных буклетов такие вкладыши в комплекте с презентацией в какой-то степени способны заменить привычную полиграфическую рекламную продукцию, не снижая эффективности рекламной акци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ким образом, электронные презентации максимально удобно использовать в целях рекламирования бренда и в качестве интерактивного каталога продукции. Такие презентации, помещенные на CD-дисках, могут распространяться на профильных выставках и ярмарках среди потенциальных клиентов вместо основательно поднадоевших листовок и брошюр, которые занимают слишком много места. Пригодятся презентации на CD-дисках и на деловых встречах с заказчиками и потенциальными клиентами. А после соответствующей доработки их можно разместить в Интернете на сайте своей компании, обеспечив значительное повышение результативности рекламы. Грамотно разработанная презентация станет визитной карточкой компании и сможет самостоятельно рассказать о ней, закладывая основы для дальнейшего сотрудничества. Кроме того, она позволит в несколько раз увеличить охват целевой аудитории, заинтересованной в сотрудничестве с вашей компанией, и обеспечит сокращение расходов на рекламу за счет сокращения средств, вложенных в другие рекламные акци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то же время презентации часто составляют основу деловых совещаний — они помогают иллюстрировать информационные сообщения, направлять ход дискуссий и в конечном счете принимать правильные решения. Они могут быть адаптированы к публичному выступлению для представления как компании, так и нового вида продукции или технологии, что очень удобно для использования на выставках, конференциях или семинарах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DCEC-67BA-4658-B35F-DD567B779B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прогресс обусловил появление новых средств для проведения презентаций – диапроекторов и графопроекторов (кодоскопов). Первые воспроизводили изображение с фотопленок и диапозитивов, а вторые – с прозрачных пленок (слайдов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арантов) формата, близкого к А4. Особенно широкое распространение получили графопроекторы (анг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overhead projector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ний проектор), которые предоставляли докладчику возможность за счет быстрого изменения пленок, наложения одного изображения на другое, включения рукописных объяснений и рисования линий взаимосвязи сделать презентацию более динамичной, оперативно реагировать на вопросы слуш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BEAE-B20B-4CE1-82D0-57078E387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азработки и печати диапозитивов и пленок для графопроекторов с начала 1980-х годов начали использовать компьютерные программы – сначала текстовые редакторы, а затем и специальные програм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широким распространением персональных компьютеров начали создаваться специальные электронные документы, которые содержали материалы рекламного или информационного характера и были подготовлены для просмотра на экране компьютера. Такие документы стали называ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мпьютерными презентаци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программы для создания таких документов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стемами обработки презент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емонстрации компьютерных презентаций используют разнообразные средства –  персональные компьютеры, демонстрационные мониторы больших размеров,   мультимедийные проекторы и электронные (мультимедийные) доски, сенсорные экраны и т. 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DEF3-0D0E-4646-BD36-EB018CF8C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компьютерных презентаций различ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лайдовы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токовы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 и системы для обработки компьютерных презентаций разделяют н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стемы обработки слайдовых презентац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стемы обработки потоковых презентац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4012-D8FA-42D9-89E9-C4DD1EF5CC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лайдовая презент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атывается и демонстрируется как последовательнос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, как правило, руководит сменой слайдов на экране, последовательностью появления на них определенных объектов. Он может предварительно настроить автоматический показ объектов через определенные интервалы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0FC6-159B-4CDE-97C3-001C23EC8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м видом презентаций являю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токовые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редназначены для непрерывного воспроизведения последовательности (потока) объектов с предварительно определенным временем показа каждого из них. Фактически это видеофильм, например рекламного или учебного назначения. Программами для обработки этого вида презентаций являю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obe Flas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soft Movie Make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FX Visual Design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Tour Builde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отметить, что подобная классификация презентаций и систем для их обработки есть в чем-то условной. Это связано с тем, что расширение функциональности современных программ для обработки слайдовых презентаций предоставляет пользователю возможность создавать презентацию, которая по своим свойствам фактически не отличается от потоковой презентации. Такая же ситуация и с программами для обработки потоковых презентаций. Их средства предоставляют возможность пользователю включить в потоковую презентацию фрагменты текста, таблицы, схемы и элементы управления объе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939-B652-4112-9856-C3483E46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FB3-881F-4D26-A5A5-AA6018D7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B92-56DC-4F86-A0B4-2AE71EB6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376-C918-4A99-866C-A6C867D2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0820-4262-4826-BC48-DC734484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F966-4A04-484E-9162-0FB50670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064C-5589-4353-BDE6-469CDCAE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07F4-BE52-4D79-AC50-774818CF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B036-B68E-427A-B817-DE9BB096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33AD-5BC5-43C8-8E56-87D0A8F8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8B64-B832-4D18-AB25-AEBA141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32A-58FB-4E33-ACEC-061C29F4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16EC-480D-4877-86B4-1ED3F3D1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B897-1E53-4D7E-B2F0-F6DFB0D2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B018-EAA7-401D-A1C1-128BA26F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C6E9-2827-456A-BA2F-7492A19A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4DC6-568A-4835-A714-6DCA8C45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48F-626B-473B-95DB-040F2E5F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833-85A3-4FE7-B444-E7F8F0AD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5E4-41A7-4CDC-93CB-655035B6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DCD-64B4-41D5-86AA-8CC9F554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9BB-8A4D-4C0B-8E59-DD75C145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355-3C21-49FE-AD6C-7B3B130E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33F-C612-4B0E-B3E3-39F77401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651280" y="6265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771640" y="638136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03A7-D53E-4530-80A4-D42873AC71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4360" y="306864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A913-B5FB-467D-878F-5A2757AD82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5984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История развития и обзор современных средств создания и демонстрации компьютерных презентаций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1042920" y="5661000"/>
            <a:ext cx="73454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7BB3-DD82-4DB3-BC56-54C7792FE4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8918-EF90-44FD-903A-CDB887EBBF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Verdana"/>
              </a:rPr>
              <a:t>«Облачные» (on-line) сервисы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4" name="Picture 4" descr="онлайн редактор"/>
          <p:cNvPicPr/>
          <p:nvPr/>
        </p:nvPicPr>
        <p:blipFill>
          <a:blip r:embed="rId1"/>
          <a:stretch/>
        </p:blipFill>
        <p:spPr>
          <a:xfrm>
            <a:off x="539640" y="1773360"/>
            <a:ext cx="3478320" cy="2171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phpThumb_cache_src0dbae6c9bfc70c8aabe29051e58ea212_par249fc84f9b757251ca73fb3b3e949e60"/>
          <p:cNvPicPr/>
          <p:nvPr/>
        </p:nvPicPr>
        <p:blipFill>
          <a:blip r:embed="rId2"/>
          <a:stretch/>
        </p:blipFill>
        <p:spPr>
          <a:xfrm>
            <a:off x="1763640" y="2349360"/>
            <a:ext cx="3810240" cy="266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main_ui"/>
          <p:cNvPicPr/>
          <p:nvPr/>
        </p:nvPicPr>
        <p:blipFill>
          <a:blip r:embed="rId3"/>
          <a:stretch/>
        </p:blipFill>
        <p:spPr>
          <a:xfrm>
            <a:off x="2987640" y="2852640"/>
            <a:ext cx="4175280" cy="2551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4"/>
          <a:stretch/>
        </p:blipFill>
        <p:spPr>
          <a:xfrm>
            <a:off x="4716360" y="3573360"/>
            <a:ext cx="35276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5488-4294-422D-A058-3CB51F846CF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Verdana"/>
              </a:rPr>
              <a:t>Основные возможности систем обработки компьютерных</a:t>
            </a:r>
            <a:br>
              <a:rPr sz="3400"/>
            </a:br>
            <a:r>
              <a:rPr b="1" lang="ru-RU" sz="3400" spc="-1" strike="noStrike">
                <a:solidFill>
                  <a:srgbClr val="0000ff"/>
                </a:solidFill>
                <a:latin typeface="Verdana"/>
              </a:rPr>
              <a:t>презентаций</a:t>
            </a:r>
            <a:r>
              <a:rPr b="0" lang="ru-RU" sz="3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ключение в слайды презентации текстов, графических изображений, видео и звуковых объект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дактирование и форматирование объектов презентац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шаблонов и стилей оформления слайд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ение эффектов анимации к объектам презентац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тройка последовательности и длительности отображения объектов презентац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тройка режимов демонстрации слайдов на экране монитора или с использованием мультимедийного проектор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монстрация созданной презентац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ка к печати слайдов презентации на монохромном или цветном принтер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хранение презентации в файлах разных форматов для воспроизведения с использованием разных программных продукт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ключение в файлы презентаций средств воспроизведения презентации для демонстрации ее на компьютере, на котором не установлена ни одна система обработки презентаций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3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3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3450"/>
                            </p:stCondLst>
                            <p:childTnLst>
                              <p:par>
                                <p:cTn id="3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3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3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4700"/>
                            </p:stCondLst>
                            <p:childTnLst>
                              <p:par>
                                <p:cTn id="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4050"/>
                            </p:stCondLst>
                            <p:childTnLst>
                              <p:par>
                                <p:cTn id="4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A878-B5E7-433A-A0AC-F111ECF54A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Verdana"/>
              </a:rPr>
              <a:t>Microsoft Office PowerPoint</a:t>
            </a:r>
            <a:r>
              <a:rPr b="0" lang="ru-RU" sz="3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5" name="Picture 5" descr="PPT1"/>
          <p:cNvPicPr/>
          <p:nvPr/>
        </p:nvPicPr>
        <p:blipFill>
          <a:blip r:embed="rId1"/>
          <a:stretch/>
        </p:blipFill>
        <p:spPr>
          <a:xfrm>
            <a:off x="1835280" y="1844640"/>
            <a:ext cx="5616360" cy="421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xp"/>
          <p:cNvPicPr/>
          <p:nvPr/>
        </p:nvPicPr>
        <p:blipFill>
          <a:blip r:embed="rId2"/>
          <a:stretch/>
        </p:blipFill>
        <p:spPr>
          <a:xfrm>
            <a:off x="2484360" y="1916280"/>
            <a:ext cx="4392720" cy="347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nterface02"/>
          <p:cNvPicPr/>
          <p:nvPr/>
        </p:nvPicPr>
        <p:blipFill>
          <a:blip r:embed="rId3"/>
          <a:stretch/>
        </p:blipFill>
        <p:spPr>
          <a:xfrm>
            <a:off x="2627280" y="2205000"/>
            <a:ext cx="4792680" cy="3343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B000HCVR44-1-lg"/>
          <p:cNvPicPr/>
          <p:nvPr/>
        </p:nvPicPr>
        <p:blipFill>
          <a:blip r:embed="rId4"/>
          <a:stretch/>
        </p:blipFill>
        <p:spPr>
          <a:xfrm>
            <a:off x="1835280" y="1773360"/>
            <a:ext cx="5689440" cy="4260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nstalled-template-screen-shot-2"/>
          <p:cNvPicPr/>
          <p:nvPr/>
        </p:nvPicPr>
        <p:blipFill>
          <a:blip r:embed="rId5"/>
          <a:stretch/>
        </p:blipFill>
        <p:spPr>
          <a:xfrm>
            <a:off x="1908000" y="1844640"/>
            <a:ext cx="54738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9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6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87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F187-8481-44B0-B264-D947EFEE8F0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Verdana"/>
              </a:rPr>
              <a:t>История </a:t>
            </a: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Power Point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3" name="Picture 5" descr="robert-gaskins-2009-cio-insight-china-expert-voices-powerpoint-2009-aug-W188H249"/>
          <p:cNvPicPr/>
          <p:nvPr/>
        </p:nvPicPr>
        <p:blipFill>
          <a:blip r:embed="rId1"/>
          <a:stretch/>
        </p:blipFill>
        <p:spPr>
          <a:xfrm>
            <a:off x="3059280" y="1989000"/>
            <a:ext cx="2719080" cy="3600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3664800" y="56610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Bob Gaskin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A708-39B1-4812-818C-FD637C543C4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Verdana"/>
              </a:rPr>
              <a:t>OpenOffice.org </a:t>
            </a: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Impress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8" name="Picture 4" descr="impress_openoffice"/>
          <p:cNvPicPr/>
          <p:nvPr/>
        </p:nvPicPr>
        <p:blipFill>
          <a:blip r:embed="rId1"/>
          <a:stretch/>
        </p:blipFill>
        <p:spPr>
          <a:xfrm>
            <a:off x="2771640" y="2060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office_ooimpress"/>
          <p:cNvPicPr/>
          <p:nvPr/>
        </p:nvPicPr>
        <p:blipFill>
          <a:blip r:embed="rId2"/>
          <a:stretch/>
        </p:blipFill>
        <p:spPr>
          <a:xfrm>
            <a:off x="1692360" y="1746360"/>
            <a:ext cx="5794200" cy="4346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openoffice_impress"/>
          <p:cNvPicPr/>
          <p:nvPr/>
        </p:nvPicPr>
        <p:blipFill>
          <a:blip r:embed="rId3"/>
          <a:stretch/>
        </p:blipFill>
        <p:spPr>
          <a:xfrm>
            <a:off x="1692360" y="1773360"/>
            <a:ext cx="58323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5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Номер слайда 6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60F1-0DC7-4EA3-B50C-EC1EDC56F55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Verdana"/>
              </a:rPr>
              <a:t>Apple - iWork - Keynote</a:t>
            </a:r>
            <a:r>
              <a:rPr b="0" lang="ru-RU" sz="3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723920" y="1773000"/>
            <a:ext cx="4240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аже если вы никогда не пользовались Keynote, вы увидите, что создавать презентации удивительно просто. Начните с выбора темы - Keynote предлагает впечатляющую коллекцию из 44 оригинальных тем. Наведите курсор на тему, чтобы просмотреть дизайн слайдов. Выберите тему, подходящую для вашей презентации, и замените текстовый и графический шаблоны нужными текстами и изображениями. Благодаря навигатору по слайдам процесс создания презентации и её структура всегда у вас под контроле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6" descr="keynote-new-share-20090106"/>
          <p:cNvPicPr/>
          <p:nvPr/>
        </p:nvPicPr>
        <p:blipFill>
          <a:blip r:embed="rId1"/>
          <a:stretch/>
        </p:blipFill>
        <p:spPr>
          <a:xfrm>
            <a:off x="755640" y="1773360"/>
            <a:ext cx="4248000" cy="2255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overlay_themes_05_20090106"/>
          <p:cNvPicPr/>
          <p:nvPr/>
        </p:nvPicPr>
        <p:blipFill>
          <a:blip r:embed="rId2"/>
          <a:stretch/>
        </p:blipFill>
        <p:spPr>
          <a:xfrm>
            <a:off x="324000" y="3645000"/>
            <a:ext cx="50292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1219-09AD-404A-B5B0-B1C1BA57BD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Verdana"/>
              </a:rPr>
              <a:t>Zoho Show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0" name="Picture 4" descr="main_ui"/>
          <p:cNvPicPr/>
          <p:nvPr/>
        </p:nvPicPr>
        <p:blipFill>
          <a:blip r:embed="rId1"/>
          <a:stretch/>
        </p:blipFill>
        <p:spPr>
          <a:xfrm>
            <a:off x="611280" y="3068640"/>
            <a:ext cx="4824360" cy="2946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themes"/>
          <p:cNvPicPr/>
          <p:nvPr/>
        </p:nvPicPr>
        <p:blipFill>
          <a:blip r:embed="rId2"/>
          <a:stretch/>
        </p:blipFill>
        <p:spPr>
          <a:xfrm>
            <a:off x="1476360" y="2924280"/>
            <a:ext cx="4535640" cy="2543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shapes"/>
          <p:cNvPicPr/>
          <p:nvPr/>
        </p:nvPicPr>
        <p:blipFill>
          <a:blip r:embed="rId3"/>
          <a:stretch/>
        </p:blipFill>
        <p:spPr>
          <a:xfrm>
            <a:off x="2700360" y="2421000"/>
            <a:ext cx="34401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3AE1-4F3E-48E0-B5C4-DC0D5C6F3A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Verdana"/>
              </a:rPr>
              <a:t>Animoto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6" name="Picture 4" descr="phpThumb_cache_src0dbae6c9bfc70c8aabe29051e58ea212_par249fc84f9b757251ca73fb3b3e949e60"/>
          <p:cNvPicPr/>
          <p:nvPr/>
        </p:nvPicPr>
        <p:blipFill>
          <a:blip r:embed="rId1"/>
          <a:stretch/>
        </p:blipFill>
        <p:spPr>
          <a:xfrm>
            <a:off x="1481040" y="2184480"/>
            <a:ext cx="3810240" cy="266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phpThumb_cache_srcfcc6e5571180627e96cc7b5670ebe513_par249fc84f9b757251ca73fb3b3e949e60"/>
          <p:cNvPicPr/>
          <p:nvPr/>
        </p:nvPicPr>
        <p:blipFill>
          <a:blip r:embed="rId2"/>
          <a:stretch/>
        </p:blipFill>
        <p:spPr>
          <a:xfrm>
            <a:off x="2778120" y="268776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phpThumb_cache_src7b68ec636b20ed716a5e4a181c23bd22_par249fc84f9b757251ca73fb3b3e949e60"/>
          <p:cNvPicPr/>
          <p:nvPr/>
        </p:nvPicPr>
        <p:blipFill>
          <a:blip r:embed="rId3"/>
          <a:stretch/>
        </p:blipFill>
        <p:spPr>
          <a:xfrm>
            <a:off x="3780000" y="3594240"/>
            <a:ext cx="45370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Дата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8.03.21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5F52-9A4E-4843-8BDB-AD523542E9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Verdana"/>
              </a:rPr>
              <a:t>Презентационный компонент Google Docs</a:t>
            </a:r>
            <a:endParaRPr b="0" lang="en-US" sz="3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400720" cy="4152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5473440" cy="4210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1835280" y="1844640"/>
            <a:ext cx="5400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3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5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CCA9-25AF-4925-BD01-CCF71E76C15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Verdana"/>
              </a:rPr>
              <a:t>Актуальность темы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ультимедиа технологии позволяют воздействовать одновременно на важнейшие органы чувств человек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ультимедиа технологии позволяют представлять информацию в максимально эффективном вид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ультимедиа технологии позволяют управлять потоком информации, т.е. могут быть интерактивн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ультимедиа презентации могут содержать десятки тысяч страниц текста и тысячи рисунков и фотографий, несколько часов видео и аудио записей, анимацию и трехмерную графику, при этом обеспечивая низкую стоимость тиражирования и длительный срок хранения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9445-D809-4DF0-B2F8-E4C43E542C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Verdana"/>
              </a:rPr>
              <a:t>Цель и задачи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Цель : рассмотреть современные средства работы с презентация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смотреть историю развития технических средств демонстрации   презентаций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смотреть классификацию презентаций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полнить обзор современных программных и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n-line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редств работы с презентация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49E5-F4C1-47F0-AF53-0F248D1CC7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Verdana"/>
              </a:rPr>
              <a:t>Электронная презентация -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современный эффективный способ представления информации о товарах и услугах, о разрабатываемых программных продуктах и предлагаемых технологиях, в котором удачно сочетаются возможности справочника, буклета, каталога и проспекта вместе взяты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5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Номер слайда 6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84DE-95B8-427F-A51F-45DCE4914D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Verdana"/>
              </a:rPr>
              <a:t>Графопроектор</a:t>
            </a:r>
            <a:endParaRPr b="0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3789000"/>
            <a:ext cx="8281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рафопроекторы предоставляли докладчику возможность за счет быстрого изменения пленок, наложения одного изображения на другое, включения рукописных объяснений и рисования линий взаимосвязи сделать презентацию более динамичной, оперативно реагировать на вопросы слушателе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6" descr="Overhead-projector-picture"/>
          <p:cNvPicPr/>
          <p:nvPr/>
        </p:nvPicPr>
        <p:blipFill>
          <a:blip r:embed="rId1"/>
          <a:stretch/>
        </p:blipFill>
        <p:spPr>
          <a:xfrm>
            <a:off x="5580000" y="1773360"/>
            <a:ext cx="1790640" cy="208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Overhead_Projector_7800"/>
          <p:cNvPicPr/>
          <p:nvPr/>
        </p:nvPicPr>
        <p:blipFill>
          <a:blip r:embed="rId2"/>
          <a:stretch/>
        </p:blipFill>
        <p:spPr>
          <a:xfrm>
            <a:off x="1979640" y="1844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F3C4-8AB0-4DAD-9E5B-04BBA90678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Verdana"/>
              </a:rPr>
              <a:t>Средства демонстрации презентаций</a:t>
            </a:r>
            <a:endParaRPr b="0" lang="en-US" sz="3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4" descr="Overhead_Projector_7800"/>
          <p:cNvPicPr/>
          <p:nvPr/>
        </p:nvPicPr>
        <p:blipFill>
          <a:blip r:embed="rId1"/>
          <a:stretch/>
        </p:blipFill>
        <p:spPr>
          <a:xfrm>
            <a:off x="649440" y="17733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LenovoIdeaCentreA700_01"/>
          <p:cNvPicPr/>
          <p:nvPr/>
        </p:nvPicPr>
        <p:blipFill>
          <a:blip r:embed="rId2"/>
          <a:stretch/>
        </p:blipFill>
        <p:spPr>
          <a:xfrm>
            <a:off x="5330880" y="1773360"/>
            <a:ext cx="3249720" cy="2886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untitled1"/>
          <p:cNvPicPr/>
          <p:nvPr/>
        </p:nvPicPr>
        <p:blipFill>
          <a:blip r:embed="rId3"/>
          <a:stretch/>
        </p:blipFill>
        <p:spPr>
          <a:xfrm>
            <a:off x="1619280" y="2901960"/>
            <a:ext cx="3144960" cy="3144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idoska"/>
          <p:cNvPicPr/>
          <p:nvPr/>
        </p:nvPicPr>
        <p:blipFill>
          <a:blip r:embed="rId4"/>
          <a:stretch/>
        </p:blipFill>
        <p:spPr>
          <a:xfrm>
            <a:off x="5003640" y="2205000"/>
            <a:ext cx="2603520" cy="381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touch-screen-photo-frame"/>
          <p:cNvPicPr/>
          <p:nvPr/>
        </p:nvPicPr>
        <p:blipFill>
          <a:blip r:embed="rId5"/>
          <a:stretch/>
        </p:blipFill>
        <p:spPr>
          <a:xfrm>
            <a:off x="2162160" y="1785960"/>
            <a:ext cx="48974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3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Номер слайда 4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10F0-0804-43D5-806B-04830C7BE8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Verdana"/>
              </a:rPr>
              <a:t>Виды компьютерных презентаций</a:t>
            </a:r>
            <a:endParaRPr b="0" lang="en-US" sz="3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125" name="Organization Chart 6"/>
          <p:cNvGrpSpPr/>
          <p:nvPr/>
        </p:nvGrpSpPr>
        <p:grpSpPr>
          <a:xfrm>
            <a:off x="2050920" y="1916280"/>
            <a:ext cx="5255640" cy="3738960"/>
            <a:chOff x="2050920" y="1916280"/>
            <a:chExt cx="5255640" cy="3738960"/>
          </a:xfrm>
        </p:grpSpPr>
        <p:cxnSp>
          <p:nvCxnSpPr>
            <p:cNvPr id="126" name="_s1028"/>
            <p:cNvCxnSpPr>
              <a:stCxn id="127" idx="0"/>
              <a:endCxn id="128" idx="2"/>
            </p:cNvCxnSpPr>
            <p:nvPr/>
          </p:nvCxnSpPr>
          <p:spPr>
            <a:xfrm flipV="1" rot="16200000">
              <a:off x="5011920" y="3077640"/>
              <a:ext cx="748440" cy="1415160"/>
            </a:xfrm>
            <a:prstGeom prst="bentConnector3">
              <a:avLst>
                <a:gd name="adj1" fmla="val 152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29"/>
            <p:cNvCxnSpPr>
              <a:stCxn id="130" idx="0"/>
              <a:endCxn id="128" idx="2"/>
            </p:cNvCxnSpPr>
            <p:nvPr/>
          </p:nvCxnSpPr>
          <p:spPr>
            <a:xfrm flipH="1" flipV="1" rot="5400000">
              <a:off x="3596760" y="3077640"/>
              <a:ext cx="748440" cy="1415520"/>
            </a:xfrm>
            <a:prstGeom prst="bentConnector3">
              <a:avLst>
                <a:gd name="adj1" fmla="val 152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1030"/>
            <p:cNvSpPr/>
            <p:nvPr/>
          </p:nvSpPr>
          <p:spPr>
            <a:xfrm>
              <a:off x="3466080" y="1916280"/>
              <a:ext cx="2425680" cy="14954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ПРЕЗЕНТАЦИ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1031"/>
            <p:cNvSpPr/>
            <p:nvPr/>
          </p:nvSpPr>
          <p:spPr>
            <a:xfrm>
              <a:off x="2050920" y="4159800"/>
              <a:ext cx="2425680" cy="14954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СЛАЙДОВЫ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880880" y="4159800"/>
              <a:ext cx="2425680" cy="14954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ПОТОКОВЫ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DD28-ABFA-42DA-BF15-9193D71D49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Verdana"/>
              </a:rPr>
              <a:t>Системы обработки слайдовых презентаций</a:t>
            </a:r>
            <a:r>
              <a:rPr b="0" lang="ru-RU" sz="3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4" descr="1315588293_powerpoint"/>
          <p:cNvPicPr/>
          <p:nvPr/>
        </p:nvPicPr>
        <p:blipFill>
          <a:blip r:embed="rId1"/>
          <a:stretch/>
        </p:blipFill>
        <p:spPr>
          <a:xfrm>
            <a:off x="1835280" y="1844640"/>
            <a:ext cx="2226960" cy="22273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061280" y="407664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crosoft Office PowerPoin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6" descr="impress_openoffice"/>
          <p:cNvPicPr/>
          <p:nvPr/>
        </p:nvPicPr>
        <p:blipFill>
          <a:blip r:embed="rId2"/>
          <a:stretch/>
        </p:blipFill>
        <p:spPr>
          <a:xfrm>
            <a:off x="5867280" y="26370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5477040" y="522936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penOffice.org Impres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8" descr="plus-presenter-powerbullet-1232211"/>
          <p:cNvPicPr/>
          <p:nvPr/>
        </p:nvPicPr>
        <p:blipFill>
          <a:blip r:embed="rId3"/>
          <a:stretch/>
        </p:blipFill>
        <p:spPr>
          <a:xfrm>
            <a:off x="1835280" y="184464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9"/>
          <p:cNvSpPr/>
          <p:nvPr/>
        </p:nvSpPr>
        <p:spPr>
          <a:xfrm>
            <a:off x="1502640" y="407664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werbullet Presente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0" descr="940d706706cdad85bdf3320fa28"/>
          <p:cNvPicPr/>
          <p:nvPr/>
        </p:nvPicPr>
        <p:blipFill>
          <a:blip r:embed="rId4"/>
          <a:stretch/>
        </p:blipFill>
        <p:spPr>
          <a:xfrm>
            <a:off x="5867280" y="2637000"/>
            <a:ext cx="2416320" cy="2520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1"/>
          <p:cNvSpPr/>
          <p:nvPr/>
        </p:nvSpPr>
        <p:spPr>
          <a:xfrm flipV="1" rot="10800000">
            <a:off x="5579640" y="52290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Show Produce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5651640" y="6265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ценко Сергей Иван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277164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293E-4FD2-4D26-A6BD-6ED9ADF2CE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Verdana"/>
              </a:rPr>
              <a:t>Системы обработки </a:t>
            </a:r>
            <a:br>
              <a:rPr sz="3400"/>
            </a:br>
            <a:r>
              <a:rPr b="1" lang="ru-RU" sz="3400" spc="-1" strike="noStrike">
                <a:solidFill>
                  <a:srgbClr val="0000ff"/>
                </a:solidFill>
                <a:latin typeface="Verdana"/>
              </a:rPr>
              <a:t>потоковых презентаций</a:t>
            </a:r>
            <a:endParaRPr b="0" lang="en-US" sz="3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5" name="Picture 5" descr="img1314313933538"/>
          <p:cNvPicPr/>
          <p:nvPr/>
        </p:nvPicPr>
        <p:blipFill>
          <a:blip r:embed="rId1"/>
          <a:stretch/>
        </p:blipFill>
        <p:spPr>
          <a:xfrm>
            <a:off x="539640" y="2276640"/>
            <a:ext cx="2376720" cy="17794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073880" y="177336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obe Flash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8" descr="edits"/>
          <p:cNvPicPr/>
          <p:nvPr/>
        </p:nvPicPr>
        <p:blipFill>
          <a:blip r:embed="rId2"/>
          <a:stretch/>
        </p:blipFill>
        <p:spPr>
          <a:xfrm>
            <a:off x="3564000" y="3068640"/>
            <a:ext cx="1871640" cy="1725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127320" y="256536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crosoft Movie Make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914800" y="493380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FX Visual Desig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945040" y="551016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rtual Tour Build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23:28Z</dcterms:created>
  <dc:creator>1</dc:creator>
  <dc:description/>
  <dc:language>en-US</dc:language>
  <cp:lastModifiedBy>Пользователь</cp:lastModifiedBy>
  <dcterms:modified xsi:type="dcterms:W3CDTF">2019-10-10T17:40:48Z</dcterms:modified>
  <cp:revision>30</cp:revision>
  <dc:subject/>
  <dc:title>Слайд 1</dc:title>
</cp:coreProperties>
</file>