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101-D64F-4AE0-861C-6BEAF910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B34-B7E4-4354-8564-1AC2D12B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4D7-C433-444F-8FF1-1AD5D2A5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CCB-9198-4577-908B-F3E61A30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7776-C801-404B-B9CD-6B54CC1C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F7C0-5D3A-44EB-B853-F9D06E9A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6654-ECFC-4E43-907E-DFE17E18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2B49-8962-43F1-9B99-0CCCB8DB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864A-5E1F-4210-AAA9-7854C4F6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1176-5227-4E89-87DE-B15F5B9D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3101-828B-485B-9AC6-9DDABA41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AF1-7034-4950-BF6F-CC744024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C5F9-0C6C-4725-BCCB-D3788783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04AE-19BB-4044-AFD4-2CE90863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25A2-BCF1-4CC5-8180-C85402E6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326C-4A39-4B0B-A88E-223342E9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2CBD-96F2-4816-A0ED-A235F604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8B4F8-C9BB-4D30-A499-22F5C6FC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E23CD-86F5-433E-84A0-E125E5F3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E5619-AC46-4192-AFD9-574D3ED7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FFE6-4FBB-4846-A0BC-B58BA11F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96180-F6C6-452D-AABD-8F3C3A12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915-8360-4D42-A231-564A4F1D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1F7B-6186-4207-B753-B82E797B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D477F-02A4-4A72-8621-B0C207C9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F005A-9E38-4D6E-B44D-F75C72E1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616F2-433F-425C-B9B0-8A02908C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29D2F-2FB0-4B5B-9F45-09AFD5F2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7A67-47D2-4DB2-9CD9-B4FB71B6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9721B-9928-4712-8DAD-B79B1A6B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9B44D-0F61-4CAF-A406-7D581FD9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AA0DE-CE75-4844-B30F-977BD2B2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96C4E-BEAB-4091-B42A-C511D783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C4D-83B2-4EF6-BCFE-DCB06464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F5489-99FC-4324-A671-A0BD99AB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5BC66-F113-42AE-9B2C-5E7B49B6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B7734-33FE-4A65-8A16-9C24A940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6B04B-1683-461B-9EB7-EA43CB4A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64880-26E1-484B-8333-D58766DA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8E758-4570-43A4-9CE7-5AAFE5BF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4A30D-3DF0-45DC-9341-A813B2F6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A481-EFC6-4154-BF44-2D053A7B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D274E-ED3F-436D-8B8B-9D70311D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EA2-7D97-4BCE-AA1E-C5F854E3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D89-DBD8-44F8-89A8-4CDBB568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EAA-4600-4773-8723-6C801047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D66-AC4E-432D-8631-7E70BE14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43E-CD96-4B9C-8B38-1A9F0FED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5881-8D18-4539-9CF2-83885B122F92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2395-02A1-490C-88A7-E0BFA43E4983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265E-CD2F-4DCA-BE98-AAE11F1029BA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E042-5F9D-42DF-89FC-029AD9F16AB1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857160"/>
            <a:ext cx="7851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276360" y="3714480"/>
            <a:ext cx="5295960" cy="2235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французского языка в 4 классе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 теме «Наши интересы»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К А.С.Кулиги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вой друг французский язык»,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Прямоугольник 3" descr=""/>
          <p:cNvPicPr/>
          <p:nvPr/>
        </p:nvPicPr>
        <p:blipFill>
          <a:blip r:embed="rId1"/>
          <a:stretch/>
        </p:blipFill>
        <p:spPr>
          <a:xfrm>
            <a:off x="993600" y="822240"/>
            <a:ext cx="71568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3214800" y="428760"/>
            <a:ext cx="3500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Bernard MT Condensed"/>
              </a:rPr>
              <a:t>Qui est – ce</a:t>
            </a: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C:\Documents and Settings\Хозяин\Мои документы\Мои рисунки\Изображение\Изображение 018.jpg"/>
          <p:cNvPicPr/>
          <p:nvPr/>
        </p:nvPicPr>
        <p:blipFill>
          <a:blip r:embed="rId1"/>
          <a:stretch/>
        </p:blipFill>
        <p:spPr>
          <a:xfrm>
            <a:off x="3346560" y="1805040"/>
            <a:ext cx="3017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3902040" y="714240"/>
            <a:ext cx="3403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030a0"/>
                </a:solidFill>
                <a:latin typeface="Bernard MT Condensed"/>
              </a:rPr>
              <a:t>Qui est – ce</a:t>
            </a:r>
            <a:r>
              <a:rPr b="1" lang="ru-RU" sz="50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C:\Documents and Settings\Хозяин\Мои документы\Мои рисунки\Изображение\Изображение 019.jpg"/>
          <p:cNvPicPr/>
          <p:nvPr/>
        </p:nvPicPr>
        <p:blipFill>
          <a:blip r:embed="rId1"/>
          <a:stretch/>
        </p:blipFill>
        <p:spPr>
          <a:xfrm>
            <a:off x="3643200" y="1785960"/>
            <a:ext cx="3143520" cy="4500720"/>
          </a:xfrm>
          <a:prstGeom prst="rect">
            <a:avLst/>
          </a:prstGeom>
          <a:ln cap="sq" w="38160">
            <a:solidFill>
              <a:srgbClr val="558ed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1360" y="428760"/>
            <a:ext cx="71434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Bernard MT Condensed"/>
                <a:ea typeface="Times New Roman"/>
              </a:rPr>
              <a:t>Décris l</a:t>
            </a:r>
            <a:r>
              <a:rPr b="1" lang="el-GR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΄</a:t>
            </a:r>
            <a:r>
              <a:rPr b="1" lang="en-US" sz="3200" spc="-1" strike="noStrike">
                <a:solidFill>
                  <a:srgbClr val="1f497d"/>
                </a:solidFill>
                <a:latin typeface="Bernard MT Condensed"/>
                <a:ea typeface="Times New Roman"/>
              </a:rPr>
              <a:t>un des costumes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25" name="Содержимое 4" descr="Изображение 014.jpg"/>
          <p:cNvPicPr/>
          <p:nvPr/>
        </p:nvPicPr>
        <p:blipFill>
          <a:blip r:embed="rId1"/>
          <a:srcRect l="0" t="0" r="0" b="4779"/>
          <a:stretch/>
        </p:blipFill>
        <p:spPr>
          <a:xfrm>
            <a:off x="642960" y="1571760"/>
            <a:ext cx="1365120" cy="1857240"/>
          </a:xfrm>
          <a:prstGeom prst="rect">
            <a:avLst/>
          </a:prstGeom>
          <a:ln cap="sq" w="381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6" name="Содержимое 5" descr="Изображение 016.jpg"/>
          <p:cNvPicPr/>
          <p:nvPr/>
        </p:nvPicPr>
        <p:blipFill>
          <a:blip r:embed="rId2"/>
          <a:stretch/>
        </p:blipFill>
        <p:spPr>
          <a:xfrm>
            <a:off x="2143080" y="3786120"/>
            <a:ext cx="1365120" cy="1951200"/>
          </a:xfrm>
          <a:prstGeom prst="rect">
            <a:avLst/>
          </a:prstGeom>
          <a:ln cap="sq" w="381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7" name="Picture 2" descr="C:\Documents and Settings\Хозяин\Мои документы\Мои рисунки\Изображение\Изображение 017.jpg"/>
          <p:cNvPicPr/>
          <p:nvPr/>
        </p:nvPicPr>
        <p:blipFill>
          <a:blip r:embed="rId3"/>
          <a:stretch/>
        </p:blipFill>
        <p:spPr>
          <a:xfrm>
            <a:off x="3857760" y="1857240"/>
            <a:ext cx="1365120" cy="1951200"/>
          </a:xfrm>
          <a:prstGeom prst="rect">
            <a:avLst/>
          </a:prstGeom>
          <a:ln cap="sq" w="381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8" name="Picture 3" descr="C:\Documents and Settings\Хозяин\Мои документы\Мои рисунки\Изображение\Изображение 018.jpg"/>
          <p:cNvPicPr/>
          <p:nvPr/>
        </p:nvPicPr>
        <p:blipFill>
          <a:blip r:embed="rId4"/>
          <a:stretch/>
        </p:blipFill>
        <p:spPr>
          <a:xfrm>
            <a:off x="5214960" y="4000680"/>
            <a:ext cx="1268280" cy="1950840"/>
          </a:xfrm>
          <a:prstGeom prst="rect">
            <a:avLst/>
          </a:prstGeom>
          <a:ln cap="sq" w="38160">
            <a:solidFill>
              <a:srgbClr val="254061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9" name="Picture 4" descr="C:\Documents and Settings\Хозяин\Мои документы\Мои рисунки\Изображение\Изображение 019.jpg"/>
          <p:cNvPicPr/>
          <p:nvPr/>
        </p:nvPicPr>
        <p:blipFill>
          <a:blip r:embed="rId5"/>
          <a:stretch/>
        </p:blipFill>
        <p:spPr>
          <a:xfrm>
            <a:off x="6858000" y="1928880"/>
            <a:ext cx="1463760" cy="1950840"/>
          </a:xfrm>
          <a:prstGeom prst="rect">
            <a:avLst/>
          </a:prstGeom>
          <a:ln cap="sq" w="38160">
            <a:solidFill>
              <a:srgbClr val="c6d9f1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814320" y="1822320"/>
          <a:ext cx="7686720" cy="4413240"/>
        </p:xfrm>
        <a:graphic>
          <a:graphicData uri="http://schemas.openxmlformats.org/drawingml/2006/table">
            <a:tbl>
              <a:tblPr/>
              <a:tblGrid>
                <a:gridCol w="3843360"/>
                <a:gridCol w="3843360"/>
              </a:tblGrid>
              <a:tr h="471600"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1600">
                <a:tc>
                  <a:txBody>
                    <a:bodyPr lIns="102960" rIns="1029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éléphoner  à  mes   a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онить  друзь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240">
                <a:tc>
                  <a:txBody>
                    <a:bodyPr lIns="102960" rIns="1029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  inviter  à jouer  à  cache-cac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ласить  их  играть в пряд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600">
                <a:tc>
                  <a:txBody>
                    <a:bodyPr lIns="102960" rIns="1029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  inviter  à  jouer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ley-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ласить  их играть в волейбо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2680">
                <a:tc>
                  <a:txBody>
                    <a:bodyPr lIns="102960" rIns="1029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  inviter  à  jouer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à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a  mar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ласить  их прыгать на скакал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600">
                <a:tc>
                  <a:txBody>
                    <a:bodyPr lIns="102960" rIns="1029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  inviter  à  jouer au  ball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ласить их играть в мя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600">
                <a:tc>
                  <a:txBody>
                    <a:bodyPr lIns="102960" rIns="1029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  inviter  a  jouer au  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ласить их играть в футб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240">
                <a:tc>
                  <a:txBody>
                    <a:bodyPr lIns="102960" rIns="1029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'amuser  beauc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 веселиться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102960" rIns="1029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être  cont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доволь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5520" y="214200"/>
            <a:ext cx="744372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Bernard MT Condensed"/>
                <a:ea typeface="Times New Roman"/>
              </a:rPr>
              <a:t>Fais un récit 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</a:t>
            </a:r>
            <a:r>
              <a:rPr b="0" lang="en-US" sz="4000" spc="-1" strike="noStrike">
                <a:solidFill>
                  <a:srgbClr val="1f497d"/>
                </a:solidFill>
                <a:latin typeface="Bernard MT Condensed"/>
                <a:ea typeface="Times New Roman"/>
              </a:rPr>
              <a:t>J</a:t>
            </a:r>
            <a:r>
              <a:rPr b="0" lang="el-GR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΄</a:t>
            </a:r>
            <a:r>
              <a:rPr b="0" lang="en-US" sz="4000" spc="-1" strike="noStrike">
                <a:solidFill>
                  <a:srgbClr val="1f497d"/>
                </a:solidFill>
                <a:latin typeface="Bernard MT Condensed"/>
                <a:ea typeface="Times New Roman"/>
              </a:rPr>
              <a:t>aime jouer dans la cour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». 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Bernard MT Condensed"/>
                <a:ea typeface="Times New Roman"/>
              </a:rPr>
              <a:t>Emploie les mots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571680" y="18590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'ecris ce que j'aime faire apres les classes. Je choisis les verbe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er,   regarder,   jouer,   dessiner,   se   promener,   lire, s' entraîn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e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es   les   classes,   j'aime  m'entrainer. Je  m'entraine  au  stade. J'aime  aussi  ecouter  de  la  musique.   J'adore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'ecris a  mon ami(e) ce que j'ai fait hier après les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785880" y="178596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 regarde  les  images  et je  parle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'emploie  les  mots   nouvea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nts and Settings\Хозяин\Мои документы\Мои рисунки\Изображение\Изображение 010.jpg"/>
          <p:cNvPicPr/>
          <p:nvPr/>
        </p:nvPicPr>
        <p:blipFill>
          <a:blip r:embed="rId1"/>
          <a:srcRect l="4544" t="3130" r="2024" b="8992"/>
          <a:stretch/>
        </p:blipFill>
        <p:spPr>
          <a:xfrm>
            <a:off x="857160" y="3357720"/>
            <a:ext cx="2857680" cy="257148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426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Bernard MT Condensed"/>
              </a:rPr>
              <a:t>Les occupations des enfant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4" name="Picture 3" descr="C:\Documents and Settings\Хозяин\Мои документы\Мои рисунки\Изображение\Изображение 011.jpg"/>
          <p:cNvPicPr/>
          <p:nvPr/>
        </p:nvPicPr>
        <p:blipFill>
          <a:blip r:embed="rId2"/>
          <a:srcRect l="2520" t="8461" r="0" b="9838"/>
          <a:stretch/>
        </p:blipFill>
        <p:spPr>
          <a:xfrm>
            <a:off x="4929120" y="2857680"/>
            <a:ext cx="3286080" cy="242856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Хозяин\Мои документы\Мои рисунки\Изображение\Изображение 015.jpg"/>
          <p:cNvPicPr/>
          <p:nvPr/>
        </p:nvPicPr>
        <p:blipFill>
          <a:blip r:embed="rId1"/>
          <a:srcRect l="393" t="5523" r="369" b="2913"/>
          <a:stretch/>
        </p:blipFill>
        <p:spPr>
          <a:xfrm>
            <a:off x="2857680" y="4000680"/>
            <a:ext cx="6000480" cy="25002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6" name="Прямоугольник 2"/>
          <p:cNvSpPr/>
          <p:nvPr/>
        </p:nvSpPr>
        <p:spPr>
          <a:xfrm>
            <a:off x="1214280" y="428760"/>
            <a:ext cx="7143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7375e"/>
                </a:solidFill>
                <a:latin typeface="Bernard MT Condensed"/>
              </a:rPr>
              <a:t>Les occupations des enfan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C:\Documents and Settings\Хозяин\Мои документы\Мои рисунки\Изображение\Изображение 013.jpg"/>
          <p:cNvPicPr/>
          <p:nvPr/>
        </p:nvPicPr>
        <p:blipFill>
          <a:blip r:embed="rId2"/>
          <a:srcRect l="1932" t="8147" r="4221" b="2913"/>
          <a:stretch/>
        </p:blipFill>
        <p:spPr>
          <a:xfrm>
            <a:off x="357120" y="1285920"/>
            <a:ext cx="5857920" cy="24289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14320" y="428400"/>
            <a:ext cx="65005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1f497d"/>
                </a:solidFill>
                <a:latin typeface="Bernard MT Condensed"/>
              </a:rPr>
              <a:t>Tous les enfants aiment se déguiser</a:t>
            </a:r>
            <a:endParaRPr b="0" lang="en-US" sz="6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9" name="Содержимое 4" descr="Изображение 014.jpg"/>
          <p:cNvPicPr/>
          <p:nvPr/>
        </p:nvPicPr>
        <p:blipFill>
          <a:blip r:embed="rId1"/>
          <a:srcRect l="0" t="0" r="0" b="4779"/>
          <a:stretch/>
        </p:blipFill>
        <p:spPr>
          <a:xfrm>
            <a:off x="642960" y="1571760"/>
            <a:ext cx="1365120" cy="185724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0" name="Содержимое 5" descr="Изображение 016.jpg"/>
          <p:cNvPicPr/>
          <p:nvPr/>
        </p:nvPicPr>
        <p:blipFill>
          <a:blip r:embed="rId2"/>
          <a:stretch/>
        </p:blipFill>
        <p:spPr>
          <a:xfrm>
            <a:off x="2143080" y="3786120"/>
            <a:ext cx="1365120" cy="19512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1" name="Picture 2" descr="C:\Documents and Settings\Хозяин\Мои документы\Мои рисунки\Изображение\Изображение 017.jpg"/>
          <p:cNvPicPr/>
          <p:nvPr/>
        </p:nvPicPr>
        <p:blipFill>
          <a:blip r:embed="rId3"/>
          <a:stretch/>
        </p:blipFill>
        <p:spPr>
          <a:xfrm>
            <a:off x="3857760" y="1857240"/>
            <a:ext cx="1365120" cy="19512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2" name="Picture 3" descr="C:\Documents and Settings\Хозяин\Мои документы\Мои рисунки\Изображение\Изображение 018.jpg"/>
          <p:cNvPicPr/>
          <p:nvPr/>
        </p:nvPicPr>
        <p:blipFill>
          <a:blip r:embed="rId4"/>
          <a:stretch/>
        </p:blipFill>
        <p:spPr>
          <a:xfrm>
            <a:off x="5214960" y="4000680"/>
            <a:ext cx="1268280" cy="195084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3" name="Picture 4" descr="C:\Documents and Settings\Хозяин\Мои документы\Мои рисунки\Изображение\Изображение 019.jpg"/>
          <p:cNvPicPr/>
          <p:nvPr/>
        </p:nvPicPr>
        <p:blipFill>
          <a:blip r:embed="rId5"/>
          <a:stretch/>
        </p:blipFill>
        <p:spPr>
          <a:xfrm>
            <a:off x="6858000" y="1928880"/>
            <a:ext cx="1463760" cy="195084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Содержимое 4" descr="Изображение 014.jpg"/>
          <p:cNvPicPr/>
          <p:nvPr/>
        </p:nvPicPr>
        <p:blipFill>
          <a:blip r:embed="rId1"/>
          <a:srcRect l="0" t="0" r="0" b="2602"/>
          <a:stretch/>
        </p:blipFill>
        <p:spPr>
          <a:xfrm>
            <a:off x="2286000" y="1428840"/>
            <a:ext cx="4143240" cy="50720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43040" y="704520"/>
            <a:ext cx="658656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Bernard MT Condensed"/>
              </a:rPr>
              <a:t>Qui est – ce</a:t>
            </a:r>
            <a:r>
              <a:rPr b="1" lang="ru-RU" sz="50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3071880" y="500040"/>
            <a:ext cx="423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Bernard MT Condensed"/>
              </a:rPr>
              <a:t>Qui est – ce</a:t>
            </a:r>
            <a:r>
              <a:rPr b="1" lang="ru-RU" sz="5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Содержимое 5" descr="Изображение 016.jpg"/>
          <p:cNvPicPr/>
          <p:nvPr/>
        </p:nvPicPr>
        <p:blipFill>
          <a:blip r:embed="rId1"/>
          <a:stretch/>
        </p:blipFill>
        <p:spPr>
          <a:xfrm>
            <a:off x="2620800" y="1590840"/>
            <a:ext cx="353556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2643120" y="500040"/>
            <a:ext cx="421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Bernard MT Condensed"/>
              </a:rPr>
              <a:t>Qui est – ce</a:t>
            </a:r>
            <a:r>
              <a:rPr b="1" lang="ru-RU" sz="5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Documents and Settings\Хозяин\Мои документы\Мои рисунки\Изображение\Изображение 017.jpg"/>
          <p:cNvPicPr/>
          <p:nvPr/>
        </p:nvPicPr>
        <p:blipFill>
          <a:blip r:embed="rId1"/>
          <a:stretch/>
        </p:blipFill>
        <p:spPr>
          <a:xfrm>
            <a:off x="2928960" y="1571760"/>
            <a:ext cx="2714760" cy="4143240"/>
          </a:xfrm>
          <a:prstGeom prst="rect">
            <a:avLst/>
          </a:prstGeom>
          <a:ln cap="sq" w="38160">
            <a:solidFill>
              <a:srgbClr val="95b3d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5:52:12Z</dcterms:created>
  <dc:creator>www.PHILka.RU</dc:creator>
  <dc:description/>
  <dc:language>en-US</dc:language>
  <cp:lastModifiedBy>BOSS</cp:lastModifiedBy>
  <dcterms:modified xsi:type="dcterms:W3CDTF">2019-10-10T19:09:22Z</dcterms:modified>
  <cp:revision>23</cp:revision>
  <dc:subject/>
  <dc:title>Слайд 1</dc:title>
</cp:coreProperties>
</file>