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8050-3070-493B-A4F5-217956EF1C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A750-802A-4B05-9512-3489A3CC9B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E51B-CBAF-445B-8EB5-68A33FA4C4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D764-A64E-4B28-A44A-70519D4A40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50D-3AB4-425E-ACF6-09B49E46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147-397D-43AC-B5F3-2F65E804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431-8867-4196-9153-C43DFCDA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59A-A868-42EA-9D46-D43FAD2D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169-DA2A-4589-BEB8-94C76B05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CAF-CE65-4038-A1F8-8679E313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A81-3523-4EF2-A508-FF24A350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E6F-6992-4328-B1D2-04967988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120-8303-4D9A-BB75-B9A2B47D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BC4-024B-49EF-9051-F057E187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B41-D7D8-4E64-B8B2-10A12F4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859-8D8A-488D-A64D-1CCEF699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ED8C-5292-4A5D-8A00-95E25249242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4214880"/>
            <a:ext cx="4572000" cy="23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a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9a"/>
                </a:solidFill>
                <a:latin typeface="Arial"/>
              </a:rPr>
              <a:t>учитель-логопед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a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339a"/>
                </a:solidFill>
                <a:latin typeface="Arial"/>
              </a:rPr>
              <a:t>Шабельник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a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9a"/>
                </a:solidFill>
                <a:latin typeface="Arial"/>
              </a:rPr>
              <a:t>Клавдия Степановна</a:t>
            </a:r>
            <a:r>
              <a:rPr b="0" lang="ru-RU" sz="2800" spc="-1" strike="noStrike">
                <a:solidFill>
                  <a:srgbClr val="00339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857160" y="500040"/>
            <a:ext cx="79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 «СОШ №1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4" descr=""/>
          <p:cNvPicPr/>
          <p:nvPr/>
        </p:nvPicPr>
        <p:blipFill>
          <a:blip r:embed="rId1"/>
          <a:stretch/>
        </p:blipFill>
        <p:spPr>
          <a:xfrm>
            <a:off x="639720" y="1359000"/>
            <a:ext cx="829152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im4-tub-ru.yandex.net/i?id=39795694-55-72&amp;n=21"/>
          <p:cNvPicPr/>
          <p:nvPr/>
        </p:nvPicPr>
        <p:blipFill>
          <a:blip r:embed="rId2"/>
          <a:stretch/>
        </p:blipFill>
        <p:spPr>
          <a:xfrm>
            <a:off x="642960" y="2857680"/>
            <a:ext cx="357192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http://im6-tub-ru.yandex.net/i?id=90690580-20-72&amp;n=21"/>
          <p:cNvPicPr/>
          <p:nvPr/>
        </p:nvPicPr>
        <p:blipFill>
          <a:blip r:embed="rId3"/>
          <a:stretch/>
        </p:blipFill>
        <p:spPr>
          <a:xfrm>
            <a:off x="7786800" y="2286000"/>
            <a:ext cx="10760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 rot="21187200">
            <a:off x="0" y="596520"/>
            <a:ext cx="415908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варный запа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95280" y="1844640"/>
            <a:ext cx="4537080" cy="44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К 7 годам у ребёнка должен быть достаточно большой словарный запас </a:t>
            </a:r>
            <a:r>
              <a:rPr b="0" lang="ru-RU" sz="1400" spc="-1" strike="noStrike">
                <a:solidFill>
                  <a:srgbClr val="01316b"/>
                </a:solidFill>
                <a:latin typeface="Arial"/>
              </a:rPr>
              <a:t>(около  3000  слов)</a:t>
            </a:r>
            <a:r>
              <a:rPr b="0" lang="ru-RU" sz="18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В своей речи он должен активно использовать антонимы (грустный -весёлый, молодой – старый), синонимы (например, лошадь, конь, жеребец, скакун), слова – действия, слова –</a:t>
            </a:r>
            <a:r>
              <a:rPr b="0" lang="ru-RU" sz="20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признаки.</a:t>
            </a:r>
            <a:r>
              <a:rPr b="0" lang="ru-RU" sz="2000" spc="-1" strike="noStrike">
                <a:solidFill>
                  <a:srgbClr val="4832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148360" y="3365640"/>
            <a:ext cx="352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788000" y="615240"/>
            <a:ext cx="403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Ребенок должен уметь пользоваться разными способами словообразования, правильно употреблять слова с уменьшительно-ласкательным значением, образовывать слова в нужной форме, выделять звуковые и смысловые различия между словами; образовывать прилагательные от существ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лист"/>
          <p:cNvPicPr/>
          <p:nvPr/>
        </p:nvPicPr>
        <p:blipFill>
          <a:blip r:embed="rId1"/>
          <a:stretch/>
        </p:blipFill>
        <p:spPr>
          <a:xfrm>
            <a:off x="3635280" y="558972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мматичес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стр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речи</a:t>
            </a:r>
            <a:br>
              <a:rPr sz="36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норме к 6 – 7 годам у ребенка сформированы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43040"/>
            <a:ext cx="8400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ние пользоваться развернутой фразовой речью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ние работать с предложен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о строить простые предлож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еть связь слов в предложениях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ространять предложения второстепенными и однородными член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ть с деформированным предложение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 находить ошибки и устранять 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ять предложения по опорным словам и картинка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зная реч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316b"/>
                </a:solidFill>
                <a:latin typeface="Calibri"/>
              </a:rPr>
              <a:t>При пересказе обращается внимание</a:t>
            </a:r>
            <a:r>
              <a:rPr b="0" lang="ru-RU" sz="2800" spc="-1" strike="noStrike">
                <a:solidFill>
                  <a:srgbClr val="01316b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1316b"/>
                </a:solidFill>
                <a:latin typeface="Calibri"/>
              </a:rPr>
              <a:t>на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316b"/>
                </a:solidFill>
                <a:latin typeface="Calibri"/>
              </a:rPr>
              <a:t>понимание ребёнком текста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316b"/>
                </a:solidFill>
                <a:latin typeface="Calibri"/>
              </a:rPr>
              <a:t>логическое построение рассказ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316b"/>
                </a:solidFill>
                <a:latin typeface="Calibri"/>
              </a:rPr>
              <a:t>лексику (полнота использования лексики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316b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1316b"/>
                </a:solidFill>
                <a:latin typeface="Calibri"/>
              </a:rPr>
              <a:t>грамматику (он должен правильно строить предложения, уметь использовать сложные предложения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316b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1316b"/>
                </a:solidFill>
                <a:latin typeface="Calibri"/>
              </a:rPr>
              <a:t>интонационную выразительность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22" descr="anmated_doll_100048.gif"/>
          <p:cNvPicPr/>
          <p:nvPr/>
        </p:nvPicPr>
        <p:blipFill>
          <a:blip r:embed="rId1"/>
          <a:stretch/>
        </p:blipFill>
        <p:spPr>
          <a:xfrm>
            <a:off x="6786720" y="1714680"/>
            <a:ext cx="2124000" cy="2043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лкая моторика р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1071720"/>
            <a:ext cx="83581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Calibri"/>
              </a:rPr>
              <a:t>Чтобы подготовить руки ребенка к письму  необходимо 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пить, конструиров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водить разные предметы, шаблон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триховать рисунки, раскрашив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езать различные рисунки, фигур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низывать колечки, бусы, фишки и т.д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винчивать, завинчивать, закручивать и т.д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бирать, разбирать цепочки, пирамид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бирать мелкие предметы (пуговицы, бусы, шарики семена, крупы и т.д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baby44"/>
          <p:cNvPicPr/>
          <p:nvPr/>
        </p:nvPicPr>
        <p:blipFill>
          <a:blip r:embed="rId1"/>
          <a:stretch/>
        </p:blipFill>
        <p:spPr>
          <a:xfrm>
            <a:off x="6000840" y="1500120"/>
            <a:ext cx="228600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важаемые родите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213920"/>
            <a:ext cx="89647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339a"/>
                </a:solidFill>
                <a:latin typeface="Calibri"/>
              </a:rPr>
              <a:t>Если ваш ребенок имеет трудности в речевом развитии и нуждается в специальной помощи, не стоит </a:t>
            </a:r>
            <a:r>
              <a:rPr b="0" lang="ru-RU" sz="4000" spc="-1" strike="noStrike">
                <a:solidFill>
                  <a:srgbClr val="00339a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339a"/>
                </a:solidFill>
                <a:latin typeface="Calibri"/>
              </a:rPr>
              <a:t>надеяться на то, что он</a:t>
            </a:r>
            <a:r>
              <a:rPr b="0" lang="ru-RU" sz="4000" spc="-1" strike="noStrike">
                <a:solidFill>
                  <a:srgbClr val="00339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339a"/>
                </a:solidFill>
                <a:latin typeface="Calibri"/>
              </a:rPr>
              <a:t>«вырастет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a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339a"/>
                </a:solidFill>
                <a:latin typeface="Calibri"/>
              </a:rPr>
              <a:t>и сам научиться говорить»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f2c1f"/>
                </a:solidFill>
                <a:latin typeface="Tahoma"/>
              </a:rPr>
              <a:t>Необходимо обрат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f2c1f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cf2c1f"/>
                </a:solidFill>
                <a:latin typeface="Tahoma"/>
              </a:rPr>
              <a:t>к логопед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50" autoRev="1" fill="remov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250" autoRev="1" fill="remov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250" autoRev="1" fill="remov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remov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remov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remov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АВЛЕНИЯ РАБОТЫ ЛОГОПЕДА НА ПОДГОТОВИТЕЛЬНЫХ КУРС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357200"/>
          <a:ext cx="8115480" cy="5410440"/>
        </p:xfrm>
        <a:graphic>
          <a:graphicData uri="http://schemas.openxmlformats.org/drawingml/2006/table">
            <a:tbl>
              <a:tblPr/>
              <a:tblGrid>
                <a:gridCol w="399960"/>
                <a:gridCol w="6572520"/>
                <a:gridCol w="1143000"/>
              </a:tblGrid>
              <a:tr h="73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тика за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ЛЕДОВАНИЕ УРОВНЯ РЕЧЕВ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 ЧА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вукопроизношения, словаря и грамматического стро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рессивной реч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УПРЕЖДЕНИЕ НАРУШЕНИЙ ПИСЬМЕННОЙ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0 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пространственного гнозис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 фонематического слуха и восприя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выков звукового анализа и синте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мелкой мотори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НАД СВЯЗНОЙ РЕЧ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ЧА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ение рассказов по серии карти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ска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ные сочи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 rot="21187200">
            <a:off x="139320" y="596160"/>
            <a:ext cx="41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занятий требуе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85840" y="2060640"/>
            <a:ext cx="39290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1.Тетрадь из серии «Говорим правиль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автор С.В. Бур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«Гласные и согласн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2. Цветные каранд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3. Простой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лист"/>
          <p:cNvPicPr/>
          <p:nvPr/>
        </p:nvPicPr>
        <p:blipFill>
          <a:blip r:embed="rId1"/>
          <a:stretch/>
        </p:blipFill>
        <p:spPr>
          <a:xfrm>
            <a:off x="3143160" y="54291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5148360" y="29743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a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784934.gif"/>
          <p:cNvPicPr/>
          <p:nvPr/>
        </p:nvPicPr>
        <p:blipFill>
          <a:blip r:embed="rId2"/>
          <a:stretch/>
        </p:blipFill>
        <p:spPr>
          <a:xfrm>
            <a:off x="4932360" y="549360"/>
            <a:ext cx="3846600" cy="528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4240" y="1285560"/>
            <a:ext cx="7889760" cy="4357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Franklin Gothic Medium"/>
                <a:ea typeface="Tahoma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f2c1f"/>
                </a:solidFill>
                <a:latin typeface="Arial"/>
              </a:rPr>
              <a:t>Речь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лавный показатель умственного развития ребёнка</a:t>
            </a:r>
            <a:r>
              <a:rPr b="0" lang="ru-RU" sz="3600" spc="-1" strike="noStrike">
                <a:solidFill>
                  <a:srgbClr val="cf2c1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5" descr="http://im0-tub-ru.yandex.net/i?id=149270702-64-72&amp;n=21"/>
          <p:cNvPicPr/>
          <p:nvPr/>
        </p:nvPicPr>
        <p:blipFill>
          <a:blip r:embed="rId1"/>
          <a:stretch/>
        </p:blipFill>
        <p:spPr>
          <a:xfrm>
            <a:off x="214200" y="1428840"/>
            <a:ext cx="4214880" cy="450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286160" y="1356840"/>
            <a:ext cx="485784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a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00339a"/>
                </a:solidFill>
                <a:latin typeface="Arial"/>
              </a:rPr>
              <a:t>Готовность к обучению ребёнка в школе во многом определяется уровнем  речевого развития. Чем лучше у него будет развита речь до поступления в школу, тем быстрее ученик овладеет чтением и письм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 Unicode MS"/>
              </a:rPr>
              <a:t>Сравнительные результаты речевого развития учащихся 1-х классов в 2012 -13 и 2013-14 уч.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Object 3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825660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Цель деятельности учителя - логопеда в школ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4200" y="1714680"/>
            <a:ext cx="4500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еспечение оптимального логопедического сопровождения учебно-коррекционного процесса, способствующего успешному усвоению школьной программы учащимися с нарушениями речи и стойкой  неуспеваем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ttp://im6-tub-ru.yandex.net/i?id=247332703-06-72&amp;n=21"/>
          <p:cNvPicPr/>
          <p:nvPr/>
        </p:nvPicPr>
        <p:blipFill>
          <a:blip r:embed="rId2"/>
          <a:stretch/>
        </p:blipFill>
        <p:spPr>
          <a:xfrm>
            <a:off x="4786200" y="171468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структуру логопедического урока вход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12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 развитие артикуляционной мотор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Формирование фонематических процес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работа над, звуко - слоговым анализом сл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обогащение и активизация словарного запа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Коррекция звукопроизно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упражнения для развит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лкой мотор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коррекция письменной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условленной различны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дами дисграф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http://im2-tub-ru.yandex.net/i?id=124068469-13-72&amp;n=21"/>
          <p:cNvPicPr/>
          <p:nvPr/>
        </p:nvPicPr>
        <p:blipFill>
          <a:blip r:embed="rId1"/>
          <a:stretch/>
        </p:blipFill>
        <p:spPr>
          <a:xfrm>
            <a:off x="5286240" y="3071880"/>
            <a:ext cx="3143520" cy="25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http://im2-tub-ru.yandex.net/i?id=124068469-13-72&amp;n=21"/>
          <p:cNvPicPr/>
          <p:nvPr/>
        </p:nvPicPr>
        <p:blipFill>
          <a:blip r:embed="rId2"/>
          <a:stretch/>
        </p:blipFill>
        <p:spPr>
          <a:xfrm>
            <a:off x="5286240" y="3071880"/>
            <a:ext cx="31435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С «ЛОГОТЕРАПЕВТИЧЕСК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E:\Копия P1030765.JPG"/>
          <p:cNvPicPr/>
          <p:nvPr/>
        </p:nvPicPr>
        <p:blipFill>
          <a:blip r:embed="rId1"/>
          <a:stretch/>
        </p:blipFill>
        <p:spPr>
          <a:xfrm>
            <a:off x="1176480" y="1600200"/>
            <a:ext cx="679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вукопроизношение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7 годам он должен уметь произносить все звуки родного язы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истящие: С - 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ипящие: Ш - 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норные: Л – Р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фрикаты: Ц- Ч-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im5-tub-ru.yandex.net/i?id=431636815-38-72&amp;n=21"/>
          <p:cNvPicPr/>
          <p:nvPr/>
        </p:nvPicPr>
        <p:blipFill>
          <a:blip r:embed="rId1"/>
          <a:stretch/>
        </p:blipFill>
        <p:spPr>
          <a:xfrm>
            <a:off x="4357800" y="2357280"/>
            <a:ext cx="3929040" cy="3481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ематический слу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еть слушать и слышать други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фференцировать звуки на слу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личать оппозиционные зву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фференцировать мягкие и твёрдые зву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ять на слух звонкие и глухие соглас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1" descr="http://im1-tub-ru.yandex.net/i?id=316437151-64-72&amp;n=21"/>
          <p:cNvPicPr/>
          <p:nvPr/>
        </p:nvPicPr>
        <p:blipFill>
          <a:blip r:embed="rId1"/>
          <a:stretch/>
        </p:blipFill>
        <p:spPr>
          <a:xfrm>
            <a:off x="6357960" y="1714680"/>
            <a:ext cx="257184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ладение элементарными навыками звукового анали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3840" y="121428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ышать и выделять первый и последний согласный звук в сло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ять количество и последовательность зву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л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ывать слова на задан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в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ильно употребля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рмины звук», «слог», «слово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дложение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дети"/>
          <p:cNvPicPr/>
          <p:nvPr/>
        </p:nvPicPr>
        <p:blipFill>
          <a:blip r:embed="rId1"/>
          <a:stretch/>
        </p:blipFill>
        <p:spPr>
          <a:xfrm>
            <a:off x="5357880" y="3000240"/>
            <a:ext cx="3429000" cy="258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/>
  <dcterms:modified xsi:type="dcterms:W3CDTF">2019-10-10T10:23:58Z</dcterms:modified>
  <cp:revision>22</cp:revision>
  <dc:subject/>
  <dc:title>Логопедическая готовность к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9990</vt:lpwstr>
  </property>
</Properties>
</file>