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40D-F63D-4337-AE88-B022BACC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972-A2EC-4183-B125-A11D047A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FFF-42D5-4E25-B729-D6DD974A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141-1F10-444F-B299-4ED56B22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7B8-CFDB-4CA3-ABD7-935D95D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C08-E6D2-41C5-8334-2BDEDB3A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DC3-7A7A-49A7-A876-E88CDF51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292-B59A-4B50-9F4D-B25EA76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11F-448A-46F7-8521-736AD56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6CC-8D51-48E0-86C9-DF5BF5B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A6D-F024-448F-BE84-442B1BE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431-145D-4582-AC60-244EE77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B2A1-B60A-45E5-B07F-17440431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детьми старшего дошкольного возраста отношения «часть - целое» в контексте решения арифметическ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хаметшина Г.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оначально у детей формируется умение объединять группы, затем удалять часть из целого и уравнивать совокуп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ачале дошкольника учат видеть предметы в целом, определять по какому признаку они объединены в целое. Детей упражняют в выделении предметов по виду, цвету, форме, размеру. Воспитатель учит ребят практически определять, в какой из двух сравниваемых групп предметов больше (меньше) или их количество равно, раскрывает им смысл отношений больше, меньше, равно. Для занятий можно использовать можно использовать игрушки разных видов в равном и не равном количестве; предметные картинки, геометрические фигуры разного цвета, формы, размеров; шнурки, ленточки разного цвета и 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но поставить на стол 5 матрешек и 5 пирамидок. Обвести круговым движением все игрушки и спросить: «Как одним словом назвать все это? Каким словом, не считая, можно сказать, сколько игрушек на столе? Из каких видов игрушек составлена эта группа?» В беседе должно участвовать несколько детей. После того как дети определят, что на столе стоят игрушки (группа), одна часть которых — матрешки, а другая — пирамидки, и круговым движением выделят совокупность и составляющие ее части, ставится следующий вопрос, подводящий детей к новому способу выделения целого и частей в нем: «Можно ли сделать так, чтобы было видно, что в целой группе игрушек две группы?» Для этой цели можно использовать цветные шнурки и ленточки. После трех — четырех подобных упражнений уже на другом материале дети устанавливают, что в целом имеются дв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альнейшем необходимо продолжать упражнять детей в выделении общих характерных свойств целой совокупности и составляющих ее частей и отдельных предметов, учить дошкольников графически изображать структуру целого с помощью окружностей, устанавливать соответствие между объектами частей, соединяя их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928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в детском саду, так и в школе значительное место  уделяется решению арифметических задач. Но обучение арифметическим задачам не должны быть самоцелью. Задачи являются одним из средств логического мышления. Профессор А.И.Маркушевич пиш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…За арифметикой, в особенности за арифметическими задачами, всегда признавалась и другая исключительная роль в обучении, а именно развитие сообразительности, смекалки 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боте с задачами совершенствуются умения проводить анализ и синтез, обобщать и конкретизировать, раскрывать основное, выделять главное в тексте и отбрасывать несущественное, второстеп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7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цессе математического и общего умственного развития детей старшего дошкольного  возраста существенное место занимает обучение их решению и составлению  простых арифмет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обучения дошкольников решению простых арифметических задач - научить находить то арифметическое действие, которым они решаются. Решая простые задачи, дошкольники знакомятся с арифметическими действиями сложения и вычитания, учатся рассуждать, выполнять основные умственные оп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содержания разновидностей простых арифметических задач требует от дошкольников разных по глубине мыслительных процессов, которые способствуют их ум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простой задачи требует от ребенка анализа ее содержания, выделения данных и ископаемого, установления связей между ними и на этой основе выбора соответствующего арифметического действия. Анализ решения задач детьми старшего дошкольного возраста показывает, что зачастую выбор арифметического действия определяется словами: подарили, купили, которые имеются в условии задачи. Если в условии задачи нет таких слов, раскрывающих связи между компонентами и результатами арифметических действий, дошкольники решают их с ошибками. Они правильно определяют ответ, но затрудняются сформулировать арифметическое 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старшего дошкольного возраста, решая простые задачи разного вида, находятся еще на уровне эмпирического понимания самой сущности арифметического действия сложения (вычит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м обусловлены затруднения в выборе и формулировке арифметического действия в задачах, где отсутствует динамика, где лишь описываются те или иные качественные признаки предметов в их числовом значении. В таких случаях некоторые дети склонны искать ответ путем элементарного пересчитывания совокупностей, а не путем поисков арифметического действия выч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следовании Г. П. Щедровицкого указано, что понимание содержания простых арифметических задач и правильный выбор арифметического действия для решения задачи зависят от степени усвоения дошкольниками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шения целое -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Он пишет, что отношение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ое -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должно быть представлено для ребенка как модель совокупностей, о которых идет речь в задаче. Это отношение помогает выделить в арифметической задаче операцию объединения (разъединения) совокупностей. Ориентируясь на эту модель, дети могут выделять целое, часть в задаче и составить арифметическое вы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дети могут выделить в задаче отношение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ое -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ни успешно решают задачи разных в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. И. Непомнящая, проводя психологический анализ обучения детей трех -семи лет на материале математики, определила содержание обучения арифметическим действиям сложения и вычитания в дошкольном возрасте. Она указывает, что полноценное усвоение дошкольниками содержания арифметического действия осуществляется только при таком способе обучения, когда рассказывается сущность уравнивания, устано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шения целое - часть и сче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анные типы действий должны производиться на одних и тех же объектах. Объекты, над которыми производятся действия, должны находиться в двух отношениях: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ое -часть и 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, состоять из элементов, которые можно пересчитать. Вот поэтому дети, не овладевшие этими действиями и средствами фиксации связей этих действий, как правило, затрудняются решать простые задачи разных типов и выполняют вычисления на уровне счета (пересчитывают оба слагаемых или считают остато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ение детей старшего дошкольного возраста решению простых текстовых задач осуществляется в два эта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ервом - детей учат объединять, разъединять и уравнивать совокупности предметов, устанавливать связи и отношения между целым и частями, фиксировать 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тором - у дошкольников вырабатывают умение анализировать и решать простые арифметически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важно учить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нимать структуру, целого (множества), словесно описывать его и графически изображ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ть признак, по которому можно сравнивать совокупности, пользуясь различными приемами, устанавливать и фиксировать отношения больше, меньше, равно, знакомя при этом со знаками больше (&gt;), меньше (&lt;), равно (=); сравнивать предметы, пользуясь разными приемами, по длине, ширине, высоте; понимать и использовать в своей речи выражения, отражающие признак сравнения и количественную оценку сравниваемых предметов, совокуп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операции с совокупностями. Дать представление о том, что при объединении двух типов получается новая группа (как целое), в которую входят все предметы (обе части). Обучая удалению части множества из целого, формируют представление о том, что, если из целого удалена часть, в нем остается другая часть элементов, детей учат выполнять эти действия графически, упражняют в установлении отношений больше, меньше, равно между целым и составляющими его ч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основе операций над совокупностями учат понимать сущность арифметических действий сложения и вычитания, связи между компонентами и результатом сложения (вычитания), а также связи между самими действиями сложения и выч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ть и решать простые арифметические задачи, анализировать их, выделяя известное и неизвестное, на основе определения отношений между целым и частями фиксировать результаты анализа сначала с помощью условных знаков, а затем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19:19:12Z</dcterms:created>
  <dc:creator>user</dc:creator>
  <dc:description/>
  <dc:language>en-US</dc:language>
  <cp:lastModifiedBy>user</cp:lastModifiedBy>
  <dcterms:modified xsi:type="dcterms:W3CDTF">2015-02-07T20:06:37Z</dcterms:modified>
  <cp:revision>2</cp:revision>
  <dc:subject/>
  <dc:title>Слайд 1</dc:title>
</cp:coreProperties>
</file>