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8.jpeg" ContentType="image/jpeg"/>
  <Override PartName="/ppt/media/image2.gif" ContentType="image/gif"/>
  <Override PartName="/ppt/media/image12.png" ContentType="image/png"/>
  <Override PartName="/ppt/media/image7.png" ContentType="image/png"/>
  <Override PartName="/ppt/media/image9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3.jpeg" ContentType="image/jpeg"/>
  <Override PartName="/ppt/media/image15.png" ContentType="image/png"/>
  <Override PartName="/ppt/media/image6.png" ContentType="image/png"/>
  <Override PartName="/ppt/media/image11.png" ContentType="image/png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232A-7C85-4B1D-B8EC-81F558FF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765C-19F3-44B7-AE68-9F7FCC22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AD4D-BD42-4A70-879C-568BA7C71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BFA9-F1F5-493F-A929-58A976929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9A1D-B4E2-4306-8BE8-513E3908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E6A9-6819-4794-B121-F2DAEC7A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8FC7-78BF-4515-B86A-20816F88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60B1-2E66-42E6-BEF7-909C8D36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35AC-B6F5-4C13-A5E2-0ED768BC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F580-B469-4C96-911E-F7E4158B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62EE-9856-4824-AFCF-591F63B7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8392-D54A-407B-AFD0-0CD0F218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" name="Picture 3" descr="uzor"/>
          <p:cNvPicPr/>
          <p:nvPr/>
        </p:nvPicPr>
        <p:blipFill>
          <a:blip r:embed="rId2"/>
          <a:srcRect l="0" t="302" r="0" b="7755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2DC6-25E3-4094-8584-31001B1EDD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detsad-journal.narod.ru/new.htm" TargetMode="External"/><Relationship Id="rId2" Type="http://schemas.openxmlformats.org/officeDocument/2006/relationships/hyperlink" Target="http://www.ivalex.vistcom.ru/" TargetMode="External"/><Relationship Id="rId3" Type="http://schemas.openxmlformats.org/officeDocument/2006/relationships/hyperlink" Target="http://doshvozrast.ru/konspekt/konspekt.htm" TargetMode="External"/><Relationship Id="rId4" Type="http://schemas.openxmlformats.org/officeDocument/2006/relationships/hyperlink" Target="http://www.detskiysad.ru/rech/metodika04.html%20&#1044;&#1077;&#1090;&#1089;&#1082;&#1080;&#1081;%20&#1089;&#1072;&#1076;%20.&#1088;&#1091;" TargetMode="External"/><Relationship Id="rId5" Type="http://schemas.openxmlformats.org/officeDocument/2006/relationships/hyperlink" Target="http://www.profkniga.ru/cat/1011.htm" TargetMode="External"/><Relationship Id="rId6" Type="http://schemas.openxmlformats.org/officeDocument/2006/relationships/hyperlink" Target="http://ldv.metodcenter.edusite.ru/p14aa1.html" TargetMode="External"/><Relationship Id="rId7" Type="http://schemas.openxmlformats.org/officeDocument/2006/relationships/hyperlink" Target="http://www.zayka.ru/" TargetMode="External"/><Relationship Id="rId8" Type="http://schemas.openxmlformats.org/officeDocument/2006/relationships/hyperlink" Target="http://www.biografia.ru/" TargetMode="External"/><Relationship Id="rId9" Type="http://schemas.openxmlformats.org/officeDocument/2006/relationships/hyperlink" Target="http://www.school.edu.ru/" TargetMode="External"/><Relationship Id="rId10" Type="http://schemas.openxmlformats.org/officeDocument/2006/relationships/hyperlink" Target="http://www.ourkids/" TargetMode="External"/><Relationship Id="rId11" Type="http://schemas.openxmlformats.org/officeDocument/2006/relationships/hyperlink" Target="http://www.kids.bayard.ru/" TargetMode="External"/><Relationship Id="rId12" Type="http://schemas.openxmlformats.org/officeDocument/2006/relationships/hyperlink" Target="http://www.doshkolnik.ru/" TargetMode="External"/><Relationship Id="rId13" Type="http://schemas.openxmlformats.org/officeDocument/2006/relationships/hyperlink" Target="http://www.malishi.ru/" TargetMode="External"/><Relationship Id="rId14" Type="http://schemas.openxmlformats.org/officeDocument/2006/relationships/hyperlink" Target="http://www.danilova.ru/" TargetMode="External"/><Relationship Id="rId15" Type="http://schemas.openxmlformats.org/officeDocument/2006/relationships/hyperlink" Target="http://www.ivalex.vistcom.ru/" TargetMode="External"/><Relationship Id="rId16" Type="http://schemas.openxmlformats.org/officeDocument/2006/relationships/hyperlink" Target="http://cw.ru/communities/107" TargetMode="External"/><Relationship Id="rId17" Type="http://schemas.openxmlformats.org/officeDocument/2006/relationships/hyperlink" Target="http://stranamasterov.ru/" TargetMode="External"/><Relationship Id="rId18" Type="http://schemas.openxmlformats.org/officeDocument/2006/relationships/hyperlink" Target="http://www.mirknig.com/design/" TargetMode="External"/><Relationship Id="rId19" Type="http://schemas.openxmlformats.org/officeDocument/2006/relationships/hyperlink" Target="http://www.viki.rdf.ru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0" y="23004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0" y="23004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0" y="23004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WordArt 18"/>
          <p:cNvSpPr txBox="1"/>
          <p:nvPr/>
        </p:nvSpPr>
        <p:spPr>
          <a:xfrm>
            <a:off x="1324080" y="2492280"/>
            <a:ext cx="7164360" cy="16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общение дете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 ценностям народной культуры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средством чувашских  сказо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.В. Никольског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9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Century Schoolbook"/>
                <a:ea typeface="Times New Roman"/>
              </a:rPr>
              <a:t>Муниципальное бюджетное общеобразовательное учреждение</a:t>
            </a:r>
            <a:br>
              <a:rPr sz="1600"/>
            </a:br>
            <a:r>
              <a:rPr b="1" lang="ru-RU" sz="1600" spc="-1" strike="noStrike">
                <a:solidFill>
                  <a:srgbClr val="006600"/>
                </a:solidFill>
                <a:latin typeface="Century Schoolbook"/>
                <a:ea typeface="Times New Roman"/>
              </a:rPr>
              <a:t>«Сосновская основная общеобразовательная школа им. Н.В. Никольского»</a:t>
            </a:r>
            <a:br>
              <a:rPr sz="1600"/>
            </a:br>
            <a:r>
              <a:rPr b="1" lang="ru-RU" sz="1600" spc="-1" strike="noStrike">
                <a:solidFill>
                  <a:srgbClr val="006600"/>
                </a:solidFill>
                <a:latin typeface="Century Schoolbook"/>
                <a:ea typeface="Times New Roman"/>
              </a:rPr>
              <a:t>Моргаушского района Чувашской Республ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90800" y="1936800"/>
            <a:ext cx="617688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"/>
          </a:bodyPr>
          <a:p>
            <a:pPr marL="20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entury Schoolbook"/>
              </a:rPr>
              <a:t>Методическая разработ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Century Schoolbook"/>
              </a:rPr>
              <a:t>                              </a:t>
            </a:r>
            <a:r>
              <a:rPr b="0" lang="ru-RU" sz="1600" spc="-1" strike="noStrike">
                <a:solidFill>
                  <a:srgbClr val="006600"/>
                </a:solidFill>
                <a:latin typeface="Century Schoolbook"/>
              </a:rPr>
              <a:t>Составил  воспитатель дошкольной групп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Century Schoolbook"/>
              </a:rPr>
              <a:t>           </a:t>
            </a:r>
            <a:r>
              <a:rPr b="0" lang="ru-RU" sz="1600" spc="-1" strike="noStrike">
                <a:solidFill>
                  <a:srgbClr val="006600"/>
                </a:solidFill>
                <a:latin typeface="Century Schoolbook"/>
              </a:rPr>
              <a:t>при МБОУ «Сосновская  ООШ» им. Н.В.  Никольског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Century Schoolbook"/>
              </a:rPr>
              <a:t>                        </a:t>
            </a:r>
            <a:r>
              <a:rPr b="0" lang="ru-RU" sz="1600" spc="-1" strike="noStrike">
                <a:solidFill>
                  <a:srgbClr val="006600"/>
                </a:solidFill>
                <a:latin typeface="Century Schoolbook"/>
              </a:rPr>
              <a:t>Моргаушского  района Чувашской Республ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Century Schoolbook"/>
              </a:rPr>
              <a:t>                                              </a:t>
            </a:r>
            <a:r>
              <a:rPr b="0" lang="ru-RU" sz="1600" spc="-1" strike="noStrike">
                <a:solidFill>
                  <a:srgbClr val="006600"/>
                </a:solidFill>
                <a:latin typeface="Century Schoolbook"/>
              </a:rPr>
              <a:t>Максимова Елена Вениаминов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Century Schoolbook"/>
              </a:rPr>
              <a:t>                                          </a:t>
            </a:r>
            <a:r>
              <a:rPr b="0" lang="ru-RU" sz="1600" spc="-1" strike="noStrike">
                <a:solidFill>
                  <a:srgbClr val="006600"/>
                </a:solidFill>
                <a:latin typeface="Century Schoolbook"/>
              </a:rPr>
              <a:t>2018 го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34720" y="245880"/>
            <a:ext cx="7713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нтернет адреса  для ДОУ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90080" y="282240"/>
            <a:ext cx="80535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ж-л  Детский сад от а до я     </a:t>
            </a:r>
            <a:r>
              <a:rPr b="0" lang="ru-RU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detsad-journal.narod.ru/new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писаться на журнал Вы можете во всех отделениях связи. Подписной индекс по каталогу Агентства "Роспечать" 817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ivalex.vistcom.ru/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Все для детского са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doshvozrast.ru/konspekt/konspekt.htm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Воспитание детей дошкольного возраст а в детском сад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detskiysad.ru/rech/metodika04.html Детский сад .р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profkniga.ru/cat/1011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http://ldv.metodcenter.edusite.ru/p14aa1.html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Каталог журна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www.zayka.ru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нообразные материалы по воспитанию и обучению ребенка, практические материалы и развивающие игр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www.biografia.ru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разделе «детский сад» материалы по различным вопросам детского воспитания, обучения, развития, детской психологии и т.д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www.school.edu.ru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талог сайтов по темам дошкольное образование, педагогика и педагогическое образование, коррекционная педагогика, дополнительное воспитание и образ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www.ourkid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Сайт для родителей и педагогов. Представлены статьи о развитии, воспитании, здоровье детей. Много развивающих игр по развитию речи, внимания, памяти, мышления. Готовые пособия, материалы для занятий рисованием, разнообразные раскраски и т.д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www.kids.bayard.ru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Загадки, скороговорки, считалки, игры, маски, раскраски, поделки из бумаги и не только, информация о детских болезнях, фотогалере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www.doshkolnik.ru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ного стихов, сказок, умных задачек, игр, познавательных статей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www.malishi.ru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Развивающие игры с ребенком дома и на улице, обучение дошкольников иностранным языкам, истории и географии, счету, чтению, письму, развитие творческих способностей, физическое развитие, психология и воспитани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www.danilova.ru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Информационный портал для родителей. Материалы о речевом, эстетическом физическом развитии детей, о развитии мелкой моторики, обучении иностранным языкам и т.д. есть форум, ссылки и каталог полезных адресо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4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www.ivalex.vistcom.ru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Сайт для педагогов. Все для детского сада. Методические разработки, консультации для воспитателей, конспекты занятий с детьми, игры и т.д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http://cw.ru/communities/107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рукодел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http://stranamasterov.ru/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Страна мастер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http://www.mirknig.com/design/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Дизайн мир кни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личные презентации на сайте –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www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k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f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игинал находится по этому адресу - http://igrushky.com/prez/zvuki_2.z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игинал находится по этому адресу http://babyroom.narod.ru/prezent1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35240" y="184320"/>
            <a:ext cx="7634160" cy="66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Актуальность</a:t>
            </a:r>
            <a:r>
              <a:rPr b="0" lang="ru-RU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следования определяется ростом интереса к духовной культуре народов, развитием национального самосозна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самая благодатная почва, имеющая неограниченные возможности по  приобщению старших дошкольников  к культуре родного края  – это </a:t>
            </a:r>
            <a:r>
              <a:rPr b="0" lang="ru-RU" sz="2000" spc="-1" strike="noStrike">
                <a:solidFill>
                  <a:srgbClr val="990000"/>
                </a:solidFill>
                <a:latin typeface="Times New Roman"/>
              </a:rPr>
              <a:t>сказ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imes New Roman"/>
              </a:rPr>
              <a:t>Степень новизны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лагаем  изменить своё отношение к использованию сказочного материала для формирования у старших детей  дошкольного   возраста интереса к устному народному творчеству и истории своего народа. До сих пор сказки рассмат-ривались, как одно из многочисленных дополнительных средств по  приобщению детей к истокам чувашской  народной, мы же пред-лагаем взять сказку  как основное средство  по приобщению детей к ценностям народной культуры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990000"/>
                </a:solidFill>
                <a:latin typeface="Times New Roman"/>
              </a:rPr>
              <a:t>Цель исследовани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основание и определение педагогических условий приобщения детей старшего дошкольного возраста к ценностям народной культуры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Times New Roman"/>
              </a:rPr>
              <a:t>Объект исследовани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едагогический процесс приобщения детей  старшего дошкольного возраста к ценностям народной культуры. </a:t>
            </a:r>
            <a:r>
              <a:rPr b="1" i="1" lang="ru-RU" sz="2000" spc="-1" strike="noStrike">
                <a:solidFill>
                  <a:srgbClr val="990000"/>
                </a:solidFill>
                <a:latin typeface="Times New Roman"/>
              </a:rPr>
              <a:t>Предмет исследов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 содержание художественно-творческой деятельности детей  на основе ценностей сказок чувашского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род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fimo+"/>
          <p:cNvPicPr/>
          <p:nvPr/>
        </p:nvPicPr>
        <p:blipFill>
          <a:blip r:embed="rId1"/>
          <a:stretch/>
        </p:blipFill>
        <p:spPr>
          <a:xfrm>
            <a:off x="0" y="5070600"/>
            <a:ext cx="2405160" cy="1787400"/>
          </a:xfrm>
          <a:prstGeom prst="rect">
            <a:avLst/>
          </a:prstGeom>
          <a:ln w="0">
            <a:noFill/>
          </a:ln>
        </p:spPr>
      </p:pic>
      <p:cxnSp>
        <p:nvCxnSpPr>
          <p:cNvPr id="51" name="AutoShape 8"/>
          <p:cNvCxnSpPr/>
          <p:nvPr/>
        </p:nvCxnSpPr>
        <p:spPr>
          <a:xfrm flipH="1">
            <a:off x="2882160" y="3693960"/>
            <a:ext cx="731160" cy="240480"/>
          </a:xfrm>
          <a:prstGeom prst="straightConnector1">
            <a:avLst/>
          </a:prstGeom>
          <a:ln w="0">
            <a:noFill/>
          </a:ln>
        </p:spPr>
      </p:cxnSp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14"/>
          <p:cNvSpPr/>
          <p:nvPr/>
        </p:nvSpPr>
        <p:spPr>
          <a:xfrm flipH="1" rot="2262600">
            <a:off x="1885320" y="4352400"/>
            <a:ext cx="3651480" cy="544680"/>
          </a:xfrm>
          <a:prstGeom prst="parallelogram">
            <a:avLst>
              <a:gd name="adj" fmla="val 167597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AutoShape 15"/>
          <p:cNvSpPr/>
          <p:nvPr/>
        </p:nvSpPr>
        <p:spPr>
          <a:xfrm rot="19337400">
            <a:off x="3995640" y="4347720"/>
            <a:ext cx="3651480" cy="544680"/>
          </a:xfrm>
          <a:prstGeom prst="parallelogram">
            <a:avLst>
              <a:gd name="adj" fmla="val 167597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4448160" y="2658960"/>
            <a:ext cx="638280" cy="3684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5" name="Group 41"/>
          <p:cNvGrpSpPr/>
          <p:nvPr/>
        </p:nvGrpSpPr>
        <p:grpSpPr>
          <a:xfrm>
            <a:off x="2850840" y="62280"/>
            <a:ext cx="3888720" cy="3930120"/>
            <a:chOff x="2850840" y="62280"/>
            <a:chExt cx="3888720" cy="3930120"/>
          </a:xfrm>
        </p:grpSpPr>
        <p:sp>
          <p:nvSpPr>
            <p:cNvPr id="56" name="AutoShape 27"/>
            <p:cNvSpPr/>
            <p:nvPr/>
          </p:nvSpPr>
          <p:spPr>
            <a:xfrm rot="2713800">
              <a:off x="4974480" y="2843640"/>
              <a:ext cx="931680" cy="93168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7" name="AutoShape 29"/>
            <p:cNvSpPr/>
            <p:nvPr/>
          </p:nvSpPr>
          <p:spPr>
            <a:xfrm flipV="1" rot="2713200">
              <a:off x="5614560" y="2224080"/>
              <a:ext cx="931680" cy="931680"/>
            </a:xfrm>
            <a:prstGeom prst="rtTriangl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8" name="AutoShape 32"/>
            <p:cNvSpPr/>
            <p:nvPr/>
          </p:nvSpPr>
          <p:spPr>
            <a:xfrm flipH="1" rot="2713200">
              <a:off x="3043440" y="890640"/>
              <a:ext cx="931680" cy="932040"/>
            </a:xfrm>
            <a:prstGeom prst="rtTriangl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9" name="AutoShape 33"/>
            <p:cNvSpPr/>
            <p:nvPr/>
          </p:nvSpPr>
          <p:spPr>
            <a:xfrm flipH="1" flipV="1" rot="2713800">
              <a:off x="3668040" y="254520"/>
              <a:ext cx="931680" cy="93204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60" name="AutoShape 35"/>
            <p:cNvSpPr/>
            <p:nvPr/>
          </p:nvSpPr>
          <p:spPr>
            <a:xfrm flipV="1" rot="8113200">
              <a:off x="3679920" y="2867040"/>
              <a:ext cx="932040" cy="931680"/>
            </a:xfrm>
            <a:prstGeom prst="rtTriangl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61" name="AutoShape 36"/>
            <p:cNvSpPr/>
            <p:nvPr/>
          </p:nvSpPr>
          <p:spPr>
            <a:xfrm rot="8113800">
              <a:off x="3044160" y="2243880"/>
              <a:ext cx="932040" cy="931680"/>
            </a:xfrm>
            <a:prstGeom prst="rtTriangl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62" name="AutoShape 38"/>
            <p:cNvSpPr/>
            <p:nvPr/>
          </p:nvSpPr>
          <p:spPr>
            <a:xfrm rot="18913800">
              <a:off x="5606640" y="899280"/>
              <a:ext cx="932040" cy="932040"/>
            </a:xfrm>
            <a:prstGeom prst="rtTriangl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63" name="AutoShape 39"/>
            <p:cNvSpPr/>
            <p:nvPr/>
          </p:nvSpPr>
          <p:spPr>
            <a:xfrm flipV="1" rot="18913200">
              <a:off x="4986720" y="258840"/>
              <a:ext cx="931680" cy="932040"/>
            </a:xfrm>
            <a:prstGeom prst="rtTriangl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64" name="Rectangle 40"/>
            <p:cNvSpPr/>
            <p:nvPr/>
          </p:nvSpPr>
          <p:spPr>
            <a:xfrm rot="2713800">
              <a:off x="3840120" y="1101240"/>
              <a:ext cx="1863720" cy="1863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5" name="Text Box 12"/>
          <p:cNvSpPr/>
          <p:nvPr/>
        </p:nvSpPr>
        <p:spPr>
          <a:xfrm>
            <a:off x="3703680" y="1193760"/>
            <a:ext cx="216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общение  детей к ценностям народной культуры посредством чувашских сказо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2228760" y="5370480"/>
            <a:ext cx="5092920" cy="13590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2739960" y="5807160"/>
            <a:ext cx="410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стория и культура чувашского народа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2049480" y="6397560"/>
            <a:ext cx="547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родная педагогика, традиции физического воспитания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2189160" y="6089760"/>
            <a:ext cx="50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Чувашские сказки, легенды, традиции, обряды, праздники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Text Box 43"/>
          <p:cNvSpPr/>
          <p:nvPr/>
        </p:nvSpPr>
        <p:spPr>
          <a:xfrm rot="19296000">
            <a:off x="4814640" y="3906720"/>
            <a:ext cx="28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амостоятельная игровая и продуктивная деятельность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Text Box 44"/>
          <p:cNvSpPr/>
          <p:nvPr/>
        </p:nvSpPr>
        <p:spPr>
          <a:xfrm flipH="1" rot="2304000">
            <a:off x="1936440" y="4040280"/>
            <a:ext cx="28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гровые и комплексные  занятия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Text Box 45"/>
          <p:cNvSpPr/>
          <p:nvPr/>
        </p:nvSpPr>
        <p:spPr>
          <a:xfrm rot="16208400">
            <a:off x="3592080" y="39956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кскурсии, встречи с интересными людьми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Text Box 46"/>
          <p:cNvSpPr/>
          <p:nvPr/>
        </p:nvSpPr>
        <p:spPr>
          <a:xfrm>
            <a:off x="7034040" y="3527280"/>
            <a:ext cx="181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основе чувашских сказок  из сборника Н.В. Никольского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74" name="Group 53"/>
          <p:cNvGrpSpPr/>
          <p:nvPr/>
        </p:nvGrpSpPr>
        <p:grpSpPr>
          <a:xfrm>
            <a:off x="1022400" y="3629160"/>
            <a:ext cx="3000240" cy="2185560"/>
            <a:chOff x="1022400" y="3629160"/>
            <a:chExt cx="3000240" cy="2185560"/>
          </a:xfrm>
        </p:grpSpPr>
        <p:sp>
          <p:nvSpPr>
            <p:cNvPr id="75" name="Text Box 49"/>
            <p:cNvSpPr/>
            <p:nvPr/>
          </p:nvSpPr>
          <p:spPr>
            <a:xfrm>
              <a:off x="1035000" y="3629160"/>
              <a:ext cx="1817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Экспериментирование с предметами и материалами</a:t>
              </a: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76" name="Text Box 50"/>
            <p:cNvSpPr/>
            <p:nvPr/>
          </p:nvSpPr>
          <p:spPr>
            <a:xfrm>
              <a:off x="1022400" y="4500720"/>
              <a:ext cx="272700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Моделирование сказочных сюжетов</a:t>
              </a: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77" name="Text Box 51"/>
            <p:cNvSpPr/>
            <p:nvPr/>
          </p:nvSpPr>
          <p:spPr>
            <a:xfrm>
              <a:off x="1077840" y="5106960"/>
              <a:ext cx="29448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Элементы  драматизации</a:t>
              </a: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78" name="Text Box 54"/>
          <p:cNvSpPr/>
          <p:nvPr/>
        </p:nvSpPr>
        <p:spPr>
          <a:xfrm>
            <a:off x="6827040" y="5054760"/>
            <a:ext cx="231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вторские настольные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гры - пазлы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11040" y="1288800"/>
            <a:ext cx="74520" cy="10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казатели здоровь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1138320" y="174600"/>
            <a:ext cx="4002120" cy="30020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920880" y="3484800"/>
            <a:ext cx="7861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Любовь к сказке, интерес к ней возникает в раннем детстве и сопровождает человека на протяжении всей его жизни. О роли и значении сказок в формировании положительных качеств характера и  психических процессов для детей дошкольного возраста написано много. Значимость народной сказки подчеркивал К.Д. Ушинский,  и их роли положительно отзывался В.Г. Белинский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5186520" y="189000"/>
            <a:ext cx="3957480" cy="29620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5319720" y="2776680"/>
            <a:ext cx="28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Century Schoolbook"/>
              </a:rPr>
              <a:t>«Репка» на новый лад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1668600" y="2536920"/>
            <a:ext cx="252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«Репка» - игра драматизац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1558800" y="3417840"/>
            <a:ext cx="6762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Первые впечатления могущественно действуют на юную душу:  все дальнейшее ее развитие совершается под их непосредственным влиянием»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В.Г.Белинс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604880" y="195480"/>
            <a:ext cx="7081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Народные сказки способствуют усвоению всех форм языка,  которые дают возможность выработки у детей собственных речевых навыков при рассказывании»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.Д. Ушинский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87" name="Picture 9" descr="metodi"/>
          <p:cNvPicPr/>
          <p:nvPr/>
        </p:nvPicPr>
        <p:blipFill>
          <a:blip r:embed="rId1"/>
          <a:stretch/>
        </p:blipFill>
        <p:spPr>
          <a:xfrm>
            <a:off x="2178000" y="5273640"/>
            <a:ext cx="3382920" cy="1395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2"/>
          <p:cNvPicPr/>
          <p:nvPr/>
        </p:nvPicPr>
        <p:blipFill>
          <a:blip r:embed="rId1"/>
          <a:stretch/>
        </p:blipFill>
        <p:spPr>
          <a:xfrm>
            <a:off x="690480" y="189000"/>
            <a:ext cx="4187880" cy="2923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6"/>
          <p:cNvPicPr/>
          <p:nvPr/>
        </p:nvPicPr>
        <p:blipFill>
          <a:blip r:embed="rId2"/>
          <a:stretch/>
        </p:blipFill>
        <p:spPr>
          <a:xfrm>
            <a:off x="5051520" y="231840"/>
            <a:ext cx="4092480" cy="2792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12"/>
          <p:cNvPicPr/>
          <p:nvPr/>
        </p:nvPicPr>
        <p:blipFill>
          <a:blip r:embed="rId3"/>
          <a:stretch/>
        </p:blipFill>
        <p:spPr>
          <a:xfrm>
            <a:off x="949320" y="3600360"/>
            <a:ext cx="3747960" cy="2745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14"/>
          <p:cNvPicPr/>
          <p:nvPr/>
        </p:nvPicPr>
        <p:blipFill>
          <a:blip r:embed="rId4"/>
          <a:stretch/>
        </p:blipFill>
        <p:spPr>
          <a:xfrm>
            <a:off x="4989600" y="3422520"/>
            <a:ext cx="3965400" cy="2729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6832440" y="2989440"/>
            <a:ext cx="163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Century Schoolbook"/>
              </a:rPr>
              <a:t>«Теремок»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884520" y="6276960"/>
            <a:ext cx="419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Century Schoolbook"/>
              </a:rPr>
              <a:t>Сказка из сборника Н.В. Никольского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Century Schoolbook"/>
              </a:rPr>
              <a:t>«Вупар карчак»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1387440" y="3017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422280" y="2782800"/>
            <a:ext cx="37386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entury Schoolbook"/>
              </a:rPr>
              <a:t>Радость наших бабушек и дедушек,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entury Schoolbook"/>
              </a:rPr>
              <a:t>гордость наших родителей фольклорная группа «Хунав»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5956920" y="6183360"/>
            <a:ext cx="23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Century Schoolbook"/>
              </a:rPr>
              <a:t>Заюшкина </a:t>
            </a:r>
            <a:r>
              <a:rPr b="1" lang="ru-RU" sz="1600" spc="-1" strike="noStrike">
                <a:solidFill>
                  <a:srgbClr val="000066"/>
                </a:solidFill>
                <a:latin typeface="Century Schoolbook"/>
              </a:rPr>
              <a:t> </a:t>
            </a:r>
            <a:r>
              <a:rPr b="1" lang="ru-RU" sz="1600" spc="-1" strike="noStrike">
                <a:solidFill>
                  <a:srgbClr val="3333cc"/>
                </a:solidFill>
                <a:latin typeface="Century Schoolbook"/>
              </a:rPr>
              <a:t>избушк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http://www.ivalex.vistcom.ru/image/diag1.gif"/>
          <p:cNvPicPr/>
          <p:nvPr/>
        </p:nvPicPr>
        <p:blipFill>
          <a:blip r:embed="rId1"/>
          <a:stretch/>
        </p:blipFill>
        <p:spPr>
          <a:xfrm>
            <a:off x="2381400" y="4614840"/>
            <a:ext cx="1447560" cy="1743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http://www.ivalex.vistcom.ru/image/diag2.gif"/>
          <p:cNvPicPr/>
          <p:nvPr/>
        </p:nvPicPr>
        <p:blipFill>
          <a:blip r:embed="rId2"/>
          <a:stretch/>
        </p:blipFill>
        <p:spPr>
          <a:xfrm>
            <a:off x="5065560" y="2436840"/>
            <a:ext cx="2028960" cy="1409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http://www.ivalex.vistcom.ru/image/diag3.gif"/>
          <p:cNvPicPr/>
          <p:nvPr/>
        </p:nvPicPr>
        <p:blipFill>
          <a:blip r:embed="rId3"/>
          <a:stretch/>
        </p:blipFill>
        <p:spPr>
          <a:xfrm>
            <a:off x="2162160" y="2484360"/>
            <a:ext cx="1762200" cy="1428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http://www.ivalex.vistcom.ru/image/diag4.gif"/>
          <p:cNvPicPr/>
          <p:nvPr/>
        </p:nvPicPr>
        <p:blipFill>
          <a:blip r:embed="rId4"/>
          <a:stretch/>
        </p:blipFill>
        <p:spPr>
          <a:xfrm>
            <a:off x="5151600" y="4846680"/>
            <a:ext cx="2057400" cy="14288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8"/>
          <p:cNvSpPr/>
          <p:nvPr/>
        </p:nvSpPr>
        <p:spPr>
          <a:xfrm>
            <a:off x="3260880" y="2072520"/>
            <a:ext cx="4065480" cy="5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основных героев чувашской народной сказки 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0" y="1844640"/>
            <a:ext cx="457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0" y="1844640"/>
            <a:ext cx="457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-217440" y="3005280"/>
          <a:ext cx="9144000" cy="5173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23"/>
          <p:cNvSpPr/>
          <p:nvPr/>
        </p:nvSpPr>
        <p:spPr>
          <a:xfrm>
            <a:off x="3490200" y="3998520"/>
            <a:ext cx="373176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3360" bIns="633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основного содержания чувашских сказок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Rectangle 24"/>
          <p:cNvSpPr/>
          <p:nvPr/>
        </p:nvSpPr>
        <p:spPr>
          <a:xfrm>
            <a:off x="0" y="1844640"/>
            <a:ext cx="457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26"/>
          <p:cNvSpPr/>
          <p:nvPr/>
        </p:nvSpPr>
        <p:spPr>
          <a:xfrm>
            <a:off x="0" y="1844640"/>
            <a:ext cx="457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3976560"/>
          <a:ext cx="9144000" cy="522360"/>
        </p:xfrm>
        <a:graphic>
          <a:graphicData uri="http://schemas.openxmlformats.org/drawingml/2006/table">
            <a:tbl>
              <a:tblPr/>
              <a:tblGrid>
                <a:gridCol w="4498920"/>
                <a:gridCol w="4645080"/>
              </a:tblGrid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Rectangle 38"/>
          <p:cNvSpPr/>
          <p:nvPr/>
        </p:nvSpPr>
        <p:spPr>
          <a:xfrm>
            <a:off x="2654280" y="6265800"/>
            <a:ext cx="5334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360" bIns="633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Rectangle 40"/>
          <p:cNvSpPr/>
          <p:nvPr/>
        </p:nvSpPr>
        <p:spPr>
          <a:xfrm>
            <a:off x="1860120" y="608760"/>
            <a:ext cx="6638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зультативность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результативности работы по приобщению  к ценностям народной культуры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редством чувашских сказок было проведено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иагностирование.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иже приводится сравнительная диаграмма диагностирования детей на начальном этапе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ентябре 2008 года и январе 2009 года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Rectangle 46"/>
          <p:cNvSpPr/>
          <p:nvPr/>
        </p:nvSpPr>
        <p:spPr>
          <a:xfrm>
            <a:off x="0" y="240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Rectangle 47"/>
          <p:cNvSpPr/>
          <p:nvPr/>
        </p:nvSpPr>
        <p:spPr>
          <a:xfrm>
            <a:off x="4325760" y="4324320"/>
            <a:ext cx="262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Rectangle 48"/>
          <p:cNvSpPr/>
          <p:nvPr/>
        </p:nvSpPr>
        <p:spPr>
          <a:xfrm>
            <a:off x="4457880" y="5178600"/>
            <a:ext cx="438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Rectangle 49"/>
          <p:cNvSpPr/>
          <p:nvPr/>
        </p:nvSpPr>
        <p:spPr>
          <a:xfrm>
            <a:off x="4516560" y="6072120"/>
            <a:ext cx="43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5" name="Picture 52" descr="effekti"/>
          <p:cNvPicPr/>
          <p:nvPr/>
        </p:nvPicPr>
        <p:blipFill>
          <a:blip r:embed="rId5"/>
          <a:stretch/>
        </p:blipFill>
        <p:spPr>
          <a:xfrm>
            <a:off x="7334280" y="5332320"/>
            <a:ext cx="3098880" cy="1306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http://www.ivalex.vistcom.ru/image/diag5.gif"/>
          <p:cNvPicPr/>
          <p:nvPr/>
        </p:nvPicPr>
        <p:blipFill>
          <a:blip r:embed="rId1"/>
          <a:stretch/>
        </p:blipFill>
        <p:spPr>
          <a:xfrm>
            <a:off x="2075040" y="411120"/>
            <a:ext cx="2057400" cy="1447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http://www.ivalex.vistcom.ru/image/diag6.gif"/>
          <p:cNvPicPr/>
          <p:nvPr/>
        </p:nvPicPr>
        <p:blipFill>
          <a:blip r:embed="rId2"/>
          <a:stretch/>
        </p:blipFill>
        <p:spPr>
          <a:xfrm>
            <a:off x="5427720" y="469800"/>
            <a:ext cx="2066760" cy="14382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8"/>
          <p:cNvSpPr/>
          <p:nvPr/>
        </p:nvSpPr>
        <p:spPr>
          <a:xfrm>
            <a:off x="2273040" y="2003040"/>
            <a:ext cx="531216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3360" bIns="633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я о жизни, быте, основных занятиях людей в Чувашии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0" y="2705040"/>
            <a:ext cx="457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0" y="2705040"/>
            <a:ext cx="457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0" y="3875040"/>
          <a:ext cx="9144000" cy="5176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23"/>
          <p:cNvSpPr/>
          <p:nvPr/>
        </p:nvSpPr>
        <p:spPr>
          <a:xfrm>
            <a:off x="1152360" y="185760"/>
            <a:ext cx="7766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Представления о жизни, быте, основных занятиях людей в Чувашии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Rectangle 26"/>
          <p:cNvSpPr/>
          <p:nvPr/>
        </p:nvSpPr>
        <p:spPr>
          <a:xfrm>
            <a:off x="3069720" y="3629880"/>
            <a:ext cx="4236120" cy="5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южетов былин в повседневной жизни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Rectangle 27"/>
          <p:cNvSpPr/>
          <p:nvPr/>
        </p:nvSpPr>
        <p:spPr>
          <a:xfrm>
            <a:off x="0" y="2705040"/>
            <a:ext cx="457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Rectangle 29"/>
          <p:cNvSpPr/>
          <p:nvPr/>
        </p:nvSpPr>
        <p:spPr>
          <a:xfrm>
            <a:off x="0" y="2705040"/>
            <a:ext cx="457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6" name="Picture 44" descr="http://www.ivalex.vistcom.ru/image/diag9.gif"/>
          <p:cNvPicPr/>
          <p:nvPr/>
        </p:nvPicPr>
        <p:blipFill>
          <a:blip r:embed="rId3"/>
          <a:stretch/>
        </p:blipFill>
        <p:spPr>
          <a:xfrm>
            <a:off x="2104920" y="4011480"/>
            <a:ext cx="1800360" cy="1447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3" descr="http://www.ivalex.vistcom.ru/image/diag10.gif"/>
          <p:cNvPicPr/>
          <p:nvPr/>
        </p:nvPicPr>
        <p:blipFill>
          <a:blip r:embed="rId4"/>
          <a:stretch/>
        </p:blipFill>
        <p:spPr>
          <a:xfrm>
            <a:off x="5529240" y="3909960"/>
            <a:ext cx="2114640" cy="14191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5"/>
          <p:cNvSpPr/>
          <p:nvPr/>
        </p:nvSpPr>
        <p:spPr>
          <a:xfrm>
            <a:off x="0" y="2705040"/>
            <a:ext cx="457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Rectangle 47"/>
          <p:cNvSpPr/>
          <p:nvPr/>
        </p:nvSpPr>
        <p:spPr>
          <a:xfrm>
            <a:off x="0" y="2705040"/>
            <a:ext cx="457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2705040"/>
          <a:ext cx="9144000" cy="5176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1" name="Picture 60" descr="http://www.ivalex.vistcom.ru/image/diag7.gif"/>
          <p:cNvPicPr/>
          <p:nvPr/>
        </p:nvPicPr>
        <p:blipFill>
          <a:blip r:embed="rId5"/>
          <a:stretch/>
        </p:blipFill>
        <p:spPr>
          <a:xfrm>
            <a:off x="2306520" y="2230560"/>
            <a:ext cx="1800360" cy="1476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9" descr="http://www.ivalex.vistcom.ru/image/diag8.gif"/>
          <p:cNvPicPr/>
          <p:nvPr/>
        </p:nvPicPr>
        <p:blipFill>
          <a:blip r:embed="rId6"/>
          <a:stretch/>
        </p:blipFill>
        <p:spPr>
          <a:xfrm>
            <a:off x="5456160" y="2170080"/>
            <a:ext cx="2009880" cy="14954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1"/>
          <p:cNvSpPr/>
          <p:nvPr/>
        </p:nvSpPr>
        <p:spPr>
          <a:xfrm>
            <a:off x="0" y="2681280"/>
            <a:ext cx="457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Rectangle 63"/>
          <p:cNvSpPr/>
          <p:nvPr/>
        </p:nvSpPr>
        <p:spPr>
          <a:xfrm>
            <a:off x="0" y="2681280"/>
            <a:ext cx="457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84080" y="2565360"/>
          <a:ext cx="9144000" cy="5176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Rectangle 75"/>
          <p:cNvSpPr/>
          <p:nvPr/>
        </p:nvSpPr>
        <p:spPr>
          <a:xfrm>
            <a:off x="1671480" y="5596920"/>
            <a:ext cx="7472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Century Schoolbook"/>
              </a:rPr>
              <a:t>Сравнительный анализ показал очевидную положительную тенденцию в знаниях и умениях детей. Многие из них легко ориентируются в содержании знакомых сказок, могут назвать героев и оценить их поступки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92240" y="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Century Schoolbook"/>
              </a:rPr>
              <a:t>Реценз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ru-RU" sz="1600" spc="-1" strike="noStrike">
                <a:solidFill>
                  <a:srgbClr val="990000"/>
                </a:solidFill>
                <a:latin typeface="Century Schoolbook"/>
              </a:rPr>
              <a:t>на методическую  разработку «Приобщение  детей к ценностям народной культуры посредством чувашских сказок»,  составленную воспитателем группы дошкольного обучения  при МОУ  «Сосновская ООШ» им. Н.В. Никольского Моргаушского района Чувашской республики Максимовой Елены Вениаминовн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entury Schoolbook"/>
              </a:rPr>
              <a:t>             </a:t>
            </a:r>
            <a:r>
              <a:rPr b="1" lang="ru-RU" sz="1600" spc="-1" strike="noStrike">
                <a:solidFill>
                  <a:srgbClr val="3333cc"/>
                </a:solidFill>
                <a:latin typeface="Century Schoolbook"/>
              </a:rPr>
              <a:t>Названная  проблема  является одной из актуальных в сфере образования, в том числе  и дошкольного. Её  актуальность   обусловлена не только социально-педагогической значимостью, но и важностью  её  разработки для образовательного  учреждения  имени Н.В. Никольского, в котором работает автор</a:t>
            </a:r>
            <a:r>
              <a:rPr b="0" lang="ru-RU" sz="1600" spc="-1" strike="noStrike">
                <a:solidFill>
                  <a:srgbClr val="3333cc"/>
                </a:solidFill>
                <a:latin typeface="Century Schoolbook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Century Schoolbook"/>
              </a:rPr>
              <a:t>             </a:t>
            </a:r>
            <a:r>
              <a:rPr b="1" lang="ru-RU" sz="1600" spc="-1" strike="noStrike">
                <a:solidFill>
                  <a:srgbClr val="3333cc"/>
                </a:solidFill>
                <a:latin typeface="Century Schoolbook"/>
              </a:rPr>
              <a:t>Автором разработан  календарно-тематический план работы. Где  определены  направления и содержание работы по формированию эмоционально-ценностных отношений старших дошкольников к чувашским  сказкам в собрании Н.В. Никольског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Century Schoolbook"/>
              </a:rPr>
              <a:t>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Century Schoolbook"/>
              </a:rPr>
              <a:t>Рецензировал работу кандидат педагогических наук, доцент кафедры дошкольного и начального образова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Century Schoolbook"/>
              </a:rPr>
              <a:t>ГОУ «Чувашский республиканский институт образования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Century Schoolbook"/>
              </a:rPr>
              <a:t>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990000"/>
                </a:solidFill>
                <a:latin typeface="Century Schoolbook"/>
              </a:rPr>
              <a:t>Л.Г. Василье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3T08:04:59Z</dcterms:created>
  <dc:creator>Зотин</dc:creator>
  <dc:description/>
  <dc:language>en-US</dc:language>
  <cp:lastModifiedBy>Елена</cp:lastModifiedBy>
  <cp:lastPrinted>2001-03-13T11:31:45Z</cp:lastPrinted>
  <dcterms:modified xsi:type="dcterms:W3CDTF">2019-10-10T15:28:23Z</dcterms:modified>
  <cp:revision>81</cp:revision>
  <dc:subject/>
  <dc:title>Обложка</dc:title>
</cp:coreProperties>
</file>