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4.jpeg" ContentType="image/jpeg"/>
  <Override PartName="/ppt/media/image22.png" ContentType="image/pn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25A-088F-4206-B1C1-3BB838F2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ED18-3697-49CB-B7B7-2B198571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6CAA-A21C-4D98-8C74-E6183425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87E-03B6-4FBB-8E19-8DBC5B3F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C418-2A19-49BF-B864-87B56A9D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04B-E058-4ABA-805F-D9BFCB88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65C7-3AA0-423B-ABB5-4DD64CA1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4DF-B3D1-4F4C-9FB1-9C967068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EF7-9C48-44DD-9B69-9CBC3874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84FE-07DB-43B1-BEB9-BFD2CFC2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AA4-70B4-477D-9156-747E3B2F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45F-751C-4602-B7DE-EEC5DA24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91B3-4D03-476A-A0C5-D81589E6C2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foto_234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28920" y="1642680"/>
            <a:ext cx="39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ПРОЕК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85920" y="2857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«От русской избы до разноцветной ярмарки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Заголовок 2"/>
          <p:cNvSpPr/>
          <p:nvPr/>
        </p:nvSpPr>
        <p:spPr>
          <a:xfrm>
            <a:off x="785880" y="357120"/>
            <a:ext cx="77724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ГБОУ «Центр образования и развит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Особый ребенок» г. Смоленс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125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15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Красный уго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комп\Desktop\фото 2017\Музей\IMG_6755.JPG"/>
          <p:cNvPicPr/>
          <p:nvPr/>
        </p:nvPicPr>
        <p:blipFill>
          <a:blip r:embed="rId2"/>
          <a:stretch/>
        </p:blipFill>
        <p:spPr>
          <a:xfrm>
            <a:off x="1571760" y="857160"/>
            <a:ext cx="6215040" cy="48578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79" name="Заголовок 2"/>
          <p:cNvSpPr/>
          <p:nvPr/>
        </p:nvSpPr>
        <p:spPr>
          <a:xfrm>
            <a:off x="214200" y="5786280"/>
            <a:ext cx="87156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2060"/>
                </a:solidFill>
                <a:latin typeface="Arial"/>
                <a:ea typeface="Arial"/>
              </a:rPr>
              <a:t>Вещи древние, для ведения домашнего хозяйства - полезны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125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15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Фрагмент избы - женская полка у печк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комп\Desktop\фото 2017\Музей\IMG_6757.JPG"/>
          <p:cNvPicPr/>
          <p:nvPr/>
        </p:nvPicPr>
        <p:blipFill>
          <a:blip r:embed="rId2"/>
          <a:stretch/>
        </p:blipFill>
        <p:spPr>
          <a:xfrm>
            <a:off x="357120" y="1071720"/>
            <a:ext cx="4000680" cy="50720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83" name="Picture 2" descr="C:\Users\комп\Desktop\фото 2017\Музей\IMG_6759.JPG"/>
          <p:cNvPicPr/>
          <p:nvPr/>
        </p:nvPicPr>
        <p:blipFill>
          <a:blip r:embed="rId3"/>
          <a:stretch/>
        </p:blipFill>
        <p:spPr>
          <a:xfrm>
            <a:off x="4572000" y="1071720"/>
            <a:ext cx="4071960" cy="50720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125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Гончарные изделия, прялка, утю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6" descr="C:\Users\комп\Desktop\фото 2017\Музей\IMG_6759.JPG"/>
          <p:cNvPicPr/>
          <p:nvPr/>
        </p:nvPicPr>
        <p:blipFill>
          <a:blip r:embed="rId2"/>
          <a:stretch/>
        </p:blipFill>
        <p:spPr>
          <a:xfrm>
            <a:off x="4500720" y="1285920"/>
            <a:ext cx="4214520" cy="521496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87" name="Содержимое 5" descr="C:\Users\комп\Desktop\фото 2017\Музей\IMG_6759.JPG"/>
          <p:cNvPicPr/>
          <p:nvPr/>
        </p:nvPicPr>
        <p:blipFill>
          <a:blip r:embed="rId3"/>
          <a:stretch/>
        </p:blipFill>
        <p:spPr>
          <a:xfrm>
            <a:off x="285840" y="1285920"/>
            <a:ext cx="4071960" cy="521496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125.jpg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Женская руба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5" descr="C:\Users\DNS\Pictures\Наши фотографии\6 А класс и Н.С. 2015 - 2016\Открытие музея май 2016\DSC05330.JPG"/>
          <p:cNvPicPr/>
          <p:nvPr/>
        </p:nvPicPr>
        <p:blipFill>
          <a:blip r:embed="rId2"/>
          <a:stretch/>
        </p:blipFill>
        <p:spPr>
          <a:xfrm>
            <a:off x="1643040" y="1500120"/>
            <a:ext cx="5572080" cy="385776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125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Arial"/>
                <a:ea typeface="Arial"/>
              </a:rPr>
              <a:t>Полотенце, гребень, рубель и каталк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6" descr="C:\Users\DNS\Pictures\Наши фотографии\6 А класс и Н.С. 2015 - 2016\Открытие музея май 2016\DSC05331.JPG"/>
          <p:cNvPicPr/>
          <p:nvPr/>
        </p:nvPicPr>
        <p:blipFill>
          <a:blip r:embed="rId2"/>
          <a:stretch/>
        </p:blipFill>
        <p:spPr>
          <a:xfrm>
            <a:off x="1928880" y="1143000"/>
            <a:ext cx="5429160" cy="421488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94" name="Прямоугольник 4"/>
          <p:cNvSpPr/>
          <p:nvPr/>
        </p:nvSpPr>
        <p:spPr>
          <a:xfrm>
            <a:off x="357120" y="542916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рубеля крестьянки разглаживали льняные увлажненные холс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125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Рушник, бранн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6" descr="C:\Users\DNS\Pictures\Наши фотографии\6 А класс и Н.С. 2015 - 2016\Открытие музея май 2016\DSC05332.JPG"/>
          <p:cNvPicPr/>
          <p:nvPr/>
        </p:nvPicPr>
        <p:blipFill>
          <a:blip r:embed="rId2"/>
          <a:stretch/>
        </p:blipFill>
        <p:spPr>
          <a:xfrm>
            <a:off x="1214280" y="1000080"/>
            <a:ext cx="6572520" cy="450072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98" name="Прямоугольник 4"/>
          <p:cNvSpPr/>
          <p:nvPr/>
        </p:nvSpPr>
        <p:spPr>
          <a:xfrm>
            <a:off x="357120" y="5533920"/>
            <a:ext cx="8501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лотно сделано из удивительного растения – льна. Оно «дышит»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пускает воздух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Эта ткань очень прочная. Полотенца берегли и передавали по наследств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125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715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Фрагмент избы - мужская полка у пе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комп\Desktop\фото 2017\Музей\IMG_6758.JPG"/>
          <p:cNvPicPr/>
          <p:nvPr/>
        </p:nvPicPr>
        <p:blipFill>
          <a:blip r:embed="rId2"/>
          <a:stretch/>
        </p:blipFill>
        <p:spPr>
          <a:xfrm>
            <a:off x="1500120" y="1357200"/>
            <a:ext cx="6215040" cy="500076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125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42920" y="499680"/>
            <a:ext cx="40384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Arial"/>
                <a:ea typeface="Arial"/>
              </a:rPr>
              <a:t>«Красный угол» изб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6" descr="C:\Users\комп\Desktop\фото 2017\Музей\IMG_6755.JPG"/>
          <p:cNvPicPr/>
          <p:nvPr/>
        </p:nvPicPr>
        <p:blipFill>
          <a:blip r:embed="rId2"/>
          <a:stretch/>
        </p:blipFill>
        <p:spPr>
          <a:xfrm rot="21199200">
            <a:off x="701280" y="1314360"/>
            <a:ext cx="3241800" cy="487836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105" name="Содержимое 12"/>
          <p:cNvSpPr/>
          <p:nvPr/>
        </p:nvSpPr>
        <p:spPr>
          <a:xfrm>
            <a:off x="4714920" y="500040"/>
            <a:ext cx="4038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6" descr="C:\Users\комп\Desktop\фото 2017\Музей\IMG_6758.JPG"/>
          <p:cNvPicPr/>
          <p:nvPr/>
        </p:nvPicPr>
        <p:blipFill>
          <a:blip r:embed="rId3"/>
          <a:stretch/>
        </p:blipFill>
        <p:spPr>
          <a:xfrm rot="5775000">
            <a:off x="4239720" y="2206440"/>
            <a:ext cx="4827600" cy="322416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107" name="Содержимое 12"/>
          <p:cNvSpPr/>
          <p:nvPr/>
        </p:nvSpPr>
        <p:spPr>
          <a:xfrm>
            <a:off x="4714920" y="428760"/>
            <a:ext cx="4038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Arial"/>
                <a:ea typeface="Arial"/>
              </a:rPr>
              <a:t>Лампа керосинова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125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Крынка, скобель, колодка для плетения лапт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5" descr="C:\Users\комп\Desktop\фото 2017\Музей\IMG_6755.JPG"/>
          <p:cNvPicPr/>
          <p:nvPr/>
        </p:nvPicPr>
        <p:blipFill>
          <a:blip r:embed="rId2"/>
          <a:stretch/>
        </p:blipFill>
        <p:spPr>
          <a:xfrm>
            <a:off x="2357280" y="1714680"/>
            <a:ext cx="4189680" cy="452592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125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56760" y="499680"/>
            <a:ext cx="339588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Лап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429080" y="357120"/>
            <a:ext cx="40384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Arial"/>
                <a:ea typeface="Arial"/>
              </a:rPr>
              <a:t>Буравчик для сверления, ножницы для стрижки животны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Содержимое 5" descr="C:\Users\комп\Desktop\фото 2017\Музей\IMG_6758.JPG"/>
          <p:cNvPicPr/>
          <p:nvPr/>
        </p:nvPicPr>
        <p:blipFill>
          <a:blip r:embed="rId2"/>
          <a:stretch/>
        </p:blipFill>
        <p:spPr>
          <a:xfrm>
            <a:off x="4357800" y="2143080"/>
            <a:ext cx="4143240" cy="39290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115" name="Содержимое 5" descr="C:\Users\комп\Desktop\фото 2017\Музей\IMG_6755.JPG"/>
          <p:cNvPicPr/>
          <p:nvPr/>
        </p:nvPicPr>
        <p:blipFill>
          <a:blip r:embed="rId3"/>
          <a:stretch/>
        </p:blipFill>
        <p:spPr>
          <a:xfrm>
            <a:off x="428760" y="2143080"/>
            <a:ext cx="3571920" cy="39290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125.jpg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4200" y="713880"/>
            <a:ext cx="8715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ема нашего проекта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«От русской избы до разноцветной ярмарки»</a:t>
            </a:r>
            <a:br>
              <a:rPr sz="3600"/>
            </a:b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840" y="2285640"/>
            <a:ext cx="85723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етическ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изучение традиций русского народа, анализ, обобщение, выводы, изучение Интернет - источни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актическ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выполнение на уроках столярного дела конструкций и частей экспозиции, изготовление и художественная отделка предметов, сбор старинных вещей для музе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125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5840" y="55004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Разноцветная ярмар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6" descr="C:\Users\DNS\Pictures\Наши фотографии\6 А класс и Н.С. 2015 - 2016\Открытие музея май 2016\DSC05336.JPG"/>
          <p:cNvPicPr/>
          <p:nvPr/>
        </p:nvPicPr>
        <p:blipFill>
          <a:blip r:embed="rId2"/>
          <a:stretch/>
        </p:blipFill>
        <p:spPr>
          <a:xfrm>
            <a:off x="2714760" y="357120"/>
            <a:ext cx="4071960" cy="535788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125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Не забывай русские народные традиции. Знание вековой культуры русского народа обогатит тебя духовно!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Содержимое 4"/>
          <p:cNvSpPr/>
          <p:nvPr/>
        </p:nvSpPr>
        <p:spPr>
          <a:xfrm>
            <a:off x="1214280" y="1857240"/>
            <a:ext cx="6357960" cy="457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125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5840" y="542880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28760" y="50004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Сей музей, мы покидаем, русская изба так хорош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В каждом стареньком предмете живёт русская душ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Русские традиции, храня, мы память чтим и свято бережём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Всё, что досталось от далёких предков, мы в своём музее соберё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5" descr="C:\Users\Владимир и Елена\Pictures\музи.png"/>
          <p:cNvPicPr/>
          <p:nvPr/>
        </p:nvPicPr>
        <p:blipFill>
          <a:blip r:embed="rId2"/>
          <a:stretch/>
        </p:blipFill>
        <p:spPr>
          <a:xfrm>
            <a:off x="3357720" y="4071960"/>
            <a:ext cx="213012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125.jpg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4" descr="C:\Users\DNS\Pictures\Наши фотографии\6 А класс и Н.С. 2015 - 2016\Открытие музея май 2016\20160527_120240.jpg"/>
          <p:cNvPicPr/>
          <p:nvPr/>
        </p:nvPicPr>
        <p:blipFill>
          <a:blip r:embed="rId2"/>
          <a:stretch/>
        </p:blipFill>
        <p:spPr>
          <a:xfrm>
            <a:off x="1500120" y="1571760"/>
            <a:ext cx="6143760" cy="471492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9720" y="357120"/>
            <a:ext cx="73580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Праздник встречи гостей - открытие музе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125.jpg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комп\Desktop\фото 2017\Музей\20160527_120807.jpg"/>
          <p:cNvPicPr/>
          <p:nvPr/>
        </p:nvPicPr>
        <p:blipFill>
          <a:blip r:embed="rId2"/>
          <a:stretch/>
        </p:blipFill>
        <p:spPr>
          <a:xfrm>
            <a:off x="357120" y="2000160"/>
            <a:ext cx="3929040" cy="39290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 Unicode MS"/>
              </a:rPr>
              <a:t>Обряд освящения нового места отцом Анатолием</a:t>
            </a:r>
            <a:br>
              <a:rPr sz="36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br>
              <a:rPr sz="3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4" descr="C:\Users\DNS\Pictures\Наши фотографии\6 А класс и Н.С. 2015 - 2016\Открытие музея май 2016\20160527_121131.jpg"/>
          <p:cNvPicPr/>
          <p:nvPr/>
        </p:nvPicPr>
        <p:blipFill>
          <a:blip r:embed="rId3"/>
          <a:stretch/>
        </p:blipFill>
        <p:spPr>
          <a:xfrm>
            <a:off x="4572000" y="2000160"/>
            <a:ext cx="4143240" cy="39290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125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А как все начиналось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0" descr="C:\Users\DNS\Pictures\Наши фотографии\6 А класс и Н.С. 2015 - 2016\Открытие музея май 2016\DSC05314.JPG"/>
          <p:cNvPicPr/>
          <p:nvPr/>
        </p:nvPicPr>
        <p:blipFill>
          <a:blip r:embed="rId2"/>
          <a:stretch/>
        </p:blipFill>
        <p:spPr>
          <a:xfrm>
            <a:off x="4643280" y="1500120"/>
            <a:ext cx="4132440" cy="400068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58" name="Содержимое 6" descr="C:\Users\DNS\Pictures\Наши фотографии\6 А класс и Н.С. 2015 - 2016\Открытие музея май 2016\DSC05312.JPG"/>
          <p:cNvPicPr/>
          <p:nvPr/>
        </p:nvPicPr>
        <p:blipFill>
          <a:blip r:embed="rId3"/>
          <a:stretch/>
        </p:blipFill>
        <p:spPr>
          <a:xfrm>
            <a:off x="357120" y="1500120"/>
            <a:ext cx="4000680" cy="400068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125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Сборка готового издел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125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Каждому экспонату – свое мест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8" descr="C:\Users\DNS\Pictures\Наши фотографии\6 А класс и Н.С. 2015 - 2016\Открытие музея май 2016\DSC05319.JPG"/>
          <p:cNvPicPr/>
          <p:nvPr/>
        </p:nvPicPr>
        <p:blipFill>
          <a:blip r:embed="rId2"/>
          <a:stretch/>
        </p:blipFill>
        <p:spPr>
          <a:xfrm>
            <a:off x="4572000" y="1214280"/>
            <a:ext cx="4127400" cy="44294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64" name="Содержимое 4" descr="C:\Users\DNS\Pictures\Наши фотографии\6 А класс и Н.С. 2015 - 2016\Открытие музея май 2016\DSC05321.JPG"/>
          <p:cNvPicPr/>
          <p:nvPr/>
        </p:nvPicPr>
        <p:blipFill>
          <a:blip r:embed="rId3"/>
          <a:stretch/>
        </p:blipFill>
        <p:spPr>
          <a:xfrm>
            <a:off x="500040" y="1214280"/>
            <a:ext cx="3857760" cy="43578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65" name="Заголовок 2"/>
          <p:cNvSpPr/>
          <p:nvPr/>
        </p:nvSpPr>
        <p:spPr>
          <a:xfrm>
            <a:off x="50004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10"/>
          <p:cNvSpPr/>
          <p:nvPr/>
        </p:nvSpPr>
        <p:spPr>
          <a:xfrm>
            <a:off x="285840" y="571500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Радуют результаты своего тру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125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5840" y="5500440"/>
            <a:ext cx="85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И мой труд  будет всем полезен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9" descr="C:\Users\DNS\Pictures\Наши фотографии\6 А класс и Н.С. 2015 - 2016\Открытие музея май 2016\DSC05320.JPG"/>
          <p:cNvPicPr/>
          <p:nvPr/>
        </p:nvPicPr>
        <p:blipFill>
          <a:blip r:embed="rId2"/>
          <a:stretch/>
        </p:blipFill>
        <p:spPr>
          <a:xfrm>
            <a:off x="2428920" y="1071720"/>
            <a:ext cx="3714840" cy="45720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70" name="Заголовок 2"/>
          <p:cNvSpPr/>
          <p:nvPr/>
        </p:nvSpPr>
        <p:spPr>
          <a:xfrm>
            <a:off x="2857680" y="0"/>
            <a:ext cx="2714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Ярмарк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125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5989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Я о многом могу рассказа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1785960" y="214200"/>
            <a:ext cx="588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Наши экскурсо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9" descr="20170214_153300_1487130288933_resized.jpg"/>
          <p:cNvPicPr/>
          <p:nvPr/>
        </p:nvPicPr>
        <p:blipFill>
          <a:blip r:embed="rId2"/>
          <a:stretch/>
        </p:blipFill>
        <p:spPr>
          <a:xfrm>
            <a:off x="1000080" y="1071720"/>
            <a:ext cx="3429000" cy="485748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75" name="Рисунок 10" descr="20170214_153326_1487130290266_resized.jpg"/>
          <p:cNvPicPr/>
          <p:nvPr/>
        </p:nvPicPr>
        <p:blipFill>
          <a:blip r:embed="rId3"/>
          <a:stretch/>
        </p:blipFill>
        <p:spPr>
          <a:xfrm>
            <a:off x="4714920" y="1071720"/>
            <a:ext cx="3500280" cy="485748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7T16:25:57Z</dcterms:created>
  <dc:creator>комп</dc:creator>
  <dc:description/>
  <dc:language>en-US</dc:language>
  <cp:lastModifiedBy>User</cp:lastModifiedBy>
  <dcterms:modified xsi:type="dcterms:W3CDTF">2019-10-10T10:56:37Z</dcterms:modified>
  <cp:revision>40</cp:revision>
  <dc:subject/>
  <dc:title>Фотоальбом</dc:title>
</cp:coreProperties>
</file>