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E4C9-6A9E-43ED-BB27-AE1A89F07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DC25-0DC3-460F-936B-2D1734A8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D51F-2E7C-4A43-8D4C-E6EA4FD8D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B2BF-C8D0-4D03-9A04-9CCD335BB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117E-83C0-47B2-BEAF-EDD255591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12DF-FB17-4475-9528-65F7EEBD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D922-A94C-46AF-A60C-9305C917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2647-61C3-4DA4-A31F-8741187B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6433-D619-4A47-9B2F-5271BA3F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217E-96C8-4811-B3FE-6DA23CD2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BB79-F39E-4A9B-901B-B47D4939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0603-F445-4CF8-AC33-99699209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7AC0-CC78-4273-83FF-956A9036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FA5C-C41F-4D56-9FD8-3D68BA9C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EB47-57BD-4DF6-AB03-17E5C960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EBF9-D003-4EBC-BA06-9189B765C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8BF4-B101-4912-A1E2-CCD5ACEFA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5D81-9369-46CC-A31F-8F77C329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B314-B717-4EC7-862D-AF9945EA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9ACE-3EDE-4DDE-8590-6823C48B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58AB-FA97-4232-A66B-E9EA33BD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085C-05AF-496D-B681-5DDF58FC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A56A-AB07-493C-99FA-8AA0248F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41B0-3311-4198-B540-245578CC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9F12-5536-4BD6-9A21-92D3F2EA85E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061F-4301-4DE6-879D-19F7788C8B9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99640" y="549360"/>
            <a:ext cx="7620120" cy="292248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66"/>
                </a:solidFill>
                <a:latin typeface="Monotype Corsiva"/>
              </a:rPr>
              <a:t>Профилактика нарушений письменной речи</a:t>
            </a:r>
            <a:endParaRPr b="0" lang="en-US" sz="6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5364000" y="3645000"/>
            <a:ext cx="3600720" cy="3024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84000" y="259920"/>
            <a:ext cx="5472360" cy="500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Автор :Соловьёва С.В.</a:t>
            </a:r>
            <a:br>
              <a:rPr sz="3600"/>
            </a:b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учитель-логопед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ransition spd="slow" advTm="3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исьменная речь -</a:t>
            </a:r>
            <a:r>
              <a:rPr b="0" lang="ru-RU" sz="2000" spc="-1" strike="noStrike">
                <a:solidFill>
                  <a:srgbClr val="8c003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ожная аналитико-синтетическая деятельность, которая предполагает порождение высказывания: создание внутренней схемы, выбор слов, грамматическое структурирование.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Письменная реч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умение сочетать слова в письменную форму для выражения своих мыс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понятие </a:t>
            </a: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«письменная речь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ходи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исьм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8c0039"/>
                </a:solidFill>
                <a:latin typeface="Times New Roman"/>
              </a:rPr>
              <a:t>Письм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знаковая система фиксации речи, позволяющая передавать информацию на расстоянии и закреплять ее во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8c0039"/>
                </a:solidFill>
                <a:latin typeface="Times New Roman"/>
              </a:rPr>
              <a:t>Письмо</a:t>
            </a: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владение графическими и орфографическими системами языка для запис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8c0039"/>
                </a:solidFill>
                <a:latin typeface="Times New Roman"/>
              </a:rPr>
              <a:t>Чт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восприятие написанного, воспроизведение текста «про себя» или вслу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Monotype Corsiva"/>
              </a:rPr>
              <a:t>Нарушения письменной речи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39"/>
                </a:solidFill>
                <a:latin typeface="Times New Roman"/>
              </a:rPr>
              <a:t>Дисграф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частичное нарушение процесса письма, проявляющееся в стойких повторяющихся ошибках, обусловленных несформированностью ВПФ,учавствующих в процессе письма, при сохранном зрении, слухе, интеллекте, при регулярном пед.процес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39"/>
                </a:solidFill>
                <a:latin typeface="Times New Roman"/>
              </a:rPr>
              <a:t>Дислекс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роблемы, связанные с процессом овладения навыком чт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Monotype Corsiva"/>
              </a:rPr>
              <a:t>Первичная профилактика </a:t>
            </a:r>
            <a:br>
              <a:rPr sz="4000"/>
            </a:br>
            <a:r>
              <a:rPr b="1" lang="ru-RU" sz="4000" spc="-1" strike="noStrike">
                <a:solidFill>
                  <a:srgbClr val="660066"/>
                </a:solidFill>
                <a:latin typeface="Monotype Corsiva"/>
              </a:rPr>
              <a:t>дислексий и дисграфий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435640" y="1600200"/>
            <a:ext cx="340344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Заключается в устранении основных этиологических факторов, имеющих отношение к указанным расстройств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4859280" y="3789360"/>
            <a:ext cx="3998880" cy="2816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2340000" y="4581360"/>
            <a:ext cx="223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ля этого могут быть рекомендованы следующие мероприяти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438280" y="259920"/>
            <a:ext cx="64008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Меры по предупреждению перинатальной патологии плода и новорожденного: охрана здоровья будущих матерей и беременных, оптимальная организация наблюдения за беременными и профилактика осложнений беременности, предупреждение родового травматизма, инфицирования плода и новорожденного и т. п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Меры по снижению соматической и инфекционной заболеваемости детей в первые годы жизн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Ранняя диагностика и своевременное лечение перинатальной церебральной патолог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Ранняя диагностика и коррекция нарушений развития речи у дете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ри наличии билингвизма у ребенка необходим выбор адекватных методов обучения грамоте. Дети, сменившие язык обучения, относятся к группе риска по дислексии и дисграфии и должны получать индивидуальную помощь при освоении второго язык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Работа с неблагополучными семьями и семьями детей, не посещающих детский сад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3000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59920"/>
            <a:ext cx="64008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660066"/>
                </a:solidFill>
                <a:latin typeface="Monotype Corsiva"/>
              </a:rPr>
              <a:t>Вторичная профилактика дислексии</a:t>
            </a:r>
            <a:br>
              <a:rPr sz="4000"/>
            </a:b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79640" y="1628280"/>
            <a:ext cx="4294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лючается в раннем выявлении предрасположенности к этому нарушению и проведении комплекса предупредительных ме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6286680" y="1557360"/>
            <a:ext cx="2857320" cy="42958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Monotype Corsiva"/>
              </a:rPr>
              <a:t>Для предупреждения нарушений чтения рекомендуется следующее: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функционального базиса навыков чтения. Организационно удобнее всего данную работу проводить в речевой группе детского сада или в детском са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и с дислексией с трудом усваивают навык чтения, основой которого является синтез звуков, одновременно с преимущественно аналитическим навыком — письмом. У этих детей оба навыка порой взаимодезорганизуют друг друга. В связи с этим целесообразно у детей, угрожаемых по дислексии, начинать обучение чтению с опережением, еще в дошкольном возрасте, а письму — позже, в школе. Обучение чтению детей с недоразвитием речи (как одну из групп риска) можно начинать с 5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92360" y="228240"/>
            <a:ext cx="53467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c0039"/>
                </a:solidFill>
                <a:latin typeface="Monotype Corsiva"/>
              </a:rPr>
              <a:t>Вторичная профилактика дисграфий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92360" y="1484280"/>
            <a:ext cx="5346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ключается в следующ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Своевременное выявление группы риска, к которой правомерно относить следующих дет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с «цепочкой» перии постнатальных вреднос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с поздним и аномальным развитием устной ре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с задержкой психического разви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с выраженной незрелостью изобразительных способнос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) с билингвизм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явление указанного контингента детей в оптимальном варианте должно быть проведено до начала обучения в школ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490920" cy="300672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124000" y="188640"/>
            <a:ext cx="7020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детьми, имеющими повышенный риск возникновения дисграфии, проводитс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оррекционно-профилактическая рабо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равление фонетико-фонематических нару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функционального базиса пись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ти из группы риска нуждаются в индивидуализации темпов и методов обучения пись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4859280" y="3789360"/>
            <a:ext cx="4284720" cy="306864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1:38:52Z</dcterms:created>
  <dc:creator>Наталия</dc:creator>
  <dc:description/>
  <dc:language>en-US</dc:language>
  <cp:lastModifiedBy>Логопед</cp:lastModifiedBy>
  <dcterms:modified xsi:type="dcterms:W3CDTF">2014-02-20T11:47:16Z</dcterms:modified>
  <cp:revision>9</cp:revision>
  <dc:subject/>
  <dc:title>Профилактика нарушений письменной речи</dc:title>
</cp:coreProperties>
</file>