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F69B-8118-4EBD-BCF0-FB22F393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6A9B-CA58-47E3-92E4-6ECA3250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0C5D-291A-4BAC-9DC1-4989F0FA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8467-A113-4CA6-B96B-DDCF0E8A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D33A-762C-48E6-81F6-318C165C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9E2E-B931-46FF-97E3-21AFF968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1BA5-2D29-4F19-9E3D-03A04738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1423-2FB8-48A5-A417-F7218D81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7B0B-0347-4E19-B511-B218E773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D6B0-88BF-4AED-A335-BDBD1559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C7DF-20A9-4301-B06B-BED80B62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D0AF-E69A-4CA1-8444-9357B7E2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82D5-BB25-422C-9F35-A0362B45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29E1-425D-4E3D-B447-CFB36DD4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1792-6F7D-47E6-BC75-A0F7AB7D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EEE7-85CB-4580-88C2-EA0B6267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2FF3-1E64-4E50-94F0-E96B7ED6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5106-D48D-4370-848E-39759AEE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1C71-8578-4E60-9DB5-10F9F229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CF9-FF34-4FC2-AA42-60250A85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7858-D6C1-4069-A90E-F0407474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4DB8-5F13-4C7C-8DB1-D9B8DCEE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036E-0C4C-449A-BD76-CC4EFBEF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739F-44C2-4026-9CB9-A7CF51EF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C5ED-2BD3-4A4F-BA5C-44BF5E469EE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F3F8-D083-4EC8-87A0-36A09752704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06292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Психологическое сопровождение инновационной деятельности </a:t>
            </a:r>
            <a:br>
              <a:rPr sz="4800"/>
            </a:b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в МБДОУ «Детский сад «Звездочка»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07640" y="3860640"/>
            <a:ext cx="5977080" cy="184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Monotype Corsiva"/>
              </a:rPr>
              <a:t>Педагог-психолог МБДОУ «Детский сад «Звездочка» г.Гагарина Лютикова Е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ed4987"/>
                </a:solidFill>
                <a:latin typeface="Monotype Corsiva"/>
              </a:rPr>
              <a:t>Инновационная деятельность в МБДОУ «Детский сад «Звездочка»-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Monotype Corsiva"/>
              </a:rPr>
              <a:t>    </a:t>
            </a:r>
            <a:r>
              <a:rPr b="1" lang="ru-RU" sz="3600" spc="-1" strike="noStrike">
                <a:solidFill>
                  <a:srgbClr val="800080"/>
                </a:solidFill>
                <a:latin typeface="Monotype Corsiva"/>
              </a:rPr>
              <a:t>участие в работе инновационной площадки , </a:t>
            </a:r>
            <a:r>
              <a:rPr b="1" lang="ru-RU" sz="3600" spc="-1" strike="noStrike" u="sng">
                <a:solidFill>
                  <a:srgbClr val="800080"/>
                </a:solidFill>
                <a:uFillTx/>
                <a:latin typeface="Monotype Corsiva"/>
              </a:rPr>
              <a:t>основной задачей которой является нахождение оптимальных форм и методических приемов, помогающих освоению детьми 3-4 лет способов взаимодействия друг с другом в различных видах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800080"/>
                </a:solidFill>
                <a:latin typeface="Monotype Corsiva"/>
              </a:rPr>
              <a:t>Направления психологического сопровождени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99"/>
                </a:solidFill>
                <a:latin typeface="Monotype Corsiva"/>
              </a:rPr>
              <a:t>1. Работа с дет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Monotype Corsiva"/>
              </a:rPr>
              <a:t>Мероприят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иагностика психического развития де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групповые психологические коррекционно-развивающие занятия, способствующие развитию у детей умений произвольной самоорганизации, управлению своим поведением, умению произвольно сохранять и распределять внимание и запоминать. В результате проведения данных занятий дети учатся общаться, договариваться между собой, оценивать себя (свое поведение, черты характера, умения), происходит корректировка самооценк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ля этого на занятиях используются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зличные образовательные ситуации, психогимна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нтеллектуально-развивающие игры и упражнения (развитие памяти, внимания, мышления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ыхательно-координационные упражнения (направлены на активизацию и работы мозга, снятие мышечного напряж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альчиковая гимнастика (способствует развитию психических функций, а также подвижности и гибкости кистей рук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c3399"/>
                </a:solidFill>
                <a:latin typeface="Monotype Corsiva"/>
              </a:rPr>
              <a:t>2. Работа с педагогами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Monotype Corsiva"/>
              </a:rPr>
              <a:t>Мероприя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иагностика состояния воспитательно-образовательного процесса в детском саду, психологического климата в коллективе и личностных особенностей педагог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ндивидуальное и групповое консультирование педагогов по вопросам совершенствования воспитательно-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сихологическое просвещение педагог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ктивные методы психологической работы с педагогами: психологические тренинги, ролевые игры, релаксационные упраж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c3399"/>
                </a:solidFill>
                <a:latin typeface="Monotype Corsiva"/>
              </a:rPr>
              <a:t>3. Работа с родителями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Monotype Corsiva"/>
              </a:rPr>
              <a:t>Консультативный цен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анкетир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индивидуальное и групповое консультир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«Почта доверия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сихологическое просвещ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групповых  родительских угол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ри помощи психолого-логопедической газе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Monotype Corsiva"/>
              </a:rPr>
              <a:t>Таким образом, </a:t>
            </a:r>
            <a:r>
              <a:rPr b="1" lang="ru-RU" sz="2800" spc="-1" strike="noStrike">
                <a:solidFill>
                  <a:srgbClr val="cc3399"/>
                </a:solidFill>
                <a:latin typeface="Monotype Corsiva"/>
              </a:rPr>
              <a:t>психологическое сопровождение выступает как неотъемлемый элемент системы образования, равноправный партнер структур и специалистов иного профиля в решении задач обучения, воспитания и развития детей. Только  в результате совместных действий педагогов, психологов и медиков может быть достигнута  одна из задач образовательного учреждения –сохранение и укрепление психологического здоровья детей в ДО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5:32:24Z</dcterms:created>
  <dc:creator>ТеРеМоК</dc:creator>
  <dc:description/>
  <dc:language>en-US</dc:language>
  <cp:lastModifiedBy>user</cp:lastModifiedBy>
  <dcterms:modified xsi:type="dcterms:W3CDTF">2014-10-23T16:45:55Z</dcterms:modified>
  <cp:revision>9</cp:revision>
  <dc:subject/>
  <dc:title>Психологическое сопровождение инновационной деятельности  в ДОУ</dc:title>
</cp:coreProperties>
</file>