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7CE51-A8A7-4415-91F7-4DFB87A154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6C29C-8D34-4AB2-ACFE-7F151B6B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F6940-FFDD-4CCC-B058-D5595CC2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2C75C-545B-4894-8525-F0B018A946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F1389-756B-4260-9733-949A2A2E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23F10-AE63-44DF-B7A6-A4C8F669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EC3C8-0DB4-468F-B8BE-67FBED2C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E975E-92A1-4A05-93D6-B1327E50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F5D2D-AD27-44A1-8CD6-E1C9DB7A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41E31-3BDF-437C-AE44-4814F0C0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77C3C-2FBE-4C40-BFAF-8D786F8F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B1B88-FF34-4EA9-A4C7-3116BD8B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1CC334-96A3-4A4E-B502-A3406CC6647B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58880" y="2927520"/>
            <a:ext cx="5940360" cy="105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onstantia"/>
              </a:rPr>
              <a:t>а о у и е я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5300640"/>
            <a:ext cx="784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4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1 2 3 4 5 6 7 8 9 10</a:t>
            </a: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1484280" y="3510000"/>
            <a:ext cx="64008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4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1 2 3 4 5</a:t>
            </a: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55640" y="-14616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276640"/>
            <a:ext cx="822960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Хуже всех слышит тот, кто</a:t>
            </a:r>
            <a:r>
              <a:rPr b="0" lang="ru-RU" sz="5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е хочет слуша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– </a:t>
            </a:r>
            <a:r>
              <a:rPr b="1" lang="ru-RU" sz="6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Э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А – О – У – 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н      ан       ун      ы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       ня       нё      н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н    нон    нун    не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те    нты    нтя      нт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оговор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355680" y="2332080"/>
            <a:ext cx="878508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– на – на </a:t>
            </a:r>
            <a:r>
              <a:rPr b="1" lang="ru-RU" sz="35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– во дворе растет сосна;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 – но – но </a:t>
            </a:r>
            <a:r>
              <a:rPr b="1" lang="ru-RU" sz="35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– завтра мы пойдем в кино;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 – ан – ан </a:t>
            </a:r>
            <a:r>
              <a:rPr b="1" lang="ru-RU" sz="35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– собери свой чемодан;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 – ин – ин </a:t>
            </a:r>
            <a:r>
              <a:rPr b="1" lang="ru-RU" sz="35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– вы ходили в магазин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«Алла-меняла».(</a:t>
            </a:r>
            <a:r>
              <a:rPr b="1" i="1" lang="ru-RU" sz="2400" spc="-1" strike="noStrike">
                <a:solidFill>
                  <a:srgbClr val="7f2016"/>
                </a:solidFill>
                <a:latin typeface="Constantia"/>
              </a:rPr>
              <a:t>Постепенное повышение тона голоса с одновременным убыстрением темпа речи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5480" y="1689120"/>
            <a:ext cx="7493040" cy="4348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09T20:44:14Z</dcterms:created>
  <dc:creator>Windows User</dc:creator>
  <dc:description/>
  <dc:language>en-US</dc:language>
  <cp:lastModifiedBy>Windows User</cp:lastModifiedBy>
  <dcterms:modified xsi:type="dcterms:W3CDTF">2019-10-09T20:56:18Z</dcterms:modified>
  <cp:revision>3</cp:revision>
  <dc:subject/>
  <dc:title>а о у и е я </dc:title>
</cp:coreProperties>
</file>