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29.gif" ContentType="image/gif"/>
  <Override PartName="/ppt/media/image15.jpeg" ContentType="image/jpeg"/>
  <Override PartName="/ppt/media/image26.gif" ContentType="image/gif"/>
  <Override PartName="/ppt/media/image20.jpeg" ContentType="image/jpeg"/>
  <Override PartName="/ppt/media/image10.jpeg" ContentType="image/jpeg"/>
  <Override PartName="/ppt/media/image8.jpeg" ContentType="image/jpeg"/>
  <Override PartName="/ppt/media/image25.gif" ContentType="image/gif"/>
  <Override PartName="/ppt/media/image6.jpeg" ContentType="image/jpeg"/>
  <Override PartName="/ppt/media/image11.jpeg" ContentType="image/jpeg"/>
  <Override PartName="/ppt/media/image9.jpeg" ContentType="image/jpeg"/>
  <Override PartName="/ppt/media/image28.png" ContentType="image/png"/>
  <Override PartName="/ppt/media/image7.jpeg" ContentType="image/jpeg"/>
  <Override PartName="/ppt/media/image12.jpeg" ContentType="image/jpeg"/>
  <Override PartName="/ppt/media/image30.gif" ContentType="image/gif"/>
  <Override PartName="/ppt/media/image33.png" ContentType="image/png"/>
  <Override PartName="/ppt/media/image14.jpeg" ContentType="image/jpeg"/>
  <Override PartName="/ppt/media/image31.png" ContentType="image/png"/>
  <Override PartName="/ppt/media/image13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32.png" ContentType="image/png"/>
  <Override PartName="/ppt/media/image1.jpeg" ContentType="image/jpeg"/>
  <Override PartName="/ppt/media/image27.gif" ContentType="image/gif"/>
  <Override PartName="/ppt/media/image3.jpeg" ContentType="image/jpeg"/>
  <Override PartName="/ppt/media/image17.jpeg" ContentType="image/jpeg"/>
  <Override PartName="/ppt/media/image23.gif" ContentType="image/gif"/>
  <Override PartName="/ppt/media/image16.png" ContentType="image/png"/>
  <Override PartName="/ppt/media/image18.jpeg" ContentType="image/jpeg"/>
  <Override PartName="/ppt/media/image19.jpeg" ContentType="image/jpeg"/>
  <Override PartName="/ppt/media/image21.jpeg" ContentType="image/jpeg"/>
  <Override PartName="/ppt/media/image22.png" ContentType="image/png"/>
  <Override PartName="/ppt/media/image24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 Box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dt" idx="5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F93F28E-8B09-42F5-AD8B-67A8CD9222BE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9DB8540-23A6-4BD3-8856-591F6D73D033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1B377EE-1356-4C44-A042-A337024D851A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9DD8FAD-4186-4A4A-B521-4D56EC763EFC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D74C859-E13C-471F-9B8C-6B6FC7F024F6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4B54AF1-19F2-41F4-8C6F-381F298ED422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2940ACD-154F-430F-98EB-4917CE495F3E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84AFF35-D98A-4951-9CFE-17299955803B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723B0B6-EA7D-4D2B-BD09-983257E80C4C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C0B3042-B257-4C8C-96B7-29DFFFCDEDC4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5CDD8D9-78BE-4C90-8B68-611644B2EB14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BA80EF3-0AC8-47F9-84F2-8EA1C2C48ABD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FF59E1C-012E-48AD-B9B7-9A54D6B7475D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BD27B78-F572-4A25-A8FF-F07B2AE23EFD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EAE84B2-9CF1-4C4B-8628-773065C883D1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9B041ED-4126-4390-A46D-A03E27960D39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EB07E66-6DE8-4AA7-ABC2-3D9EBE702AC9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76A5D2E-52A2-444D-8F3E-8C7435AF3358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909169F-D406-424A-BB9C-87980C9C6C47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3D3878A-7B59-4B75-9954-26DBB2A41E1C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5E2A3D3-F88A-40E1-8F07-36D06A327981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F3E812F-869C-4A3C-9436-FBA93D4E972C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F415403-FC02-441C-A4CF-C598BF21FDE6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E7687AD-D8CF-489B-A92B-EF9C9DE9A443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5E6BA9C-EFDE-4B5E-9AF9-0C9FB8B0A54D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A7F98C1-5E7E-4D2D-B408-FB80DCF1BF68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DB68783-E07D-4155-BA0E-3F06BE3C3823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EFD3B74-67C9-4146-8381-5779DAB4B538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7F81AC0-8325-4127-AC5F-B478E545ED7A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9FFBDD0-519E-44E7-9309-9B586EE4FDDD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CFCC6B2-A455-4D4E-87F9-9BF30DA55B90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20ECAC-3899-4AB0-95FF-7A23B4B2FBC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8640"/>
            <a:ext cx="822816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9E9F33-00DE-47C7-89DA-0687E43ED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8640"/>
            <a:ext cx="401508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4058640"/>
            <a:ext cx="401508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B73387-DC7E-482E-9BC4-8659F671D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8640"/>
            <a:ext cx="264924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4058640"/>
            <a:ext cx="264924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4058640"/>
            <a:ext cx="264924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375BE-E7F1-4366-81C0-91AD26AF12E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01543F-8406-4E82-96C1-14E52BBE890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70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130E54-AB33-4C79-B046-2A42EDE93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038C1C-A93F-46C3-BBE3-0CCAE384D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117B9E-E2FC-442D-9B12-A82720E93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8228E0-F2BB-4293-BBC8-206276E59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544E3A-296E-4CFB-9DDB-BBF5D55BC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8640"/>
            <a:ext cx="401508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7770FA-FD77-4952-A152-695F0D032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70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280585-F64C-47F3-8C45-FE53A3552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4058640"/>
            <a:ext cx="401508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5EAF74-3048-420D-8CF7-4ED2E7A61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8640"/>
            <a:ext cx="822816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2E9C54-34CA-46B1-A5A6-80E868073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8640"/>
            <a:ext cx="822816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7B0768-3213-4492-99C3-343C2A647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8640"/>
            <a:ext cx="401508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4058640"/>
            <a:ext cx="401508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E85F8F-04A6-43D7-8CD0-F5D81D692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8640"/>
            <a:ext cx="264924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4058640"/>
            <a:ext cx="264924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4058640"/>
            <a:ext cx="264924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7883D1-FDF4-4CD4-9651-75404580784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8F3731-34BE-4ECC-8CB2-3087F6AB3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7C087-B42A-49BA-803F-009758591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851065-01B2-4522-9FF5-F96E2762D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917D40-ED4C-4007-9F29-D6FB6AC6E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8640"/>
            <a:ext cx="401508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B30D98-5F3A-4E0D-8EA5-8BAB3D72F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4058640"/>
            <a:ext cx="401508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799021-E9CE-496A-A5E0-BF4D44A6A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8640"/>
            <a:ext cx="822816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42317C-E806-429F-AD1F-6920DDD90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924320" y="6416640"/>
            <a:ext cx="76068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cbcbc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87770B2-16EA-4F1B-9D2D-E44537DD7145}" type="slidenum">
              <a:rPr b="0" lang="ru-RU" sz="1200" spc="-1" strike="noStrike">
                <a:solidFill>
                  <a:srgbClr val="bcbcbc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3"/>
          </p:nvPr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7924320" y="6416640"/>
            <a:ext cx="76068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cbcbc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A7D04BE-F24F-4C6B-9FA8-D59A985F00ED}" type="slidenum">
              <a:rPr b="0" lang="ru-RU" sz="1200" spc="-1" strike="noStrike">
                <a:solidFill>
                  <a:srgbClr val="bcbcbc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gif"/><Relationship Id="rId3" Type="http://schemas.openxmlformats.org/officeDocument/2006/relationships/image" Target="../media/image24.gif"/><Relationship Id="rId4" Type="http://schemas.openxmlformats.org/officeDocument/2006/relationships/image" Target="../media/image25.gif"/><Relationship Id="rId5" Type="http://schemas.openxmlformats.org/officeDocument/2006/relationships/image" Target="../media/image26.gif"/><Relationship Id="rId6" Type="http://schemas.openxmlformats.org/officeDocument/2006/relationships/image" Target="../media/image27.gi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gif"/><Relationship Id="rId3" Type="http://schemas.openxmlformats.org/officeDocument/2006/relationships/image" Target="../media/image30.gif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1" descr=""/>
          <p:cNvPicPr/>
          <p:nvPr/>
        </p:nvPicPr>
        <p:blipFill>
          <a:blip r:embed="rId1"/>
          <a:stretch/>
        </p:blipFill>
        <p:spPr>
          <a:xfrm>
            <a:off x="14400" y="0"/>
            <a:ext cx="9115200" cy="5472000"/>
          </a:xfrm>
          <a:prstGeom prst="rect">
            <a:avLst/>
          </a:prstGeom>
          <a:ln w="0">
            <a:noFill/>
          </a:ln>
        </p:spPr>
      </p:pic>
      <p:sp>
        <p:nvSpPr>
          <p:cNvPr id="91" name="Text Box 2"/>
          <p:cNvSpPr/>
          <p:nvPr/>
        </p:nvSpPr>
        <p:spPr>
          <a:xfrm>
            <a:off x="539640" y="260280"/>
            <a:ext cx="770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Презентация для детей -дошкольник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14400" y="5445000"/>
            <a:ext cx="9115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спитатель 6 групп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БДОУ №18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евского район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.Санкт-Петербург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иканоренкова И.С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1" descr=""/>
          <p:cNvPicPr/>
          <p:nvPr/>
        </p:nvPicPr>
        <p:blipFill>
          <a:blip r:embed="rId1"/>
          <a:stretch/>
        </p:blipFill>
        <p:spPr>
          <a:xfrm>
            <a:off x="71280" y="115920"/>
            <a:ext cx="9072720" cy="662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1"/>
          <p:cNvSpPr/>
          <p:nvPr/>
        </p:nvSpPr>
        <p:spPr>
          <a:xfrm>
            <a:off x="0" y="0"/>
            <a:ext cx="9144000" cy="36342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Calibri"/>
              </a:rPr>
              <a:t>Два брата убегают, а два догоняют.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Calibri"/>
              </a:rPr>
              <a:t>Что это?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2"/>
          <p:cNvSpPr/>
          <p:nvPr/>
        </p:nvSpPr>
        <p:spPr>
          <a:xfrm>
            <a:off x="1116000" y="3933720"/>
            <a:ext cx="7272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9600" spc="-1" strike="noStrike">
                <a:solidFill>
                  <a:srgbClr val="ff3300"/>
                </a:solidFill>
                <a:latin typeface="Calibri"/>
              </a:rPr>
              <a:t>Колеса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1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80,-64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0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1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80,-64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1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1" descr=""/>
          <p:cNvPicPr/>
          <p:nvPr/>
        </p:nvPicPr>
        <p:blipFill>
          <a:blip r:embed="rId1"/>
          <a:stretch/>
        </p:blipFill>
        <p:spPr>
          <a:xfrm>
            <a:off x="173160" y="549360"/>
            <a:ext cx="8286480" cy="630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1"/>
          <p:cNvSpPr/>
          <p:nvPr/>
        </p:nvSpPr>
        <p:spPr>
          <a:xfrm>
            <a:off x="0" y="142920"/>
            <a:ext cx="9144000" cy="4493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Ясным утром вдоль дорог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На траве блестит роса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По дороге едут ноги и бегут два колеса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У загадки есть ответ, это мой</a:t>
            </a:r>
            <a:r>
              <a:rPr b="0" lang="ru-RU" sz="4400" spc="-1" strike="noStrike">
                <a:solidFill>
                  <a:srgbClr val="9900ff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…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2"/>
          <p:cNvSpPr/>
          <p:nvPr/>
        </p:nvSpPr>
        <p:spPr>
          <a:xfrm>
            <a:off x="2133720" y="5105520"/>
            <a:ext cx="472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7200" spc="-1" strike="noStrike">
                <a:solidFill>
                  <a:srgbClr val="ff3300"/>
                </a:solidFill>
                <a:latin typeface="Calibri"/>
              </a:rPr>
              <a:t>Велосипед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" dur="1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80,-64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0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" dur="1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80,-64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1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1" descr=""/>
          <p:cNvPicPr/>
          <p:nvPr/>
        </p:nvPicPr>
        <p:blipFill>
          <a:blip r:embed="rId1"/>
          <a:stretch/>
        </p:blipFill>
        <p:spPr>
          <a:xfrm>
            <a:off x="108000" y="0"/>
            <a:ext cx="8928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1"/>
          <p:cNvSpPr/>
          <p:nvPr/>
        </p:nvSpPr>
        <p:spPr>
          <a:xfrm>
            <a:off x="0" y="0"/>
            <a:ext cx="9144000" cy="46659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alibri"/>
              </a:rPr>
              <a:t>Я по городу иду,</a:t>
            </a:r>
            <a:br>
              <a:rPr sz="6000"/>
            </a:br>
            <a:r>
              <a:rPr b="0" lang="ru-RU" sz="6000" spc="-1" strike="noStrike">
                <a:solidFill>
                  <a:srgbClr val="ff0000"/>
                </a:solidFill>
                <a:latin typeface="Calibri"/>
              </a:rPr>
              <a:t>Я в беду не попаду.</a:t>
            </a:r>
            <a:br>
              <a:rPr sz="6000"/>
            </a:br>
            <a:r>
              <a:rPr b="0" lang="ru-RU" sz="6000" spc="-1" strike="noStrike">
                <a:solidFill>
                  <a:srgbClr val="ff0000"/>
                </a:solidFill>
                <a:latin typeface="Calibri"/>
              </a:rPr>
              <a:t>Потому что твёрдо знаю - </a:t>
            </a:r>
            <a:br>
              <a:rPr sz="6000"/>
            </a:br>
            <a:r>
              <a:rPr b="0" lang="ru-RU" sz="6000" spc="-1" strike="noStrike">
                <a:solidFill>
                  <a:srgbClr val="ff0000"/>
                </a:solidFill>
                <a:latin typeface="Calibri"/>
              </a:rPr>
              <a:t>Правила я выполняю.</a:t>
            </a:r>
            <a:br>
              <a:rPr sz="60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2"/>
          <p:cNvSpPr/>
          <p:nvPr/>
        </p:nvSpPr>
        <p:spPr>
          <a:xfrm>
            <a:off x="1835280" y="4665600"/>
            <a:ext cx="5473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8000" spc="-1" strike="noStrike">
                <a:solidFill>
                  <a:srgbClr val="ff0000"/>
                </a:solidFill>
                <a:latin typeface="Calibri"/>
              </a:rPr>
              <a:t>Пешеход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80,-64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80,-64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1" descr=""/>
          <p:cNvPicPr/>
          <p:nvPr/>
        </p:nvPicPr>
        <p:blipFill>
          <a:blip r:embed="rId1"/>
          <a:stretch/>
        </p:blipFill>
        <p:spPr>
          <a:xfrm>
            <a:off x="23760" y="0"/>
            <a:ext cx="91202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1" descr=""/>
          <p:cNvPicPr/>
          <p:nvPr/>
        </p:nvPicPr>
        <p:blipFill>
          <a:blip r:embed="rId1"/>
          <a:stretch/>
        </p:blipFill>
        <p:spPr>
          <a:xfrm>
            <a:off x="28440" y="0"/>
            <a:ext cx="9115560" cy="695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"/>
          <p:cNvSpPr/>
          <p:nvPr/>
        </p:nvSpPr>
        <p:spPr>
          <a:xfrm>
            <a:off x="108000" y="404640"/>
            <a:ext cx="8928000" cy="6310080"/>
          </a:xfrm>
          <a:prstGeom prst="rect">
            <a:avLst/>
          </a:prstGeom>
          <a:solidFill>
            <a:srgbClr val="b2a6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Основные задачи презентац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 </a:t>
            </a:r>
            <a:r>
              <a:rPr b="0" lang="ru-RU" sz="32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для детей-дошкольников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-</a:t>
            </a: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Arial"/>
              </a:rPr>
              <a:t>закрепить представление об улице и уличном дорожном движении в условиях большого город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Arial"/>
              </a:rPr>
              <a:t>-дать представления о правилах дорожного движения и основных его участниках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Arial"/>
              </a:rPr>
              <a:t>-учить понимать знаки дорожного движения и сигналы светофор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Arial"/>
              </a:rPr>
              <a:t>-закреплять представления о мерах личной безопасности в условиях улицы город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Arial"/>
              </a:rPr>
              <a:t>-стимулировать к соблюдению изученных правил, пониманию личной гражданской ответственности перед обществом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1" descr=""/>
          <p:cNvPicPr/>
          <p:nvPr/>
        </p:nvPicPr>
        <p:blipFill>
          <a:blip r:embed="rId1"/>
          <a:stretch/>
        </p:blipFill>
        <p:spPr>
          <a:xfrm>
            <a:off x="347760" y="243000"/>
            <a:ext cx="8472240" cy="635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1" descr=""/>
          <p:cNvPicPr/>
          <p:nvPr/>
        </p:nvPicPr>
        <p:blipFill>
          <a:blip r:embed="rId1"/>
          <a:stretch/>
        </p:blipFill>
        <p:spPr>
          <a:xfrm>
            <a:off x="-23760" y="0"/>
            <a:ext cx="91677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1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амый главный явно о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важный очень светофор!!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0" y="939960"/>
            <a:ext cx="9144000" cy="591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1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569080" cy="633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1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авила перевозки детей в машина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0" y="471600"/>
            <a:ext cx="9144000" cy="638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1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Каким машинам уступают дорогу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0" y="619200"/>
            <a:ext cx="9144000" cy="623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1"/>
          <p:cNvSpPr/>
          <p:nvPr/>
        </p:nvSpPr>
        <p:spPr>
          <a:xfrm>
            <a:off x="457200" y="174600"/>
            <a:ext cx="822960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2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3" descr=""/>
          <p:cNvPicPr/>
          <p:nvPr/>
        </p:nvPicPr>
        <p:blipFill>
          <a:blip r:embed="rId1"/>
          <a:stretch/>
        </p:blipFill>
        <p:spPr>
          <a:xfrm>
            <a:off x="468360" y="0"/>
            <a:ext cx="8136000" cy="665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1"/>
          <p:cNvSpPr/>
          <p:nvPr/>
        </p:nvSpPr>
        <p:spPr>
          <a:xfrm>
            <a:off x="457200" y="174600"/>
            <a:ext cx="822960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2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1" descr=""/>
          <p:cNvPicPr/>
          <p:nvPr/>
        </p:nvPicPr>
        <p:blipFill>
          <a:blip r:embed="rId1"/>
          <a:stretch/>
        </p:blipFill>
        <p:spPr>
          <a:xfrm>
            <a:off x="0" y="-299880"/>
            <a:ext cx="9144000" cy="140004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2"/>
          <p:cNvSpPr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46120" indent="-409680">
              <a:lnSpc>
                <a:spcPct val="100000"/>
              </a:lnSpc>
              <a:spcBef>
                <a:spcPts val="17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40616"/>
                </a:solidFill>
                <a:latin typeface="Times New Roman"/>
                <a:ea typeface="Arial"/>
              </a:rPr>
              <a:t>1.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Кататься на велосипедах и самоката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2771640" y="2205000"/>
            <a:ext cx="48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e40616"/>
                </a:solidFill>
                <a:latin typeface="Times New Roman"/>
                <a:ea typeface="Arial"/>
              </a:rPr>
              <a:t>2.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Играть в игр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3492360" y="4508640"/>
            <a:ext cx="532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Arial"/>
              </a:rPr>
              <a:t>3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.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Играть с мячо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755640" y="5589720"/>
            <a:ext cx="63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Arial"/>
              </a:rPr>
              <a:t>4.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Перебегать через дорог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6" descr=""/>
          <p:cNvPicPr/>
          <p:nvPr/>
        </p:nvPicPr>
        <p:blipFill>
          <a:blip r:embed="rId2"/>
          <a:stretch/>
        </p:blipFill>
        <p:spPr>
          <a:xfrm>
            <a:off x="6804000" y="1052640"/>
            <a:ext cx="2160720" cy="25653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7" descr=""/>
          <p:cNvPicPr/>
          <p:nvPr/>
        </p:nvPicPr>
        <p:blipFill>
          <a:blip r:embed="rId3"/>
          <a:stretch/>
        </p:blipFill>
        <p:spPr>
          <a:xfrm>
            <a:off x="1908000" y="2786040"/>
            <a:ext cx="3240360" cy="19177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8" descr=""/>
          <p:cNvPicPr/>
          <p:nvPr/>
        </p:nvPicPr>
        <p:blipFill>
          <a:blip r:embed="rId4"/>
          <a:stretch/>
        </p:blipFill>
        <p:spPr>
          <a:xfrm>
            <a:off x="179280" y="2349360"/>
            <a:ext cx="1657440" cy="23544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9" descr=""/>
          <p:cNvPicPr/>
          <p:nvPr/>
        </p:nvPicPr>
        <p:blipFill>
          <a:blip r:embed="rId5"/>
          <a:stretch/>
        </p:blipFill>
        <p:spPr>
          <a:xfrm>
            <a:off x="4788000" y="2637000"/>
            <a:ext cx="2376360" cy="18716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0" descr=""/>
          <p:cNvPicPr/>
          <p:nvPr/>
        </p:nvPicPr>
        <p:blipFill>
          <a:blip r:embed="rId6"/>
          <a:stretch/>
        </p:blipFill>
        <p:spPr>
          <a:xfrm>
            <a:off x="6588000" y="3797280"/>
            <a:ext cx="2592360" cy="3040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6398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" descr=""/>
          <p:cNvPicPr/>
          <p:nvPr/>
        </p:nvPicPr>
        <p:blipFill>
          <a:blip r:embed="rId2"/>
          <a:stretch/>
        </p:blipFill>
        <p:spPr>
          <a:xfrm>
            <a:off x="0" y="2319480"/>
            <a:ext cx="3000240" cy="37749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" descr=""/>
          <p:cNvPicPr/>
          <p:nvPr/>
        </p:nvPicPr>
        <p:blipFill>
          <a:blip r:embed="rId3"/>
          <a:stretch/>
        </p:blipFill>
        <p:spPr>
          <a:xfrm>
            <a:off x="6194520" y="2390760"/>
            <a:ext cx="2643120" cy="37749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" descr=""/>
          <p:cNvPicPr/>
          <p:nvPr/>
        </p:nvPicPr>
        <p:blipFill>
          <a:blip r:embed="rId4"/>
          <a:stretch/>
        </p:blipFill>
        <p:spPr>
          <a:xfrm>
            <a:off x="8532720" y="609300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5"/>
          <p:cNvSpPr/>
          <p:nvPr/>
        </p:nvSpPr>
        <p:spPr>
          <a:xfrm>
            <a:off x="1571760" y="3571920"/>
            <a:ext cx="183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3643200" y="3000240"/>
            <a:ext cx="18576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7"/>
          <p:cNvSpPr/>
          <p:nvPr/>
        </p:nvSpPr>
        <p:spPr>
          <a:xfrm>
            <a:off x="3929040" y="3214800"/>
            <a:ext cx="1843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Rectangle 8"/>
          <p:cNvSpPr/>
          <p:nvPr/>
        </p:nvSpPr>
        <p:spPr>
          <a:xfrm>
            <a:off x="3429000" y="2800440"/>
            <a:ext cx="27147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Ежедневно на дорогах России погибает около 1,5 тысяч дете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24 тысячи получают ранения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0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1950"/>
                            </p:stCondLst>
                            <p:childTnLst>
                              <p:par>
                                <p:cTn id="1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2450"/>
                            </p:stCondLst>
                            <p:childTnLst>
                              <p:par>
                                <p:cTn id="1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1" descr=""/>
          <p:cNvPicPr/>
          <p:nvPr/>
        </p:nvPicPr>
        <p:blipFill>
          <a:blip r:embed="rId1"/>
          <a:stretch/>
        </p:blipFill>
        <p:spPr>
          <a:xfrm>
            <a:off x="108000" y="30240"/>
            <a:ext cx="9036000" cy="675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1" descr=""/>
          <p:cNvPicPr/>
          <p:nvPr/>
        </p:nvPicPr>
        <p:blipFill>
          <a:blip r:embed="rId1"/>
          <a:stretch/>
        </p:blipFill>
        <p:spPr>
          <a:xfrm>
            <a:off x="324000" y="426960"/>
            <a:ext cx="4248000" cy="62182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" descr=""/>
          <p:cNvPicPr/>
          <p:nvPr/>
        </p:nvPicPr>
        <p:blipFill>
          <a:blip r:embed="rId2"/>
          <a:stretch/>
        </p:blipFill>
        <p:spPr>
          <a:xfrm>
            <a:off x="4572000" y="426960"/>
            <a:ext cx="4572000" cy="621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0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1" descr=""/>
          <p:cNvPicPr/>
          <p:nvPr/>
        </p:nvPicPr>
        <p:blipFill>
          <a:blip r:embed="rId1"/>
          <a:stretch/>
        </p:blipFill>
        <p:spPr>
          <a:xfrm>
            <a:off x="611280" y="189000"/>
            <a:ext cx="8208720" cy="6669000"/>
          </a:xfrm>
          <a:prstGeom prst="rect">
            <a:avLst/>
          </a:prstGeom>
          <a:ln w="0">
            <a:noFill/>
          </a:ln>
        </p:spPr>
      </p:pic>
      <p:sp>
        <p:nvSpPr>
          <p:cNvPr id="96" name="Text Box 2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Отгадайте загадки Светофорик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1"/>
          <p:cNvSpPr/>
          <p:nvPr/>
        </p:nvSpPr>
        <p:spPr>
          <a:xfrm>
            <a:off x="684360" y="476280"/>
            <a:ext cx="8197560" cy="38145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Calibri"/>
              </a:rPr>
              <a:t>Для этого коня еда – бензин, и масло, и вода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Calibri"/>
              </a:rPr>
              <a:t>На лугу он не пасется, по дорогам он несется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2"/>
          <p:cNvSpPr/>
          <p:nvPr/>
        </p:nvSpPr>
        <p:spPr>
          <a:xfrm>
            <a:off x="1714680" y="5657760"/>
            <a:ext cx="533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7200" spc="-1" strike="noStrike">
                <a:solidFill>
                  <a:srgbClr val="ff3300"/>
                </a:solidFill>
                <a:latin typeface="Calibri"/>
              </a:rPr>
              <a:t>Автомобиль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10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80,-64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0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10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80,-64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10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1" descr=""/>
          <p:cNvPicPr/>
          <p:nvPr/>
        </p:nvPicPr>
        <p:blipFill>
          <a:blip r:embed="rId1"/>
          <a:stretch/>
        </p:blipFill>
        <p:spPr>
          <a:xfrm>
            <a:off x="0" y="22320"/>
            <a:ext cx="9036000" cy="683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"/>
          <p:cNvSpPr/>
          <p:nvPr/>
        </p:nvSpPr>
        <p:spPr>
          <a:xfrm>
            <a:off x="500040" y="0"/>
            <a:ext cx="8001000" cy="50317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Calibri"/>
              </a:rPr>
              <a:t>Тянется нитка, среди полей петляя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Calibri"/>
              </a:rPr>
              <a:t>Лесом, перелесками без конца и края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Calibri"/>
              </a:rPr>
              <a:t>Ни порвать, ни в клубок смотать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2"/>
          <p:cNvSpPr/>
          <p:nvPr/>
        </p:nvSpPr>
        <p:spPr>
          <a:xfrm>
            <a:off x="1714680" y="5411880"/>
            <a:ext cx="5562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8800" spc="-1" strike="noStrike">
                <a:solidFill>
                  <a:srgbClr val="ff3300"/>
                </a:solidFill>
                <a:latin typeface="Calibri"/>
              </a:rPr>
              <a:t>Дорога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" dur="1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80,-64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0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" dur="1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80,-64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1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1" descr=""/>
          <p:cNvPicPr/>
          <p:nvPr/>
        </p:nvPicPr>
        <p:blipFill>
          <a:blip r:embed="rId1"/>
          <a:stretch/>
        </p:blipFill>
        <p:spPr>
          <a:xfrm>
            <a:off x="46080" y="158760"/>
            <a:ext cx="9097920" cy="658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1"/>
          <p:cNvSpPr/>
          <p:nvPr/>
        </p:nvSpPr>
        <p:spPr>
          <a:xfrm>
            <a:off x="0" y="0"/>
            <a:ext cx="9144000" cy="28371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alibri"/>
              </a:rPr>
              <a:t>Две пары ног на мостовой,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alibri"/>
              </a:rPr>
              <a:t>И две руки над головой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alibri"/>
              </a:rPr>
              <a:t>Что это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2"/>
          <p:cNvSpPr/>
          <p:nvPr/>
        </p:nvSpPr>
        <p:spPr>
          <a:xfrm>
            <a:off x="1500120" y="5657760"/>
            <a:ext cx="6310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7200" spc="-1" strike="noStrike">
                <a:solidFill>
                  <a:srgbClr val="ff3300"/>
                </a:solidFill>
                <a:latin typeface="Calibri"/>
              </a:rPr>
              <a:t>Троллейбус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" dur="1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80,-64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0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" dur="1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80,-64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1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лександр Драхлер</dc:creator>
  <dc:description/>
  <dc:language>en-US</dc:language>
  <cp:lastModifiedBy>Кирилл Никаноренков</cp:lastModifiedBy>
  <dcterms:modified xsi:type="dcterms:W3CDTF">2019-10-04T17:24:46Z</dcterms:modified>
  <cp:revision>149</cp:revision>
  <dc:subject/>
  <dc:title>Слайд 1</dc:title>
</cp:coreProperties>
</file>