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13F-0E8C-4F33-9639-C26BC50E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DA2-DA6D-482D-A7ED-3EBF9B31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E9E-11EE-47D8-8039-7F3B282C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9B0-2689-4223-B1D9-46378B7C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EDC9-8411-4FC7-B547-3FAA22F5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C2BB-46BF-4B93-89CB-B21C7611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512F-6B29-4342-AFE0-F8F6FAF2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3124-C252-4685-B91D-BB51274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6C7-245B-4985-BBFC-29F86785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4CC5-49A9-48BB-917D-12321C1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4EC-B72E-482C-94F7-E718F06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F87-B6CB-43CD-A8D4-05D20762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7091-D0F5-404E-A0F0-A156694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DB79-1825-4815-B39A-A0C690F9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6E16-FF35-40FC-B049-37BCAFB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8DB4-68C5-4C89-AEB7-77A92A62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0E5-C98C-4589-B055-58F30C36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BB4-CDAF-4BF6-9F7D-FCBCD641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C9A-2CFE-4187-9636-11C9BF4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74E-9133-4D1C-9DE4-5A28E44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91A-B7D6-491F-88E4-F30A6B0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343-F3BC-49D1-A82C-38CDF4A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57B-06F5-4885-A4C8-D207BA1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1CC-4D9F-4A86-9293-723201C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65F09-DD72-424C-8C45-051F1208AF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1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11E0-D307-4E89-A159-2A96EBF329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История создания микроскопа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79280" y="1768320"/>
            <a:ext cx="7775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52360" y="1765440"/>
            <a:ext cx="8643960" cy="565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64000" y="5904000"/>
            <a:ext cx="6156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Arial Unicode MS"/>
              </a:rPr>
              <a:t>Презентацию подготовила</a:t>
            </a:r>
            <a:br>
              <a:rPr sz="2600"/>
            </a:b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Arial Unicode MS"/>
              </a:rPr>
              <a:t>Шустова О.В., учитель биологии</a:t>
            </a:r>
            <a:br>
              <a:rPr sz="2600"/>
            </a:b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Arial Unicode MS"/>
              </a:rPr>
              <a:t>АНО СОШ № 203 «Родник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08000" y="144000"/>
            <a:ext cx="615636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Наблюдения 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7280" y="941400"/>
            <a:ext cx="9647280" cy="193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несите в таблицу увеличение каждого объектива и окуляра вашего микроскопа. Определите во сколько увеличивает микроскоп при малом и большом увели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3280" y="2936880"/>
          <a:ext cx="8805600" cy="1741320"/>
        </p:xfrm>
        <a:graphic>
          <a:graphicData uri="http://schemas.openxmlformats.org/drawingml/2006/table">
            <a:tbl>
              <a:tblPr/>
              <a:tblGrid>
                <a:gridCol w="2200680"/>
                <a:gridCol w="2200680"/>
                <a:gridCol w="2200680"/>
                <a:gridCol w="2203560"/>
              </a:tblGrid>
              <a:tr h="80820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объекти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окуля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увели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6656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656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87280" y="4967280"/>
            <a:ext cx="453564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2. Зарисуйте букву с препарата под малым и большим увели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4896000"/>
            <a:ext cx="2303640" cy="2303280"/>
          </a:xfrm>
          <a:prstGeom prst="ellipse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42920" y="215640"/>
            <a:ext cx="615636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Вывод 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439640"/>
            <a:ext cx="964728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является источником света в вашем микроскоп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м отличается изображение объекта при большом увеличении от изображения при малом увеличении и без увелич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ъясните, почему объект, рассматриваемый под микроскопом, должен быть тон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чему следует предметное и покровное стекло держать за кра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учить строение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нести помидор, яблоко, манда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52560"/>
            <a:ext cx="6156360" cy="17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7640" y="414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03640" y="3527280"/>
            <a:ext cx="4248360" cy="27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4360" y="255600"/>
            <a:ext cx="8675640" cy="17604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1590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 Ханс Янсен 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и его сын Захарий Янсен  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20720" y="2236680"/>
            <a:ext cx="7127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 увеличи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3 до 10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360" y="1982880"/>
            <a:ext cx="201924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3320" y="1871640"/>
            <a:ext cx="6737040" cy="5111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144000"/>
            <a:ext cx="403236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1619 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Корнелиус 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Дребель  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00720" y="249120"/>
            <a:ext cx="4032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  <a:ea typeface="Arial Unicode MS"/>
              </a:rPr>
              <a:t>1633 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  <a:ea typeface="Arial Unicode MS"/>
              </a:rPr>
              <a:t>Роберт Гук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696000" y="2232000"/>
            <a:ext cx="3087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1673-1977</a:t>
            </a:r>
            <a:br>
              <a:rPr sz="4100"/>
            </a:b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Антони ван Левенгук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7480" y="1728720"/>
            <a:ext cx="2882880" cy="460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33640" y="1768320"/>
            <a:ext cx="57420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84360" y="287280"/>
            <a:ext cx="694836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928692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800000"/>
                </a:solidFill>
                <a:latin typeface="Arial"/>
              </a:rPr>
              <a:t>Правила работы с микроскопом</a:t>
            </a:r>
            <a:endParaRPr b="1" i="1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360" y="1157040"/>
            <a:ext cx="9468000" cy="5538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микроскопом следует сид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скоп установить перед собой (или по середине) на расстоянии 10 см от края п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ядя один глазом в объектив и пользуясь зеркалом, направить свет от окна или лампы в объектив и максимально осветить поле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микропрепарат на предметный сто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винта опустить тубус на расстояние 1-2 мм от пре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ядя в окуляр плавно поднимать тубус до появления четкого изоб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640" y="144000"/>
            <a:ext cx="97916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Приготовление временного препарата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915840"/>
            <a:ext cx="964728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ереть предметное стек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езать из газеты букву и положить ее в центре чистого предметного с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петкой нанести каплю воды на кусочек газеты и покрыть сверху покровным стек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ишек воды удалить фильтровальной бам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ь приготовленный препарат на предметный ст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ясь регулировочным винтом добиться четкого изображения при малом и большом увели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6:57:13Z</dcterms:created>
  <dc:creator/>
  <dc:description/>
  <dc:language>en-US</dc:language>
  <cp:lastModifiedBy/>
  <dcterms:modified xsi:type="dcterms:W3CDTF">2019-10-10T19:37:50Z</dcterms:modified>
  <cp:revision>2</cp:revision>
  <dc:subject/>
  <dc:title/>
</cp:coreProperties>
</file>