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8.wmf" ContentType="image/x-wmf"/>
  <Override PartName="/ppt/media/image16.gif" ContentType="image/gif"/>
  <Override PartName="/ppt/media/image10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A98-5841-44B0-A4E4-82D2E2A2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F25-2510-4FDE-8055-068C053F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0D7-AC40-47AA-923F-AEB0752D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309-F81B-4AE5-BC38-1948DE9F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F383-F5E5-4608-9C93-BC845BB1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7791-26C8-4FE6-A4B3-EE651980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2186-E08B-4CE1-8C43-B15BE7EA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D812-DA4D-4E77-87BC-35E51DF1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5DAA-9CF3-4F8A-B264-D120AC0A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B57E-E641-498A-AA96-470176E1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D931-2B0C-4284-A953-8971A508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548-C02A-4307-8535-63F2A24F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84C0-26B0-4F07-B246-66AEBC42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9F78-642A-40D3-B9F8-C80A67A7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E676-82E6-4B0B-B829-97D65DC8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2CEF-BAA3-49E8-801C-45BD06DE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94A4-AB02-48C8-81D6-AEC5B657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B5B-32BB-4B24-AB6B-FF7E2CBC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139-E1E8-490C-988A-3521FEA9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46F-B46F-4A46-B8A1-0A39B56F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3A0-59F1-48DD-90C6-4CD8C854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5FE-AD7C-4911-B165-05900597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A1A-D8BE-4C63-9E01-F26DF0FD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70A-484B-4487-8941-88EFE1E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32BA-3579-411E-B128-D22EA7F479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F613-40D5-4CEC-9329-168C5FA103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6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втоматизация звука «с» в слогах и словах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: Четко произносить звук» с» в слогах и словах, развитие фонематического слуха, слухового внимания, мелкой мото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аккуратного отношения к школьным принадлежност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а Т.А.Повалюхи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-логопед МБДОУ «ЦРР – детский сад №169» г. Вороне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cccft"/>
          <p:cNvPicPr/>
          <p:nvPr/>
        </p:nvPicPr>
        <p:blipFill>
          <a:blip r:embed="rId1"/>
          <a:stretch/>
        </p:blipFill>
        <p:spPr>
          <a:xfrm>
            <a:off x="6084720" y="4653000"/>
            <a:ext cx="23036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1.Гимнастика и массаж для органов артикуляции, зрения, слуха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Артикуляционная гимнастика для языка.( почистим зубы, язык на замочке, гор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Массаж органов зрения и сл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казательнами пальцами проводим по бровям , делаем круговые дви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казательным и большим пальцами  делаем массаж у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BD19563_"/>
          <p:cNvPicPr/>
          <p:nvPr/>
        </p:nvPicPr>
        <p:blipFill>
          <a:blip r:embed="rId1"/>
          <a:stretch/>
        </p:blipFill>
        <p:spPr>
          <a:xfrm>
            <a:off x="7667640" y="4869000"/>
            <a:ext cx="116208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2.Слоговые упражнения. Выдели голосом один слог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асос-ссссс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-со-су    су-со-са    со-са-су  ас-ос-ус-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-са-са- у нас 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-со-со- чиним колеС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-су-су-едим вкусный Су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-со –СУ, со-су-СА,  су-са-С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, СА, СО, -са-ас, су-ус, со-ос, сы-ыс, си-и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слог отличается от других и 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3. Загад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гадайте загадки. Звуко –буквенный анализ слов и звуко-слоговой анализ и синтез с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Без крыльев , а летают, весной вырастают , а осенью опадаю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сты поля, мокнет земля, дожд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вает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AG00157_"/>
          <p:cNvPicPr/>
          <p:nvPr/>
        </p:nvPicPr>
        <p:blipFill>
          <a:blip r:embed="rId1"/>
          <a:stretch/>
        </p:blipFill>
        <p:spPr>
          <a:xfrm>
            <a:off x="3708360" y="5013360"/>
            <a:ext cx="2232000" cy="1390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сакув"/>
          <p:cNvPicPr/>
          <p:nvPr/>
        </p:nvPicPr>
        <p:blipFill>
          <a:blip r:embed="rId2"/>
          <a:stretch/>
        </p:blipFill>
        <p:spPr>
          <a:xfrm>
            <a:off x="6516720" y="3213000"/>
            <a:ext cx="262728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4.Игра « Попугайчик»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бъясни значение слов. Спой первый звук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-са- сад, сам, сало, санки, сади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-су-су- суп, судак, сум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-со-со- сок, сон, соль, со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ы-сы-сы- сын, сыр, сы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д-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ь-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мка-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j0298897"/>
          <p:cNvPicPr/>
          <p:nvPr/>
        </p:nvPicPr>
        <p:blipFill>
          <a:blip r:embed="rId1"/>
          <a:stretch/>
        </p:blipFill>
        <p:spPr>
          <a:xfrm>
            <a:off x="5724360" y="4292640"/>
            <a:ext cx="1806840" cy="15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азовите картинки .Найдите звук «с» в словах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9376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это?Назови их одним сло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j0233070"/>
          <p:cNvPicPr/>
          <p:nvPr/>
        </p:nvPicPr>
        <p:blipFill>
          <a:blip r:embed="rId1"/>
          <a:stretch/>
        </p:blipFill>
        <p:spPr>
          <a:xfrm>
            <a:off x="6181560" y="105264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234131"/>
          <p:cNvPicPr/>
          <p:nvPr/>
        </p:nvPicPr>
        <p:blipFill>
          <a:blip r:embed="rId2"/>
          <a:stretch/>
        </p:blipFill>
        <p:spPr>
          <a:xfrm>
            <a:off x="2268360" y="4365720"/>
            <a:ext cx="1513080" cy="165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j0292152"/>
          <p:cNvPicPr/>
          <p:nvPr/>
        </p:nvPicPr>
        <p:blipFill>
          <a:blip r:embed="rId3"/>
          <a:stretch/>
        </p:blipFill>
        <p:spPr>
          <a:xfrm>
            <a:off x="179280" y="4365720"/>
            <a:ext cx="1538280" cy="18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j0298897"/>
          <p:cNvPicPr/>
          <p:nvPr/>
        </p:nvPicPr>
        <p:blipFill>
          <a:blip r:embed="rId4"/>
          <a:stretch/>
        </p:blipFill>
        <p:spPr>
          <a:xfrm>
            <a:off x="900000" y="692280"/>
            <a:ext cx="1806840" cy="1577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j0299587"/>
          <p:cNvPicPr/>
          <p:nvPr/>
        </p:nvPicPr>
        <p:blipFill>
          <a:blip r:embed="rId5"/>
          <a:stretch/>
        </p:blipFill>
        <p:spPr>
          <a:xfrm>
            <a:off x="1403280" y="2781360"/>
            <a:ext cx="1152720" cy="144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j0335112"/>
          <p:cNvPicPr/>
          <p:nvPr/>
        </p:nvPicPr>
        <p:blipFill>
          <a:blip r:embed="rId6"/>
          <a:stretch/>
        </p:blipFill>
        <p:spPr>
          <a:xfrm>
            <a:off x="3635280" y="2997360"/>
            <a:ext cx="1251000" cy="1180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J0086384"/>
          <p:cNvPicPr/>
          <p:nvPr/>
        </p:nvPicPr>
        <p:blipFill>
          <a:blip r:embed="rId7"/>
          <a:stretch/>
        </p:blipFill>
        <p:spPr>
          <a:xfrm>
            <a:off x="5945040" y="2637000"/>
            <a:ext cx="319896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AN01060_"/>
          <p:cNvPicPr/>
          <p:nvPr/>
        </p:nvPicPr>
        <p:blipFill>
          <a:blip r:embed="rId8"/>
          <a:stretch/>
        </p:blipFill>
        <p:spPr>
          <a:xfrm>
            <a:off x="4140360" y="4581360"/>
            <a:ext cx="2071440" cy="18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6.Гимнастика для мелкой мотори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иани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ечатаем 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днимаемся по кана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лете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ишем в воздух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J0086428"/>
          <p:cNvPicPr/>
          <p:nvPr/>
        </p:nvPicPr>
        <p:blipFill>
          <a:blip r:embed="rId1"/>
          <a:stretch/>
        </p:blipFill>
        <p:spPr>
          <a:xfrm>
            <a:off x="5292720" y="1628640"/>
            <a:ext cx="34354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7.Работа в тетрад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что похожа буква « С»?-ломтик сыра, пол- бубл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шем слоги и слова .Номер слайда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-сам, со-сон, сы-сын, су-суп, си-си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иши 3 слова по теме « Осен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BD00146_"/>
          <p:cNvPicPr/>
          <p:nvPr/>
        </p:nvPicPr>
        <p:blipFill>
          <a:blip r:embed="rId1"/>
          <a:stretch/>
        </p:blipFill>
        <p:spPr>
          <a:xfrm>
            <a:off x="4643280" y="4508640"/>
            <a:ext cx="252108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тоги занятия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у учились? Что нового узна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неси  звук «с», в слогах, в слов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А сейчас дружок , прозвенел звонок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нок1"/>
          <p:cNvPicPr/>
          <p:nvPr/>
        </p:nvPicPr>
        <p:blipFill>
          <a:blip r:embed="rId1"/>
          <a:stretch/>
        </p:blipFill>
        <p:spPr>
          <a:xfrm>
            <a:off x="4211640" y="3500280"/>
            <a:ext cx="2297160" cy="308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24:20Z</dcterms:created>
  <dc:creator>Дувалкина Надежда Федоровна</dc:creator>
  <dc:description/>
  <dc:language>en-US</dc:language>
  <cp:lastModifiedBy>User</cp:lastModifiedBy>
  <dcterms:modified xsi:type="dcterms:W3CDTF">2019-10-11T09:45:59Z</dcterms:modified>
  <cp:revision>9</cp:revision>
  <dc:subject/>
  <dc:title>Автоматизация звука «с» в слогах и словах. </dc:title>
</cp:coreProperties>
</file>