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4.wmf" ContentType="image/x-wmf"/>
  <Override PartName="/ppt/media/image3.gif" ContentType="image/gif"/>
  <Override PartName="/ppt/media/image4.jpeg" ContentType="image/jpeg"/>
  <Override PartName="/ppt/media/applause.wav" ContentType="audio/x-wav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4988-8E27-4B83-9335-794B5142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91F-83EB-478F-9C7A-F4D1C406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432-3FB5-4962-ACF7-008C6C06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C40-F150-4D8D-9716-4EE67A6B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AFCF-6D11-4C71-AE89-577DCB97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279B-02C9-4FB7-9480-989CF209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328F-B680-4A92-B35B-1C6F1A4F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2CB0-D6B0-4A7A-BD46-9605004D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D51-0E00-4907-B21E-72EA787F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39D-EDAB-4047-B0F6-DA3BD96B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B562-5D10-4166-8296-6E4BC33D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154-2B28-4120-BE93-9966175F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51A8-5E70-4980-857E-15A8D80F8C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48000" y="5013360"/>
            <a:ext cx="3808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Подготовила воспита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Жихарева В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9"/>
          <p:cNvSpPr txBox="1"/>
          <p:nvPr/>
        </p:nvSpPr>
        <p:spPr>
          <a:xfrm>
            <a:off x="1476360" y="2565360"/>
            <a:ext cx="6624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Азбука вежливости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C:\Documents and Settings\Яна Савина\Мои документы\Развитие\Материал для презентаций\Урок вежливости\асибо2.jpg"/>
          <p:cNvPicPr/>
          <p:nvPr/>
        </p:nvPicPr>
        <p:blipFill>
          <a:blip r:embed="rId1"/>
          <a:stretch/>
        </p:blipFill>
        <p:spPr>
          <a:xfrm>
            <a:off x="857160" y="1857240"/>
            <a:ext cx="2024280" cy="2025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3429000" y="1785960"/>
            <a:ext cx="546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сли больше есть не в силах,</a:t>
            </a:r>
            <a:r>
              <a:rPr b="1" lang="ru-RU" sz="28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кажем маме мы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1"/>
          <p:cNvSpPr/>
          <p:nvPr/>
        </p:nvSpPr>
        <p:spPr>
          <a:xfrm>
            <a:off x="5143680" y="3857760"/>
            <a:ext cx="357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просишь что -нибуд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огда ты не забуд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ть воспитанным все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говорить…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жалуй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C:\Users\Пользователь\Desktop\вежливые слова\i_006.jpg"/>
          <p:cNvPicPr/>
          <p:nvPr/>
        </p:nvPicPr>
        <p:blipFill>
          <a:blip r:embed="rId2"/>
          <a:stretch/>
        </p:blipFill>
        <p:spPr>
          <a:xfrm>
            <a:off x="2071800" y="4071960"/>
            <a:ext cx="2571480" cy="25002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wheel spokes="2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71400" y="1773000"/>
            <a:ext cx="61671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ое солнышко встало опять -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оброе утро!»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вы сказ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:\Documents and Settings\Яна Савина\Мои документы\Развитие\Материал для презентаций\Урок вежливости\оброе утро2.jpg"/>
          <p:cNvPicPr/>
          <p:nvPr/>
        </p:nvPicPr>
        <p:blipFill>
          <a:blip r:embed="rId1"/>
          <a:stretch/>
        </p:blipFill>
        <p:spPr>
          <a:xfrm>
            <a:off x="2428920" y="3286080"/>
            <a:ext cx="4143240" cy="34005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wheel spokes="1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2600"/>
                            </p:stCondLst>
                            <p:childTnLst>
                              <p:par>
                                <p:cTn id="277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7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8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71400" y="1773360"/>
            <a:ext cx="6167160" cy="21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ра за стол,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ё для еды накрыто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лаем всем…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ятного аппет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3214800" y="4143240"/>
          <a:ext cx="2857320" cy="22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4800" y="4143240"/>
                    <a:ext cx="2857320" cy="22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20000">
    <p:wheel spokes="1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2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9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9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4280" y="1773000"/>
            <a:ext cx="652464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солнышко садится –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деревьям золотится,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ворим тогда при встрече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м знакомым…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ый вечер</a:t>
            </a:r>
            <a:br>
              <a:rPr sz="4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C:\Documents and Settings\Яна Савина\Мои документы\Развитие\Материал для презентаций\Урок вежливости\закат.jpg"/>
          <p:cNvPicPr/>
          <p:nvPr/>
        </p:nvPicPr>
        <p:blipFill>
          <a:blip r:embed="rId1"/>
          <a:stretch/>
        </p:blipFill>
        <p:spPr>
          <a:xfrm>
            <a:off x="2643120" y="4286160"/>
            <a:ext cx="3429000" cy="23576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wheel spokes="1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7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0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1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1499760"/>
            <a:ext cx="4286160" cy="364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чер. Спать хотим мы очень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ажем всем…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койной ночи</a:t>
            </a:r>
            <a:br>
              <a:rPr sz="4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C:\Documents and Settings\Яна Савина\Мои документы\Развитие\Материал для презентаций\Урок вежливости\окойной ночи.jpg"/>
          <p:cNvPicPr/>
          <p:nvPr/>
        </p:nvPicPr>
        <p:blipFill>
          <a:blip r:embed="rId1"/>
          <a:stretch/>
        </p:blipFill>
        <p:spPr>
          <a:xfrm>
            <a:off x="5072040" y="2714760"/>
            <a:ext cx="310680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wheel spokes="1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1400"/>
                            </p:stCondLst>
                            <p:childTnLst>
                              <p:par>
                                <p:cTn id="322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2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те 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тив зайку, ёж-сос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 ему: «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68360" y="300024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вет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2286000" y="4143240"/>
            <a:ext cx="4572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го сосед ушас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: «Ёжик,….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дравствуй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те 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2286000" y="1714680"/>
            <a:ext cx="457200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сьминожке Камб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недельник заплыл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 вторник на прощ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й сказала: «…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свиданья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те 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6"/>
          <p:cNvSpPr/>
          <p:nvPr/>
        </p:nvSpPr>
        <p:spPr>
          <a:xfrm>
            <a:off x="2286000" y="1714680"/>
            <a:ext cx="45720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ясогузка с береж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нила червячка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 угощенье рыб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й пробулькала: «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те 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2286000" y="1714680"/>
            <a:ext cx="45720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емот и Слон, поверь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олезут вместе в дверь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, кто вежливей, сейчас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ет: «Только 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ле Вас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те 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2286000" y="1714680"/>
            <a:ext cx="45720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 Ивану царь Гунде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пасенье пять гвоздей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Иванушка цар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: « 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лагодарю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835280" y="1413000"/>
            <a:ext cx="685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1295280" y="396252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752480" y="2895480"/>
            <a:ext cx="1333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1071720" y="5143680"/>
            <a:ext cx="3352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2286000" y="1785960"/>
            <a:ext cx="4572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Чтобы радость людя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ри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до добрым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жливым быть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5"/>
          <p:cNvPicPr/>
          <p:nvPr/>
        </p:nvPicPr>
        <p:blipFill>
          <a:blip r:embed="rId1"/>
          <a:stretch/>
        </p:blipFill>
        <p:spPr>
          <a:xfrm flipH="1">
            <a:off x="6357960" y="4357800"/>
            <a:ext cx="2643120" cy="22939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hecke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1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Перед тем, как нам расста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И уйти всем по дом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Хочется мне попрощать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Пожелав при этом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Чтобы вежливыми бы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лов волшебных не забы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Чтобы добрыми сло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Говорили вы с друзь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strips dir="rd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14400" y="333000"/>
            <a:ext cx="7229520" cy="61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2" descr="72.jpg"/>
          <p:cNvPicPr/>
          <p:nvPr/>
        </p:nvPicPr>
        <p:blipFill>
          <a:blip r:embed="rId1"/>
          <a:stretch/>
        </p:blipFill>
        <p:spPr>
          <a:xfrm>
            <a:off x="1143000" y="1785960"/>
            <a:ext cx="6858000" cy="47862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strips dir="rd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вежлив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 «вежливость» происходит от старославянского «веже», то есть «знаток». Быть вежливым означает знать, как себя вести. Вежливость – это качество человека, для которого уважение к людям является повседневной нормой поведения и привычным способом обращения с окружающими. Она включает: внимательность, проявление доброжелательности ко всем, готовность оказать услугу каждому, кто в этом нуждается, приветливость, деликатность, тактичность, скром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Comic Sans MS"/>
              </a:rPr>
              <a:t>В каких случаях </a:t>
            </a:r>
            <a:br>
              <a:rPr sz="4000"/>
            </a:br>
            <a:r>
              <a:rPr b="0" lang="ru-RU" sz="4000" spc="-1" strike="noStrike">
                <a:solidFill>
                  <a:srgbClr val="6600ff"/>
                </a:solidFill>
                <a:latin typeface="Comic Sans MS"/>
              </a:rPr>
              <a:t>мы используем эти сло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2916360" y="5734080"/>
            <a:ext cx="3168360" cy="576360"/>
          </a:xfrm>
          <a:prstGeom prst="flowChartAlternateProcess">
            <a:avLst/>
          </a:prstGeom>
          <a:solidFill>
            <a:srgbClr val="00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лагодар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1618920" y="1628640"/>
            <a:ext cx="5761440" cy="4105440"/>
            <a:chOff x="1618920" y="1628640"/>
            <a:chExt cx="5761440" cy="4105440"/>
          </a:xfrm>
        </p:grpSpPr>
        <p:pic>
          <p:nvPicPr>
            <p:cNvPr id="54" name="Picture 5" descr="6"/>
            <p:cNvPicPr/>
            <p:nvPr/>
          </p:nvPicPr>
          <p:blipFill>
            <a:blip r:embed="rId1"/>
            <a:stretch/>
          </p:blipFill>
          <p:spPr>
            <a:xfrm>
              <a:off x="2843280" y="1628640"/>
              <a:ext cx="331308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Line 6"/>
            <p:cNvSpPr/>
            <p:nvPr/>
          </p:nvSpPr>
          <p:spPr>
            <a:xfrm flipV="1">
              <a:off x="6156360" y="2276640"/>
              <a:ext cx="115236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7"/>
            <p:cNvSpPr/>
            <p:nvPr/>
          </p:nvSpPr>
          <p:spPr>
            <a:xfrm flipH="1" flipV="1">
              <a:off x="1618920" y="2276640"/>
              <a:ext cx="1297080" cy="72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"/>
            <p:cNvSpPr/>
            <p:nvPr/>
          </p:nvSpPr>
          <p:spPr>
            <a:xfrm>
              <a:off x="6084720" y="3789360"/>
              <a:ext cx="1295640" cy="576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9"/>
            <p:cNvSpPr/>
            <p:nvPr/>
          </p:nvSpPr>
          <p:spPr>
            <a:xfrm flipH="1">
              <a:off x="1692360" y="3789360"/>
              <a:ext cx="1295280" cy="576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4500720" y="4508640"/>
              <a:ext cx="0" cy="1225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AutoShape 11"/>
          <p:cNvSpPr/>
          <p:nvPr/>
        </p:nvSpPr>
        <p:spPr>
          <a:xfrm>
            <a:off x="6012000" y="1700280"/>
            <a:ext cx="2736720" cy="576360"/>
          </a:xfrm>
          <a:prstGeom prst="flowChartAlternateProcess">
            <a:avLst/>
          </a:prstGeom>
          <a:solidFill>
            <a:srgbClr val="66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щ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6012000" y="4365720"/>
            <a:ext cx="2736720" cy="576000"/>
          </a:xfrm>
          <a:prstGeom prst="flowChartAlternateProcess">
            <a:avLst/>
          </a:prstGeom>
          <a:solidFill>
            <a:srgbClr val="ff66ff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сь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395280" y="4365720"/>
            <a:ext cx="2736720" cy="576000"/>
          </a:xfrm>
          <a:prstGeom prst="flowChartAlternateProcess">
            <a:avLst/>
          </a:prstGeom>
          <a:solidFill>
            <a:srgbClr val="00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в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395280" y="1700280"/>
            <a:ext cx="2736720" cy="57636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вет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1835280" y="1413000"/>
            <a:ext cx="685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1295280" y="396252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1752480" y="2895480"/>
            <a:ext cx="1333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7" name="WordArt 7"/>
          <p:cNvSpPr txBox="1"/>
          <p:nvPr/>
        </p:nvSpPr>
        <p:spPr>
          <a:xfrm>
            <a:off x="1071720" y="5143680"/>
            <a:ext cx="3352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68" name="Прямоугольник 9"/>
          <p:cNvSpPr/>
          <p:nvPr/>
        </p:nvSpPr>
        <p:spPr>
          <a:xfrm>
            <a:off x="2286000" y="178596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7"/>
          <p:cNvSpPr/>
          <p:nvPr/>
        </p:nvSpPr>
        <p:spPr>
          <a:xfrm>
            <a:off x="1000080" y="1428840"/>
            <a:ext cx="5857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жливых с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одно и не дв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мни и зн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и чудо – слав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C:\Documents and Settings\Яна Савина\Мои документы\Развитие\Материал для презентаций\Урок вежливости\ачало.jpg"/>
          <p:cNvPicPr/>
          <p:nvPr/>
        </p:nvPicPr>
        <p:blipFill>
          <a:blip r:embed="rId1"/>
          <a:stretch/>
        </p:blipFill>
        <p:spPr>
          <a:xfrm>
            <a:off x="5214960" y="3857760"/>
            <a:ext cx="3429000" cy="28573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hecker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1835280" y="1413000"/>
            <a:ext cx="685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1295280" y="396252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1752480" y="2895480"/>
            <a:ext cx="1333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1071720" y="5143680"/>
            <a:ext cx="3352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2286000" y="178596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1500120" y="1928880"/>
            <a:ext cx="5857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мы поговорим об очень важных и нуж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еловека словах, без которых мы не сможем обойтис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хотим быть воспитанными, вежливыми людь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hecke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151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5"/>
          <p:cNvPicPr/>
          <p:nvPr/>
        </p:nvPicPr>
        <p:blipFill>
          <a:blip r:embed="rId1"/>
          <a:stretch/>
        </p:blipFill>
        <p:spPr>
          <a:xfrm>
            <a:off x="2556000" y="1198440"/>
            <a:ext cx="4054320" cy="4175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Comic Sans MS"/>
              </a:rPr>
              <a:t>Волшебные сло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ак вы думаете, какие слова называют волшебными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302040" y="993240"/>
            <a:ext cx="8549640" cy="4391280"/>
            <a:chOff x="302040" y="993240"/>
            <a:chExt cx="8549640" cy="4391280"/>
          </a:xfrm>
        </p:grpSpPr>
        <p:grpSp>
          <p:nvGrpSpPr>
            <p:cNvPr id="81" name="Group 6"/>
            <p:cNvGrpSpPr/>
            <p:nvPr/>
          </p:nvGrpSpPr>
          <p:grpSpPr>
            <a:xfrm>
              <a:off x="568800" y="1197000"/>
              <a:ext cx="1732320" cy="1136520"/>
              <a:chOff x="568800" y="1197000"/>
              <a:chExt cx="1732320" cy="1136520"/>
            </a:xfrm>
          </p:grpSpPr>
          <p:sp>
            <p:nvSpPr>
              <p:cNvPr id="82" name="Text Box 7"/>
              <p:cNvSpPr/>
              <p:nvPr/>
            </p:nvSpPr>
            <p:spPr>
              <a:xfrm rot="20461200">
                <a:off x="608400" y="1558080"/>
                <a:ext cx="1652760" cy="52056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Спасиб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8"/>
              <p:cNvSpPr/>
              <p:nvPr/>
            </p:nvSpPr>
            <p:spPr>
              <a:xfrm>
                <a:off x="1188720" y="1268280"/>
                <a:ext cx="57600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9"/>
              <p:cNvSpPr/>
              <p:nvPr/>
            </p:nvSpPr>
            <p:spPr>
              <a:xfrm flipH="1">
                <a:off x="972360" y="1197000"/>
                <a:ext cx="215640" cy="5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10"/>
              <p:cNvSpPr/>
              <p:nvPr/>
            </p:nvSpPr>
            <p:spPr>
              <a:xfrm>
                <a:off x="1115640" y="1197000"/>
                <a:ext cx="14400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11"/>
            <p:cNvGrpSpPr/>
            <p:nvPr/>
          </p:nvGrpSpPr>
          <p:grpSpPr>
            <a:xfrm>
              <a:off x="684360" y="2492280"/>
              <a:ext cx="1871640" cy="1469160"/>
              <a:chOff x="684360" y="2492280"/>
              <a:chExt cx="1871640" cy="1469160"/>
            </a:xfrm>
          </p:grpSpPr>
          <p:sp>
            <p:nvSpPr>
              <p:cNvPr id="87" name="Text Box 12"/>
              <p:cNvSpPr/>
              <p:nvPr/>
            </p:nvSpPr>
            <p:spPr>
              <a:xfrm>
                <a:off x="684360" y="3014280"/>
                <a:ext cx="1871640" cy="947160"/>
              </a:xfrm>
              <a:prstGeom prst="rect">
                <a:avLst/>
              </a:prstGeom>
              <a:solidFill>
                <a:srgbClr val="ff99ff"/>
              </a:solidFill>
              <a:ln w="381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Извинит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13"/>
              <p:cNvSpPr/>
              <p:nvPr/>
            </p:nvSpPr>
            <p:spPr>
              <a:xfrm>
                <a:off x="1474920" y="2492280"/>
                <a:ext cx="14436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4"/>
              <p:cNvSpPr/>
              <p:nvPr/>
            </p:nvSpPr>
            <p:spPr>
              <a:xfrm>
                <a:off x="1548000" y="2563560"/>
                <a:ext cx="503280" cy="43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5"/>
              <p:cNvSpPr/>
              <p:nvPr/>
            </p:nvSpPr>
            <p:spPr>
              <a:xfrm flipH="1">
                <a:off x="1116000" y="2563560"/>
                <a:ext cx="432000" cy="43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16"/>
            <p:cNvGrpSpPr/>
            <p:nvPr/>
          </p:nvGrpSpPr>
          <p:grpSpPr>
            <a:xfrm>
              <a:off x="6457680" y="993240"/>
              <a:ext cx="2327760" cy="1430280"/>
              <a:chOff x="6457680" y="993240"/>
              <a:chExt cx="2327760" cy="1430280"/>
            </a:xfrm>
          </p:grpSpPr>
          <p:sp>
            <p:nvSpPr>
              <p:cNvPr id="92" name="Text Box 17"/>
              <p:cNvSpPr/>
              <p:nvPr/>
            </p:nvSpPr>
            <p:spPr>
              <a:xfrm rot="1044000">
                <a:off x="6483240" y="1574280"/>
                <a:ext cx="2276280" cy="520560"/>
              </a:xfrm>
              <a:prstGeom prst="rect">
                <a:avLst/>
              </a:prstGeom>
              <a:solidFill>
                <a:srgbClr val="00ff00"/>
              </a:solidFill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Пожалуйст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18"/>
              <p:cNvSpPr/>
              <p:nvPr/>
            </p:nvSpPr>
            <p:spPr>
              <a:xfrm rot="298800">
                <a:off x="7802280" y="999000"/>
                <a:ext cx="14436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9"/>
              <p:cNvSpPr/>
              <p:nvPr/>
            </p:nvSpPr>
            <p:spPr>
              <a:xfrm>
                <a:off x="7874280" y="1070640"/>
                <a:ext cx="231480" cy="66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20"/>
              <p:cNvSpPr/>
              <p:nvPr/>
            </p:nvSpPr>
            <p:spPr>
              <a:xfrm flipH="1">
                <a:off x="7191000" y="1070640"/>
                <a:ext cx="682920" cy="373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21"/>
            <p:cNvGrpSpPr/>
            <p:nvPr/>
          </p:nvGrpSpPr>
          <p:grpSpPr>
            <a:xfrm>
              <a:off x="6659640" y="2565360"/>
              <a:ext cx="2016000" cy="1115640"/>
              <a:chOff x="6659640" y="2565360"/>
              <a:chExt cx="2016000" cy="1115640"/>
            </a:xfrm>
          </p:grpSpPr>
          <p:sp>
            <p:nvSpPr>
              <p:cNvPr id="97" name="Text Box 22"/>
              <p:cNvSpPr/>
              <p:nvPr/>
            </p:nvSpPr>
            <p:spPr>
              <a:xfrm>
                <a:off x="6659640" y="3160440"/>
                <a:ext cx="2016000" cy="520560"/>
              </a:xfrm>
              <a:prstGeom prst="rect">
                <a:avLst/>
              </a:prstGeom>
              <a:solidFill>
                <a:srgbClr val="00ffff"/>
              </a:solidFill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Простит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23"/>
              <p:cNvSpPr/>
              <p:nvPr/>
            </p:nvSpPr>
            <p:spPr>
              <a:xfrm>
                <a:off x="7523280" y="2565360"/>
                <a:ext cx="14436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4"/>
              <p:cNvSpPr/>
              <p:nvPr/>
            </p:nvSpPr>
            <p:spPr>
              <a:xfrm>
                <a:off x="7594560" y="2638080"/>
                <a:ext cx="433440" cy="50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5"/>
              <p:cNvSpPr/>
              <p:nvPr/>
            </p:nvSpPr>
            <p:spPr>
              <a:xfrm flipH="1">
                <a:off x="7162560" y="2638080"/>
                <a:ext cx="431640" cy="5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26"/>
            <p:cNvGrpSpPr/>
            <p:nvPr/>
          </p:nvGrpSpPr>
          <p:grpSpPr>
            <a:xfrm>
              <a:off x="6633000" y="4005360"/>
              <a:ext cx="2218680" cy="1379160"/>
              <a:chOff x="6633000" y="4005360"/>
              <a:chExt cx="2218680" cy="1379160"/>
            </a:xfrm>
          </p:grpSpPr>
          <p:sp>
            <p:nvSpPr>
              <p:cNvPr id="102" name="Text Box 27"/>
              <p:cNvSpPr/>
              <p:nvPr/>
            </p:nvSpPr>
            <p:spPr>
              <a:xfrm rot="20405400">
                <a:off x="6656400" y="4509360"/>
                <a:ext cx="2171160" cy="520560"/>
              </a:xfrm>
              <a:prstGeom prst="rect">
                <a:avLst/>
              </a:prstGeom>
              <a:solidFill>
                <a:srgbClr val="ffcc99"/>
              </a:solidFill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Здравству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28"/>
              <p:cNvSpPr/>
              <p:nvPr/>
            </p:nvSpPr>
            <p:spPr>
              <a:xfrm>
                <a:off x="7307280" y="4005360"/>
                <a:ext cx="14436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29"/>
              <p:cNvSpPr/>
              <p:nvPr/>
            </p:nvSpPr>
            <p:spPr>
              <a:xfrm>
                <a:off x="7381800" y="4075200"/>
                <a:ext cx="719280" cy="29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30"/>
              <p:cNvSpPr/>
              <p:nvPr/>
            </p:nvSpPr>
            <p:spPr>
              <a:xfrm flipH="1">
                <a:off x="7164360" y="4076640"/>
                <a:ext cx="216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31"/>
            <p:cNvGrpSpPr/>
            <p:nvPr/>
          </p:nvGrpSpPr>
          <p:grpSpPr>
            <a:xfrm>
              <a:off x="302040" y="3860640"/>
              <a:ext cx="2278800" cy="1426320"/>
              <a:chOff x="302040" y="3860640"/>
              <a:chExt cx="2278800" cy="1426320"/>
            </a:xfrm>
          </p:grpSpPr>
          <p:sp>
            <p:nvSpPr>
              <p:cNvPr id="107" name="Text Box 32"/>
              <p:cNvSpPr/>
              <p:nvPr/>
            </p:nvSpPr>
            <p:spPr>
              <a:xfrm rot="1027800">
                <a:off x="329400" y="4449960"/>
                <a:ext cx="2224080" cy="520560"/>
              </a:xfrm>
              <a:prstGeom prst="rect">
                <a:avLst/>
              </a:prstGeom>
              <a:solidFill>
                <a:srgbClr val="93bf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Благодарю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33"/>
              <p:cNvSpPr/>
              <p:nvPr/>
            </p:nvSpPr>
            <p:spPr>
              <a:xfrm>
                <a:off x="1625400" y="3860640"/>
                <a:ext cx="14472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34"/>
              <p:cNvSpPr/>
              <p:nvPr/>
            </p:nvSpPr>
            <p:spPr>
              <a:xfrm>
                <a:off x="1697040" y="3933720"/>
                <a:ext cx="21600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35"/>
              <p:cNvSpPr/>
              <p:nvPr/>
            </p:nvSpPr>
            <p:spPr>
              <a:xfrm flipH="1">
                <a:off x="1193760" y="3933720"/>
                <a:ext cx="503280" cy="43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40000">
    <p:strips dir="r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256000" y="1714320"/>
            <a:ext cx="38876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Я другу говор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ивет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 он в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Здоров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ут нич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лохого н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дходят оба сло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таршем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если встречаемся с ни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ервыми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Здравствуйте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мы говор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C:\Documents and Settings\Яна Савина\Мои документы\Развитие\Материал для презентаций\Урок вежливости\здравствуйте2.jpg"/>
          <p:cNvPicPr/>
          <p:nvPr/>
        </p:nvPicPr>
        <p:blipFill>
          <a:blip r:embed="rId1"/>
          <a:stretch/>
        </p:blipFill>
        <p:spPr>
          <a:xfrm>
            <a:off x="1428840" y="4286160"/>
            <a:ext cx="2857320" cy="235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C:\Documents and Settings\Яна Савина\Мои документы\Развитие\Материал для презентаций\Урок вежливости\privet.jpg"/>
          <p:cNvPicPr/>
          <p:nvPr/>
        </p:nvPicPr>
        <p:blipFill>
          <a:blip r:embed="rId2"/>
          <a:stretch/>
        </p:blipFill>
        <p:spPr>
          <a:xfrm>
            <a:off x="2071800" y="1571760"/>
            <a:ext cx="222228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blinds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181440" y="3933720"/>
            <a:ext cx="93250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о свиданья!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 проща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Говори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 том и реч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Что ещё н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ждут свидан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Много-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овых встреч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547640" y="1341360"/>
            <a:ext cx="6480000" cy="2305080"/>
            <a:chOff x="1547640" y="1341360"/>
            <a:chExt cx="6480000" cy="2305080"/>
          </a:xfrm>
        </p:grpSpPr>
        <p:pic>
          <p:nvPicPr>
            <p:cNvPr id="116" name="Picture 5" descr="яванявм"/>
            <p:cNvPicPr/>
            <p:nvPr/>
          </p:nvPicPr>
          <p:blipFill>
            <a:blip r:embed="rId1"/>
            <a:stretch/>
          </p:blipFill>
          <p:spPr>
            <a:xfrm>
              <a:off x="4961160" y="1341360"/>
              <a:ext cx="3066480" cy="2305080"/>
            </a:xfrm>
            <a:prstGeom prst="rect">
              <a:avLst/>
            </a:prstGeom>
            <a:ln w="38160">
              <a:solidFill>
                <a:srgbClr val="5f5f5f"/>
              </a:solidFill>
              <a:miter/>
            </a:ln>
          </p:spPr>
        </p:pic>
        <p:pic>
          <p:nvPicPr>
            <p:cNvPr id="117" name="Picture 6" descr="езш"/>
            <p:cNvPicPr/>
            <p:nvPr/>
          </p:nvPicPr>
          <p:blipFill>
            <a:blip r:embed="rId2"/>
            <a:stretch/>
          </p:blipFill>
          <p:spPr>
            <a:xfrm>
              <a:off x="1547640" y="1357920"/>
              <a:ext cx="3158280" cy="2278800"/>
            </a:xfrm>
            <a:prstGeom prst="rect">
              <a:avLst/>
            </a:prstGeom>
            <a:ln w="38160">
              <a:solidFill>
                <a:srgbClr val="5f5f5f"/>
              </a:solidFill>
              <a:miter/>
            </a:ln>
          </p:spPr>
        </p:pic>
      </p:grpSp>
      <p:grpSp>
        <p:nvGrpSpPr>
          <p:cNvPr id="118" name="Group 8"/>
          <p:cNvGrpSpPr/>
          <p:nvPr/>
        </p:nvGrpSpPr>
        <p:grpSpPr>
          <a:xfrm>
            <a:off x="1150920" y="260280"/>
            <a:ext cx="4722840" cy="800280"/>
            <a:chOff x="1150920" y="260280"/>
            <a:chExt cx="4722840" cy="800280"/>
          </a:xfrm>
        </p:grpSpPr>
        <p:sp>
          <p:nvSpPr>
            <p:cNvPr id="119" name="Text Box 9"/>
            <p:cNvSpPr/>
            <p:nvPr/>
          </p:nvSpPr>
          <p:spPr>
            <a:xfrm>
              <a:off x="1150920" y="476280"/>
              <a:ext cx="1843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5689440" y="260280"/>
              <a:ext cx="1843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0">
    <p:wheel spokes="8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17:55:21Z</dcterms:created>
  <dc:creator>homestation</dc:creator>
  <dc:description/>
  <dc:language>en-US</dc:language>
  <cp:lastModifiedBy>acer</cp:lastModifiedBy>
  <dcterms:modified xsi:type="dcterms:W3CDTF">2019-10-09T08:17:04Z</dcterms:modified>
  <cp:revision>25</cp:revision>
  <dc:subject/>
  <dc:title>Слайд 1</dc:title>
</cp:coreProperties>
</file>