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0AC-C1AE-4121-82CE-C7AFABA0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8D5-0DAB-41E6-8349-84CB5144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D49-DC92-41BE-8D9D-39BA6B00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860-CF29-4814-84B7-A2D7A223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991-352D-47CB-A0C8-078D316C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1ED-ED83-4F6C-A556-11D6CDF1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E00B-1337-499C-88B1-95392A5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A0C-E932-4527-AD45-B0F4F7A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BD4-F1B0-48DE-83F1-A0E51ED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76EC-28BE-4AB1-98B0-5428D1F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D3FB-2703-4DD3-8231-32C5A04C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B52-0814-4F34-9480-8CCFA18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FE90-EDC5-44AF-A795-28932EAD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21C-E99A-49B0-87F7-382272D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ED41-1002-4E2D-A2FD-C0DC04D2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35B2-44BD-4606-9B28-97BAD2D3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42D-8C61-4988-8823-51F6571B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D000-2F72-47A1-8C05-5ABFC6D0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A36A-4373-4443-8A8D-90168C34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9E2F-3E7A-45E4-BFD5-7D0D109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D5CC-A4EE-495B-BBDD-04C4197F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3A73-F5E7-4D57-8450-C12C180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6D4-124C-4775-9971-F7A41C12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5E67-3B09-46FC-B09F-5766758A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9778-2846-4729-A93F-04FE068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06BA-C8E1-4428-A337-08C966F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5E30-CE61-4A80-8B8B-3B5F5A9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3292-F102-4F93-B8F8-842C11F7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6087-4160-4A1C-A06F-656035F4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5C95-8A4E-402B-BCF9-F5BE2B75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B87-E7E6-4FA2-928E-E774D1E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E6D-DE29-4AFE-B52A-A3A8292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171-0D06-40E8-8BB0-5BD2393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CE3-1AC3-4F8C-8143-658B237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DB5-5E4C-4B11-84CB-413EB28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4F0-4280-4EB6-8A29-439DF8C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CE8-76FD-4B64-8517-82E112AB9A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30D-F2B2-49FB-A125-E534ABA2BC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AAE7-CCE1-4103-8726-30A62C1F5D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7772400" cy="1469880"/>
          </a:xfrm>
          <a:prstGeom prst="rect">
            <a:avLst/>
          </a:prstGeom>
          <a:ln w="0">
            <a:noFill/>
          </a:ln>
        </p:spPr>
      </p:pic>
      <p:pic>
        <p:nvPicPr>
          <p:cNvPr id="124" name="Подзаголовок 2" descr=""/>
          <p:cNvPicPr/>
          <p:nvPr/>
        </p:nvPicPr>
        <p:blipFill>
          <a:blip r:embed="rId2"/>
          <a:stretch/>
        </p:blipFill>
        <p:spPr>
          <a:xfrm>
            <a:off x="378000" y="219240"/>
            <a:ext cx="8540640" cy="642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5610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788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омышленность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раснодарском крае много машиностроительных, металлообрабатывающих, химических завод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логия краснодарского края ухудшается по вине промышленных предприятий, которые не имеют качественных очистных сооруж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Объект 1" descr=""/>
          <p:cNvPicPr/>
          <p:nvPr/>
        </p:nvPicPr>
        <p:blipFill>
          <a:blip r:embed="rId1"/>
          <a:stretch/>
        </p:blipFill>
        <p:spPr>
          <a:xfrm>
            <a:off x="2703600" y="2963880"/>
            <a:ext cx="5187960" cy="356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74680"/>
            <a:ext cx="649116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бедой является нефтедобыча. На территории Краснодарского края - 150 нефтяных месторождений. На нефтебазах нередко происходит утечка бензина и кероси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Ейске, Тихорецке, Туапсе образовались огромные подземные нефтяные лин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Объект 1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5342040" cy="3559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8000" y="7920"/>
            <a:ext cx="67788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жегодно сбросы жидких отходов, отходов нефтепродуктов в лиманы края и Азовское море достигают ужасающих объем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2" descr=""/>
          <p:cNvPicPr/>
          <p:nvPr/>
        </p:nvPicPr>
        <p:blipFill>
          <a:blip r:embed="rId1"/>
          <a:stretch/>
        </p:blipFill>
        <p:spPr>
          <a:xfrm>
            <a:off x="1611360" y="1852560"/>
            <a:ext cx="70754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834920" y="333360"/>
            <a:ext cx="6778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еры по улучшению окружающей среды в Краснодарском кра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ля улучшения экологической ситуации в крае устанавливаются стационарные контрольные посты, проверяющие воздух, воду, почву на предмет присутствия вредных вещ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Calibri"/>
              </a:rPr>
              <a:t>Необходимо ограничить использование опасных веществ (химических, радиоактивных), установить очистительные сооружения, ограничить увеличение транспортных средств, рационально использовать природные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аждый человек должен  сделать свой вклад в улучшение эколог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е оставлять за собой мусор, сдавать макулатуру, экономить электроэнергию, не использовать одноразовую посуду, беречь растения и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778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раснодарский край  является лидером среди российских курортов. Здесь сосредоточено множество прекрасных здравниц, пансионатов, отелей. Здесь бьют целебные источники, а воздух наполнен ароматом моря и вечнозеленых растений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Логично предположить, что экология Краснодарского края должна быть одной из лучших в стране. Однако исследования и тестовые замеры  открыли неблагоприятную карт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Объект 1" descr=""/>
          <p:cNvPicPr/>
          <p:nvPr/>
        </p:nvPicPr>
        <p:blipFill>
          <a:blip r:embed="rId1"/>
          <a:stretch/>
        </p:blipFill>
        <p:spPr>
          <a:xfrm>
            <a:off x="4716360" y="3813120"/>
            <a:ext cx="421956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270000" y="3789360"/>
            <a:ext cx="428940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8000" y="-171360"/>
            <a:ext cx="6778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атмосфере, в почве обнаружены опасные для здоровья химические вещества, снижена плодородность почв, исчезают ценные виды животных и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Объект 3" descr=""/>
          <p:cNvPicPr/>
          <p:nvPr/>
        </p:nvPicPr>
        <p:blipFill>
          <a:blip r:embed="rId1"/>
          <a:stretch/>
        </p:blipFill>
        <p:spPr>
          <a:xfrm>
            <a:off x="4097160" y="2852640"/>
            <a:ext cx="4897440" cy="3672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2246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ислотные дожд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опасное для всего  живого явл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ствиями кислотных дождей стал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утрата рыбных ресурс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сокращение популяции животных и птиц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нтоксикация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2336760" y="2708280"/>
            <a:ext cx="59212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d0d0d">
              <a:alpha val="3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0200" cy="6343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778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ВТОТРАНСПОРТ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ще технического прогресса – автомобиль. Для людей это величайшее благо. Но что касается загрязнения окружающей среды, то автотранспорт является большим з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64911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8000" y="1052280"/>
            <a:ext cx="67788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раснодарский край занимает одно из лидирующих мест в России по количеству единиц автотехники, которым владеет населени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1 автомобиль приходится на 2 человек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37 автомобилей приходятся на 1000 челове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 территории Краснодарского края проходят 4 автомагистрали европейского уровня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и 3 автомагистрали федерального уровн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ыхлопные газы превышают норму в 7 раз!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краснодарском крае по данным экономических служб 70% бензина реализуют коммерческие компании,  которые мало озабочены качеством това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 rot="10800000">
            <a:off x="2627280" y="6381720"/>
            <a:ext cx="677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79560" y="-100080"/>
            <a:ext cx="67788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ельское хозяйство</a:t>
            </a:r>
            <a:br>
              <a:rPr sz="36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Экология краснодарского края ухудшается из-за нерационального использования сельхозугодий, применения пестицидов, гербицидов, нарушению правил использования сельскохозяйственной тех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Объект 2" descr=""/>
          <p:cNvPicPr/>
          <p:nvPr/>
        </p:nvPicPr>
        <p:blipFill>
          <a:blip r:embed="rId1"/>
          <a:stretch/>
        </p:blipFill>
        <p:spPr>
          <a:xfrm>
            <a:off x="2627280" y="3255840"/>
            <a:ext cx="557388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1880" y="692280"/>
            <a:ext cx="663552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результате происходит уплотнение почвы, ухудшается водопроницаемость, что ведет к смыву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50%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химических препаратов в естественные водоем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собенно страдает Краснодарский край от выращивания риса.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озделывание этой культуры предполагает использование большого количества агрохимикат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ыращивание этой культуры популярно в Славянской, Красноармейской, Калининской, Темрюкской облас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6021000"/>
            <a:ext cx="677880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52:54Z</dcterms:created>
  <dc:creator>User</dc:creator>
  <dc:description/>
  <dc:language>en-US</dc:language>
  <cp:lastModifiedBy>днс</cp:lastModifiedBy>
  <dcterms:modified xsi:type="dcterms:W3CDTF">2019-10-11T05:23:13Z</dcterms:modified>
  <cp:revision>64</cp:revision>
  <dc:subject/>
  <dc:title>Презентация PowerPoint</dc:title>
</cp:coreProperties>
</file>