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522-EE77-454E-9267-86961F6C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8D2-5046-4A7B-8B6E-9DC0D874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A53-56CD-4A3D-936C-59CFD797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CE0-757D-4009-AAB1-A6C08D45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FD46-26CE-4BA4-9F7A-D2E4983B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AA37-CCA9-4893-99B7-157FC3EA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AD2A-2ADF-48E8-96E4-97F2654C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8840-95ED-4D9B-BB73-30DB8214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3738-D369-41C4-BBFB-3C0ECD58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7C6C-CEDB-4F1E-B7E2-4283F808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01A2-B52F-4ADC-BECE-86E10704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186-766B-49D0-87D4-1EB15A0B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9DBC-ACAA-4B09-A410-021960B8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96F9-7AFE-4284-A6C4-8E61727B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A87E-EA08-4929-A70A-4700F722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485E-859B-476D-B433-F0B13E83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24C2-52F6-4149-B865-89E7FE6E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2A7-4982-4812-8FC6-18C0A491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061-8D47-469E-9A49-29DC1026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9E5-42F8-4332-901D-41CFD855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E2C-6247-48D8-96C1-CF52E1CD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2B6-DAF4-4769-9B89-B60C531C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252-5C59-44A4-ACE9-229730C3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3BD-CF51-498F-9280-CC66A22D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A962-C67A-4744-BC5C-DAAEB3121AB3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A56C-4346-4818-8531-D3CC5DD4DA61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png"/><Relationship Id="rId18" Type="http://schemas.openxmlformats.org/officeDocument/2006/relationships/image" Target="../media/image12.wmf"/><Relationship Id="rId19" Type="http://schemas.openxmlformats.org/officeDocument/2006/relationships/image" Target="../media/image13.wmf"/><Relationship Id="rId20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828800" y="1219320"/>
            <a:ext cx="5638680" cy="22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Галакт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"Математика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6200" y="4343400"/>
            <a:ext cx="35146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ро пожаловать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14400" y="3441600"/>
            <a:ext cx="2209680" cy="1955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4108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тобы водить корабл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тобы в небо взлетать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до многое знать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до многое уметь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 при этом, и при том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 смекайте-ка, друзья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чень важная на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Математика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1640" y="549360"/>
            <a:ext cx="4321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чему корабл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 садятся на мель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 по курсу идут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квозь туман и метель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тому что, потому что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 смекайте-ка, друзья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питанам помогае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Математика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тоб врачом, моряк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ли летчиком стать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до прежде всег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атематику знать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 на свете нет професси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 смекайте-ка, друзья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де бы нам не пригодилась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Математика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971640" y="4149720"/>
            <a:ext cx="2415960" cy="244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781680" y="5715000"/>
            <a:ext cx="1676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6f89f7"/>
                    </a:gs>
                  </a:gsLst>
                  <a:lin ang="5400000"/>
                </a:gradFill>
                <a:latin typeface="Impact"/>
              </a:rPr>
              <a:t>Стар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100000">
                    <a:srgbClr val="6f89f7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124080" y="5486400"/>
          <a:ext cx="13525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5486400"/>
                    <a:ext cx="13525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09480" y="3048120"/>
          <a:ext cx="1201680" cy="121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3048120"/>
                    <a:ext cx="12016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143000" y="4876920"/>
          <a:ext cx="1314360" cy="1333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43000" y="4876920"/>
                    <a:ext cx="131436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858000" y="152280"/>
          <a:ext cx="1828800" cy="1524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0" y="152280"/>
                    <a:ext cx="18288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200400" y="533520"/>
          <a:ext cx="1314360" cy="1333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00400" y="533520"/>
                    <a:ext cx="131436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5562720" y="5029200"/>
          <a:ext cx="1371600" cy="2057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62720" y="5029200"/>
                    <a:ext cx="13716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324480" y="2438280"/>
          <a:ext cx="2327400" cy="2362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324480" y="2438280"/>
                    <a:ext cx="2327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990720" y="990720"/>
          <a:ext cx="1052280" cy="1066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90720" y="990720"/>
                    <a:ext cx="10522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18"/>
          <a:stretch/>
        </p:blipFill>
        <p:spPr>
          <a:xfrm>
            <a:off x="2509920" y="1795320"/>
            <a:ext cx="4124160" cy="3267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H="1" flipV="1">
            <a:off x="4343040" y="6248520"/>
            <a:ext cx="1523880" cy="3808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362320" y="5790960"/>
            <a:ext cx="838080" cy="68580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680" y="4114800"/>
            <a:ext cx="876240" cy="914400"/>
          </a:xfrm>
          <a:custGeom>
            <a:avLst/>
            <a:gdLst/>
            <a:ahLst/>
            <a:rect l="l" t="t" r="r" b="b"/>
            <a:pathLst>
              <a:path w="552" h="576">
                <a:moveTo>
                  <a:pt x="552" y="576"/>
                </a:moveTo>
                <a:cubicBezTo>
                  <a:pt x="348" y="504"/>
                  <a:pt x="144" y="432"/>
                  <a:pt x="72" y="336"/>
                </a:cubicBezTo>
                <a:cubicBezTo>
                  <a:pt x="0" y="240"/>
                  <a:pt x="112" y="48"/>
                  <a:pt x="120" y="0"/>
                </a:cubicBezTo>
              </a:path>
            </a:pathLst>
          </a:cu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066680" y="1981080"/>
            <a:ext cx="381240" cy="106704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981080" y="1447560"/>
            <a:ext cx="1219320" cy="2286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9"/>
          <a:stretch/>
        </p:blipFill>
        <p:spPr>
          <a:xfrm>
            <a:off x="5257800" y="457200"/>
            <a:ext cx="1523880" cy="1517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419720" y="1219320"/>
            <a:ext cx="1066680" cy="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05720" y="1295280"/>
            <a:ext cx="914400" cy="2286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 txBox="1"/>
          <p:nvPr/>
        </p:nvSpPr>
        <p:spPr>
          <a:xfrm>
            <a:off x="2195640" y="620640"/>
            <a:ext cx="525780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f89f7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Заморочки</a:t>
            </a:r>
            <a:endParaRPr b="0" lang="en-US" sz="2400" spc="1" strike="noStrike">
              <a:ln w="9360">
                <a:solidFill>
                  <a:srgbClr val="6f89f7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979640" y="5516640"/>
            <a:ext cx="5040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Times New Roman"/>
              </a:rPr>
              <a:t>из боч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26920" y="105264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. Если бы завтрашний день был вчерашним, то до воскресенья осталось бы столько дней, сколько дней прошло от воскресенья до вчерашнего дня. Какой же сегодня ден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. Груша тяжелее чем яблоко, а яблоко тяжелее персика. Что тяжелее – груша или персик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647640" cy="5745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2946" y="1400"/>
                </a:lnTo>
                <a:lnTo>
                  <a:pt x="1400" y="140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2946" y="20200"/>
                </a:lnTo>
                <a:lnTo>
                  <a:pt x="22946" y="140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46" y="2020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46" h="21600">
                <a:moveTo>
                  <a:pt x="5166" y="3794"/>
                </a:moveTo>
                <a:lnTo>
                  <a:pt x="19179" y="10800"/>
                </a:lnTo>
                <a:lnTo>
                  <a:pt x="5166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7926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3. Два мальчика играли на гитарах, а один на балалайке. На чем играл Юра, если Миша с Петей и Петя с Юрой играли на разных инструментах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4. Петя и Миша имеют фамилии Белов и Чернов. Какую фамилию имеет каждый из ребят, если Петя на год старше Белова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340000" y="47628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морочк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700360" y="5373720"/>
            <a:ext cx="41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з бочк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7596360" y="5589720"/>
            <a:ext cx="826920" cy="792000"/>
          </a:xfrm>
          <a:custGeom>
            <a:avLst/>
            <a:gdLst>
              <a:gd name="textAreaLeft" fmla="*/ 51120 w 826920"/>
              <a:gd name="textAreaRight" fmla="*/ 775800 w 826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2552" h="21600">
                <a:moveTo>
                  <a:pt x="0" y="0"/>
                </a:moveTo>
                <a:lnTo>
                  <a:pt x="22552" y="0"/>
                </a:lnTo>
                <a:lnTo>
                  <a:pt x="22552" y="21600"/>
                </a:lnTo>
                <a:lnTo>
                  <a:pt x="0" y="21600"/>
                </a:lnTo>
                <a:close/>
              </a:path>
              <a:path fill="lightenLess" w="22552" h="21600">
                <a:moveTo>
                  <a:pt x="0" y="0"/>
                </a:moveTo>
                <a:lnTo>
                  <a:pt x="22552" y="0"/>
                </a:lnTo>
                <a:lnTo>
                  <a:pt x="21152" y="1400"/>
                </a:lnTo>
                <a:lnTo>
                  <a:pt x="1400" y="1400"/>
                </a:lnTo>
                <a:close/>
              </a:path>
              <a:path fill="darken" w="22552" h="21600">
                <a:moveTo>
                  <a:pt x="22552" y="0"/>
                </a:moveTo>
                <a:lnTo>
                  <a:pt x="22552" y="21600"/>
                </a:lnTo>
                <a:lnTo>
                  <a:pt x="21152" y="20200"/>
                </a:lnTo>
                <a:lnTo>
                  <a:pt x="21152" y="1400"/>
                </a:lnTo>
                <a:close/>
              </a:path>
              <a:path fill="darkenLess" w="22552" h="21600">
                <a:moveTo>
                  <a:pt x="22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52" y="20200"/>
                </a:lnTo>
                <a:close/>
              </a:path>
              <a:path fill="lighten" w="22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52" h="21600">
                <a:moveTo>
                  <a:pt x="4269" y="3794"/>
                </a:moveTo>
                <a:lnTo>
                  <a:pt x="18282" y="10800"/>
                </a:lnTo>
                <a:lnTo>
                  <a:pt x="4269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5. Человек, стоявший в очереди перед вами, был выше человека, стоявшего после того человека, который встал перед вами. Был ли человек, стоявший перед вами, выше вас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6. В семье я рос один на свете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 это правда, до конца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о сын того, кто на портрете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ын моего отца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то изображен на портрете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95640" y="476280"/>
            <a:ext cx="518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40458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морочки из бочки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40458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24720" y="5661000"/>
            <a:ext cx="827280" cy="649440"/>
          </a:xfrm>
          <a:custGeom>
            <a:avLst/>
            <a:gdLst>
              <a:gd name="textAreaLeft" fmla="*/ 41760 w 827280"/>
              <a:gd name="textAreaRight" fmla="*/ 785520 w 8272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7512" h="21600">
                <a:moveTo>
                  <a:pt x="0" y="0"/>
                </a:moveTo>
                <a:lnTo>
                  <a:pt x="27512" y="0"/>
                </a:lnTo>
                <a:lnTo>
                  <a:pt x="27512" y="21600"/>
                </a:lnTo>
                <a:lnTo>
                  <a:pt x="0" y="21600"/>
                </a:lnTo>
                <a:close/>
              </a:path>
              <a:path fill="lightenLess" w="27512" h="21600">
                <a:moveTo>
                  <a:pt x="0" y="0"/>
                </a:moveTo>
                <a:lnTo>
                  <a:pt x="27512" y="0"/>
                </a:lnTo>
                <a:lnTo>
                  <a:pt x="26112" y="1400"/>
                </a:lnTo>
                <a:lnTo>
                  <a:pt x="1400" y="1400"/>
                </a:lnTo>
                <a:close/>
              </a:path>
              <a:path fill="darken" w="27512" h="21600">
                <a:moveTo>
                  <a:pt x="27512" y="0"/>
                </a:moveTo>
                <a:lnTo>
                  <a:pt x="27512" y="21600"/>
                </a:lnTo>
                <a:lnTo>
                  <a:pt x="26112" y="20200"/>
                </a:lnTo>
                <a:lnTo>
                  <a:pt x="26112" y="1400"/>
                </a:lnTo>
                <a:close/>
              </a:path>
              <a:path fill="darkenLess" w="27512" h="21600">
                <a:moveTo>
                  <a:pt x="2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12" y="20200"/>
                </a:lnTo>
                <a:close/>
              </a:path>
              <a:path fill="lighten" w="2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12" h="21600">
                <a:moveTo>
                  <a:pt x="13756" y="3837"/>
                </a:moveTo>
                <a:lnTo>
                  <a:pt x="16332" y="6448"/>
                </a:lnTo>
                <a:lnTo>
                  <a:pt x="16332" y="4707"/>
                </a:lnTo>
                <a:lnTo>
                  <a:pt x="18108" y="4707"/>
                </a:lnTo>
                <a:lnTo>
                  <a:pt x="18108" y="8224"/>
                </a:lnTo>
                <a:lnTo>
                  <a:pt x="20719" y="10800"/>
                </a:lnTo>
                <a:lnTo>
                  <a:pt x="19065" y="10800"/>
                </a:lnTo>
                <a:lnTo>
                  <a:pt x="19065" y="17989"/>
                </a:lnTo>
                <a:lnTo>
                  <a:pt x="8447" y="17989"/>
                </a:lnTo>
                <a:lnTo>
                  <a:pt x="8447" y="10800"/>
                </a:lnTo>
                <a:lnTo>
                  <a:pt x="6793" y="10800"/>
                </a:lnTo>
                <a:close/>
              </a:path>
              <a:path fill="darkenLess" w="27512" h="21600">
                <a:moveTo>
                  <a:pt x="16332" y="6448"/>
                </a:moveTo>
                <a:lnTo>
                  <a:pt x="16332" y="4707"/>
                </a:lnTo>
                <a:lnTo>
                  <a:pt x="18108" y="4707"/>
                </a:lnTo>
                <a:lnTo>
                  <a:pt x="18108" y="8224"/>
                </a:lnTo>
                <a:close/>
              </a:path>
              <a:path fill="darkenLess" w="27512" h="21600">
                <a:moveTo>
                  <a:pt x="12833" y="14299"/>
                </a:moveTo>
                <a:lnTo>
                  <a:pt x="14678" y="14299"/>
                </a:lnTo>
                <a:lnTo>
                  <a:pt x="14678" y="17989"/>
                </a:lnTo>
                <a:lnTo>
                  <a:pt x="19065" y="17989"/>
                </a:lnTo>
                <a:lnTo>
                  <a:pt x="19065" y="10800"/>
                </a:lnTo>
                <a:lnTo>
                  <a:pt x="8447" y="10800"/>
                </a:lnTo>
                <a:lnTo>
                  <a:pt x="8447" y="17989"/>
                </a:lnTo>
                <a:lnTo>
                  <a:pt x="12833" y="17989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Я докажу, что в течение целого го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ам почти некогда учиться в школе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 году 365 дней. Из них 52 воскресенья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10 других дней отдыха, поэтому отпадает 62 дня. Летние и зимние каникулы продолжаются не менее 100 дней. Следовательно, уже 162 дня. Ночью в школу не ходят, а ночи составляют половину года, следовательно, еще 182 дня отпадает. Остается 20 дней, но ведь не весь день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                   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продолжаются занятия в школе, а не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                   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более четверти дня, поэтому еще 15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дней отпадает. Остается всего-навсего 5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дней. Многому ли тут можно научиться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">
            <a:hlinkClick r:id="rId2" action="ppaction://hlinksldjump"/>
          </p:cNvPr>
          <p:cNvSpPr/>
          <p:nvPr/>
        </p:nvSpPr>
        <p:spPr>
          <a:xfrm>
            <a:off x="8459640" y="602136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468360" y="4581360"/>
            <a:ext cx="1712880" cy="1717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3203640" y="404640"/>
            <a:ext cx="288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2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Шутк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877080" y="476280"/>
            <a:ext cx="145584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9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0,3          1,3 + 3,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2,3                :  7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    </a:t>
            </a:r>
            <a:r>
              <a:rPr b="0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: 10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·</a:t>
            </a:r>
            <a:r>
              <a:rPr b="0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 0,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?                     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4,8 :  2           0,73 – 0,4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2,6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7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          </a:t>
            </a:r>
            <a:r>
              <a:rPr b="0" lang="ru-RU" sz="32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·</a:t>
            </a:r>
            <a:r>
              <a:rPr b="0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 0,7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  + 1,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?                          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62120" y="152280"/>
            <a:ext cx="47242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Вычислите устно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867280" y="838080"/>
            <a:ext cx="1905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Arial"/>
              </a:rPr>
              <a:t>1 команд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2514600" cy="211752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5327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6 : 4               0,4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7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3,5                 - 0,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·</a:t>
            </a:r>
            <a:r>
              <a:rPr b="0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 0,8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   : 0,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?                      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0,84 – 0,54            0,3 + 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5                   : 7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          </a:t>
            </a:r>
            <a:r>
              <a:rPr b="0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+ 5,5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   </a:t>
            </a:r>
            <a:r>
              <a:rPr b="0" lang="ru-RU" sz="32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·</a:t>
            </a:r>
            <a:r>
              <a:rPr b="0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 0,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?                      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62120" y="152280"/>
            <a:ext cx="47242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Вычислите устно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867280" y="838080"/>
            <a:ext cx="1905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Arial"/>
              </a:rPr>
              <a:t>2 команд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2514600" cy="21175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24400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1143000" y="1755720"/>
          <a:ext cx="3352680" cy="32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5720"/>
                    <a:ext cx="3352680" cy="3224160"/>
                  </a:xfrm>
                  <a:prstGeom prst="rect">
                    <a:avLst/>
                  </a:prstGeom>
                  <a:ln w="9360">
                    <a:solidFill>
                      <a:srgbClr val="6f89f7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105520" y="1752480"/>
          <a:ext cx="2895480" cy="320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752480"/>
                    <a:ext cx="2895480" cy="3200400"/>
                  </a:xfrm>
                  <a:prstGeom prst="rect">
                    <a:avLst/>
                  </a:prstGeom>
                  <a:ln w="9360">
                    <a:solidFill>
                      <a:srgbClr val="6f89f7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9" name=""/>
          <p:cNvSpPr txBox="1"/>
          <p:nvPr/>
        </p:nvSpPr>
        <p:spPr>
          <a:xfrm>
            <a:off x="2895480" y="609480"/>
            <a:ext cx="3276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Кроссворд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85080" y="580536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10800" y="5038"/>
                </a:moveTo>
                <a:lnTo>
                  <a:pt x="13376" y="7649"/>
                </a:ln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lnTo>
                  <a:pt x="17763" y="12001"/>
                </a:lnTo>
                <a:lnTo>
                  <a:pt x="16109" y="12001"/>
                </a:lnTo>
                <a:lnTo>
                  <a:pt x="16109" y="19191"/>
                </a:lnTo>
                <a:lnTo>
                  <a:pt x="5491" y="19191"/>
                </a:lnTo>
                <a:lnTo>
                  <a:pt x="5491" y="12001"/>
                </a:lnTo>
                <a:lnTo>
                  <a:pt x="3837" y="12001"/>
                </a:lnTo>
                <a:close/>
              </a:path>
              <a:path fill="darkenLess" w="21600" h="24003">
                <a:moveTo>
                  <a:pt x="13376" y="7649"/>
                </a:move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close/>
              </a:path>
              <a:path fill="darkenLess" w="21600" h="24003">
                <a:moveTo>
                  <a:pt x="9877" y="15500"/>
                </a:moveTo>
                <a:lnTo>
                  <a:pt x="11723" y="15500"/>
                </a:lnTo>
                <a:lnTo>
                  <a:pt x="11723" y="19191"/>
                </a:lnTo>
                <a:lnTo>
                  <a:pt x="16109" y="19191"/>
                </a:lnTo>
                <a:lnTo>
                  <a:pt x="16109" y="12001"/>
                </a:lnTo>
                <a:lnTo>
                  <a:pt x="5491" y="12001"/>
                </a:lnTo>
                <a:lnTo>
                  <a:pt x="5491" y="19191"/>
                </a:lnTo>
                <a:lnTo>
                  <a:pt x="9877" y="19191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838080" y="515736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то быстрее решит на своем компьютере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львир</cp:lastModifiedBy>
  <dcterms:modified xsi:type="dcterms:W3CDTF">2003-10-16T23:50:44Z</dcterms:modified>
  <cp:revision>23</cp:revision>
  <dc:subject/>
  <dc:title>PowerPoint Presentation</dc:title>
</cp:coreProperties>
</file>