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29.png" ContentType="image/png"/>
  <Override PartName="/ppt/media/image2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38B-B2C4-4CA2-BB74-CA988BB3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1A9-ED6D-469C-9A07-ABFA6777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16F-A3D4-4149-AC61-B735ED51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A48-1DF9-4B89-A8CF-9F85FA9B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B9CE7-70AE-4479-B25D-EE2397F7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618C9-2C1A-4B69-86E1-2FB622F4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3F3C7-2C4A-42CE-9C61-CF19B800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8285D-4435-4A57-ACEB-5DE1732E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F6FAC-61D3-48DF-AB43-1356ECEC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78838-052D-45C2-B6FE-B452D7CC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ED361-0D88-42F0-B3EE-714F2542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B30-9DA7-4F3F-BB47-61F9DC05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3DFA0-0032-49EE-ACB6-6EAD51DE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9FDF5-15D9-4B9D-AFCD-E385547D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B00CD-D0C7-4004-A1B1-A14057EF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7B135-FFAA-4F19-A053-75897A89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20234-E73B-45A4-93CB-ED591D02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380DD-70F9-43A1-830F-08E1B5FF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CA414-91EE-4B53-8953-F5123E83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6196-5163-43E6-BB61-4B81589B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B72A4-F025-4727-A0A4-32816894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7D15F-2569-4D26-BA8A-8480C54E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6A4-2E8A-4F7A-A2F9-0040181B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83486-27FD-47AD-BBB2-4673BBBF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CD730-00EC-4433-9A2E-9ED52DAB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05387-3B8A-4F5F-BD92-0EAF62E8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269F-F459-4FCF-ADE5-2AF30D5E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CE9CC-ECA7-4A98-8576-5FDAF5D2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3BCE-C7DF-46AA-AE49-4E1C7CC0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9A647-52DE-460E-A1A5-BDF848FB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A1C-A9A3-41C8-8BC4-44788AB1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947-38F1-4C7C-9FDA-056E1263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C7B-4704-41EB-BA85-592E9D5D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913-1931-4EA4-BE13-15D82C5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BE5-3B65-4616-9535-0618D3BA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D7F-D023-46AA-80D0-6ED1460F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F807-92C0-4A6E-9E19-238D86D840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120F-0A54-4C71-810B-51F7CD663F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5A12-7F02-4A03-8BA4-AE16887C6F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97080" y="162828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«Развитие у старших дошкольников любви к малой Родине через ознакомление с народным искусством Куба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987640" y="470808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564000" y="5445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Благова Оксана Алексеевна МБДОУ д/с № 39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. Бараниковский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убанское декоративно –прикладное искусство 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стоит у истоков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эстетического воспитания дошкольников. </a:t>
            </a: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бята пока ещё маленькие –  но должны знать, что народное искусство на Кубани тесно связано с жизнью. Зарождалось оно , как правило, в станице, хуторе, селе. Крестьянин-казак, создавая предметы быта, как утилитарные, так и для забавы, был и заказчиком, и исполнителем, и потребителем своих издел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6" descr="C:\Users\Admin\Desktop\Новая папка\SAM_6161.JPG"/>
          <p:cNvPicPr/>
          <p:nvPr/>
        </p:nvPicPr>
        <p:blipFill>
          <a:blip r:embed="rId1"/>
          <a:stretch/>
        </p:blipFill>
        <p:spPr>
          <a:xfrm>
            <a:off x="826920" y="36417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:\Users\Admin\Desktop\Новая папка\SAM_5986.JPG"/>
          <p:cNvPicPr/>
          <p:nvPr/>
        </p:nvPicPr>
        <p:blipFill>
          <a:blip r:embed="rId2"/>
          <a:stretch/>
        </p:blipFill>
        <p:spPr>
          <a:xfrm>
            <a:off x="5027760" y="36417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утор Бараниковский - наша малая Родина.       </a:t>
            </a: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06436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ателем нашего хутора считают  одного из трех казаков поселившихся на берегу реки Протоки. Звали его - Иннокентий Бараник в его честь был назван хутор Бараниковский Протокского сельского поселения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24000" y="4822920"/>
            <a:ext cx="842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сюду люди трудятся для всех (учителя учат детей; врачи лечат больных; рабочие делают машины и т.д.);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зде соблюдаются традиции: Родина помнит героев, защитивших ее от врагов;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сюду живут люди разных национальностей, совместно трудятся и помогают друг другу;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юди берегут и охраняют природу;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ть общие профессиональные и общественные праздники и т.д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9" name="Picture 7" descr="C:\Users\Admin\Desktop\Новая папка\dsc01058.jpg"/>
          <p:cNvPicPr/>
          <p:nvPr/>
        </p:nvPicPr>
        <p:blipFill>
          <a:blip r:embed="rId1"/>
          <a:stretch/>
        </p:blipFill>
        <p:spPr>
          <a:xfrm>
            <a:off x="5796000" y="2457360"/>
            <a:ext cx="2952720" cy="2320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C:\Users\Admin\Desktop\Новая папка\55a7e3afdc8a5d591ffbdf194c66a1bc.jpg"/>
          <p:cNvPicPr/>
          <p:nvPr/>
        </p:nvPicPr>
        <p:blipFill>
          <a:blip r:embed="rId2"/>
          <a:stretch/>
        </p:blipFill>
        <p:spPr>
          <a:xfrm>
            <a:off x="468360" y="2529000"/>
            <a:ext cx="2303280" cy="2265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Users\Admin\Desktop\Новая папка\SAM_6152.JPG"/>
          <p:cNvPicPr/>
          <p:nvPr/>
        </p:nvPicPr>
        <p:blipFill>
          <a:blip r:embed="rId3"/>
          <a:stretch/>
        </p:blipFill>
        <p:spPr>
          <a:xfrm>
            <a:off x="3095640" y="2565360"/>
            <a:ext cx="248436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Взаимосвязь с родителями</a:t>
            </a: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ование патриотических чувств проходит эффективнее, если детский сад устанавливает тесную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вязь с семьёй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обходимость подключения семьи к процессу ознакомления дошкольников с социальным окружением объясняется особыми педагогическими возможностями, которыми обладает семья и которые не может заменить дошкольное учреждение: любовь и привязанность к детям, эмоционально-нравственная насыщенность отношений, их общественная, а не эгоистическая направленность и др. Всё это создаёт благоприятные условия для воспитания высших нравственных чувств. Детский сад в своей работе с семьёй должен опираться на родителей не только как на помощников детского учреждения, а как на равноправных участников формирования детской лично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5" descr="C:\Users\Admin\Desktop\Новая папка\WP_20180305_001.jpg"/>
          <p:cNvPicPr/>
          <p:nvPr/>
        </p:nvPicPr>
        <p:blipFill>
          <a:blip r:embed="rId1"/>
          <a:stretch/>
        </p:blipFill>
        <p:spPr>
          <a:xfrm>
            <a:off x="324000" y="3645000"/>
            <a:ext cx="4022640" cy="280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Admin\Desktop\Новая папка\WP_20171025_002.jpg"/>
          <p:cNvPicPr/>
          <p:nvPr/>
        </p:nvPicPr>
        <p:blipFill>
          <a:blip r:embed="rId2"/>
          <a:stretch/>
        </p:blipFill>
        <p:spPr>
          <a:xfrm>
            <a:off x="4457880" y="3645000"/>
            <a:ext cx="429084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9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ашем детском саду есть музей «Кубанского быта» где мы знакомим с бытом кубанских казаков; одеждой; народно-прикладным искусством; обрядами и праздниками Кубани. Прослушивание и просмотр видеозаписи Государственного Кубанского казачьего хора; разучивание народных песен , игр, хороводов.</a:t>
            </a:r>
            <a:endParaRPr b="0" lang="en-US" sz="1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87" name="Picture 2" descr="C:\Users\Admin\Desktop\Новая папка\WP_20180208_046.jpg"/>
          <p:cNvPicPr/>
          <p:nvPr/>
        </p:nvPicPr>
        <p:blipFill>
          <a:blip r:embed="rId1"/>
          <a:stretch/>
        </p:blipFill>
        <p:spPr>
          <a:xfrm>
            <a:off x="900000" y="2349360"/>
            <a:ext cx="7488360" cy="361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роцессе приобщения детей к элементам народного декоративно-прикладного искусства, важно помнить , что для дошкольника приобщаться-значит действовать, а не просто смотреть и слушать взрослого. Перед новогодним праздником в период украшения групповой комнаты знакомим детей с «вытынанкой». Рассказываем детям о том, как женщины-казачки украшали хату к празднику, познакомить с техникой симметричного вырезывания. Техника вырезывания снежинок очень похожа на технику «вытынанку»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асхальную неделю с детьми изготавливаем «писанки». Привлекаем к этой работе родителей, устраиваем выставки росписи совместных работ. Такие выставки помогают развитию и сохранению народного искусства в своей семь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2" descr="C:\Users\Admin\Desktop\Новая папка\SAM_5941.JPG"/>
          <p:cNvPicPr/>
          <p:nvPr/>
        </p:nvPicPr>
        <p:blipFill>
          <a:blip r:embed="rId1"/>
          <a:stretch/>
        </p:blipFill>
        <p:spPr>
          <a:xfrm>
            <a:off x="826920" y="2924280"/>
            <a:ext cx="3745080" cy="3541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Users\Admin\Desktop\Новая папка\SAM_5945.JPG"/>
          <p:cNvPicPr/>
          <p:nvPr/>
        </p:nvPicPr>
        <p:blipFill>
          <a:blip r:embed="rId2"/>
          <a:stretch/>
        </p:blipFill>
        <p:spPr>
          <a:xfrm>
            <a:off x="5041800" y="2924280"/>
            <a:ext cx="3633840" cy="3541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57440" y="785520"/>
            <a:ext cx="44622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ное ремесло на Кубани было распространено в местах, где имелась глина, пригодная для изготовления керамики. Станицы Пашковская и Елизаветинская обладали лучшими на Кубани залежами гончарной глины. В основном, выделывалась простая посуда,  игрушки для детей, часто гончарное производство соединялось с выделкой кирпича. </a:t>
            </a:r>
            <a:endParaRPr b="0" lang="en-US" sz="1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92" name="Picture 4" descr="C:\Users\123\Desktop\мои фото\100OLYMP\PB080245.JPG"/>
          <p:cNvPicPr/>
          <p:nvPr/>
        </p:nvPicPr>
        <p:blipFill>
          <a:blip r:embed="rId1"/>
          <a:stretch/>
        </p:blipFill>
        <p:spPr>
          <a:xfrm>
            <a:off x="214200" y="1071720"/>
            <a:ext cx="4000680" cy="47862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457200" y="115920"/>
            <a:ext cx="8458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нчарное производство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57440" y="333000"/>
            <a:ext cx="4390920" cy="575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 выделить типичные, характерные только для Кубани черты керамики. Одной из причин является то, что ремеслом занимались, главным образом, иногородние и переселенцы из различных районов страны.  На Кубани гончары пользовались большим почетом и уважением, о них слагались песни, сказки, пословицы. Формы кубанской керамики просты, орнамент яркий, растительный </a:t>
            </a:r>
            <a:endParaRPr b="0" lang="en-US" sz="1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95" name="Picture 4" descr="C:\Users\123\Desktop\мои фото\100OLYMP\PB080241.JPG"/>
          <p:cNvPicPr/>
          <p:nvPr/>
        </p:nvPicPr>
        <p:blipFill>
          <a:blip r:embed="rId1"/>
          <a:stretch/>
        </p:blipFill>
        <p:spPr>
          <a:xfrm>
            <a:off x="500040" y="928800"/>
            <a:ext cx="371484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143320" y="472680"/>
            <a:ext cx="3786120" cy="561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древнейших народных промыслов восточных славян является лозоплетение. Значительную часть домашней утвари – от овощных корзин до плетней и хозяйственных построек жители Кубанских станиц делали из лозы. Всевозможные верши, корзины, разнообразные плетни, кошели, овчарни плелись из гибкой, золотистой ивовой лозы. </a:t>
            </a:r>
            <a:endParaRPr b="0" lang="en-US" sz="1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97" name="Picture 4" descr="C:\Users\123\Desktop\мои фото\100OLYMP\PB080244.JPG"/>
          <p:cNvPicPr/>
          <p:nvPr/>
        </p:nvPicPr>
        <p:blipFill>
          <a:blip r:embed="rId1"/>
          <a:stretch/>
        </p:blipFill>
        <p:spPr>
          <a:xfrm>
            <a:off x="214200" y="1143000"/>
            <a:ext cx="4857840" cy="50385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4"/>
          <p:cNvSpPr/>
          <p:nvPr/>
        </p:nvSpPr>
        <p:spPr>
          <a:xfrm>
            <a:off x="684360" y="115920"/>
            <a:ext cx="7343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зоплетение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35280" y="620280"/>
            <a:ext cx="4608360" cy="549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итые узоры не только украшали одежду и бытовые предметы из ткани, но и служили оберегами от злых сил. В каждой семье, независимо от социального положения, женщины должны были владеть различными видами рукоделия: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качество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шивкой, вязанием. Вышивали чаще всего гладью, «крестом». Красный цветок с корнями и бутонами-символ крепкой семьи. Корни-это родители, а бутоны-это дети. Прямая линия-символ зем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200" name="Picture 4" descr="C:\Users\123\Desktop\мои фото\100OLYMP\PB080239.JPG"/>
          <p:cNvPicPr/>
          <p:nvPr/>
        </p:nvPicPr>
        <p:blipFill>
          <a:blip r:embed="rId1"/>
          <a:stretch/>
        </p:blipFill>
        <p:spPr>
          <a:xfrm>
            <a:off x="500040" y="1000080"/>
            <a:ext cx="3929040" cy="450072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2"/>
          <p:cNvSpPr/>
          <p:nvPr/>
        </p:nvSpPr>
        <p:spPr>
          <a:xfrm>
            <a:off x="0" y="3906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кусство вышивани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C:\Users\Admin\Desktop\Новая папка\WP_20180208_038.jpg"/>
          <p:cNvPicPr/>
          <p:nvPr/>
        </p:nvPicPr>
        <p:blipFill>
          <a:blip r:embed="rId1"/>
          <a:stretch/>
        </p:blipFill>
        <p:spPr>
          <a:xfrm>
            <a:off x="3022560" y="333360"/>
            <a:ext cx="277344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Users\Admin\Desktop\Новая папка\WP_20180208_040.jpg"/>
          <p:cNvPicPr/>
          <p:nvPr/>
        </p:nvPicPr>
        <p:blipFill>
          <a:blip r:embed="rId2"/>
          <a:stretch/>
        </p:blipFill>
        <p:spPr>
          <a:xfrm>
            <a:off x="539640" y="3284640"/>
            <a:ext cx="3456000" cy="3103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C:\Users\Admin\Desktop\Новая папка\WP_20180208_043.jpg"/>
          <p:cNvPicPr/>
          <p:nvPr/>
        </p:nvPicPr>
        <p:blipFill>
          <a:blip r:embed="rId3"/>
          <a:stretch/>
        </p:blipFill>
        <p:spPr>
          <a:xfrm>
            <a:off x="4649760" y="3284640"/>
            <a:ext cx="3828960" cy="3039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324000" y="-357120"/>
            <a:ext cx="8424720" cy="57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патриотического воспитания в детском саду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ческое воспитание дошкольников по ФГОС довольно актуально в условиях современности. Это связано с установлением приоритетности материальных ценностей перед духовными в нашем обществе. Однако воспитание подрастающего поколения в рамках уважения и любви к Родине формирует нравственно здоровое, жизнеспособное население. Дети дошкольного возраста особо эмоциональны, пытливы, готовы к сопереживанию, у них идёт процесс формирования личностных ориентиров, поэтому можно наиболее плодотворно проводить воспитательную работу. Этому также способствует особая подверженность дошкольников влиянию взрослых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 мира начинается с восхищения: будь то утренний рассвет на берегу реки, куда ребёнок приехал с папой на рыбалку, или сверкающие капли росы, которые он увидел по дороге в детский сад, или захлёстывающие душу звуки торжественного марша во время парада в День Победы. Многие впечатления от увиденного малышом не осознаются, но они закладывают в его душе прочную базу восхищения родным домом, детским садом , хутором, где он живёт. Вместе с этим в сердце зарождается чувство любви к близким людям, друзьям, родному краю – так незаметно на благодатной почве дают первые всходы патриотические чувства. Важным моментом в воспитании патриотических чувств является то, что дошкольник мыслит яркими и сильными образами, которые остаются в памяти на всю жизнь. Поэтому необходимо знакомить его с историческим прошлым нашей Родины, с историей собственных корней и народными традициями с помощью методов, соответствующих возрасту.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Прямоугольник 1" descr=""/>
          <p:cNvPicPr/>
          <p:nvPr/>
        </p:nvPicPr>
        <p:blipFill>
          <a:blip r:embed="rId1"/>
          <a:stretch/>
        </p:blipFill>
        <p:spPr>
          <a:xfrm>
            <a:off x="835200" y="2798640"/>
            <a:ext cx="7467480" cy="1455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395280" y="1166760"/>
            <a:ext cx="849780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патриотического воспитания в детском саду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ческое воспитание дошкольников по ФГОС подразумевает следующие задачи: формирование нравственно-духовных особенностей личности; формирование чувства гордости за свою нацию; формирование почтительного отношения к национальным и культурным традициям своего народа; формирование либеральной позиции по отношению к ровесникам, взрослым, людям других национальностей.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ы патриотического воспитани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изм и демократизм, научность, единство теории и практики, приоритетность исторического, культурного наследия ДНР, её духовных ценностей и традиций, системность, преемственность в развитии подрастающих поколений с учётом возрастных особенностей и интересов различных слоёв, высокий уровень организационного обеспечения функционирования системы, многообразие форм, методов и средств, используемых в целях обеспечения эффективности воспитания, его направленность на развитие возможностей, способностей и качеств каждой личности на основе оптимального сочетания коллективного и индивидуального подходов, тесная и неразрывная связь с другими направлениями воспитания, социальное партнёрство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c0439"/>
                </a:solidFill>
                <a:latin typeface="Times New Roman"/>
              </a:rPr>
              <a:t>С чего начинается Родина?</a:t>
            </a:r>
            <a:br>
              <a:rPr sz="2400"/>
            </a:br>
            <a:br>
              <a:rPr sz="2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вство Родины... Оно начинается у ребёнка с отношения к семье, к самым близким людям — к матери, отцу, бабушке, дедушке. Это корни, связывающие его с родным домом и ближайшим окружение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детей дошкольного возраста, Родина является абстрактным понятием, которое невозможно потрогать, увидеть. </a:t>
            </a:r>
            <a:endParaRPr b="0" lang="en-US" sz="1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53" name="Picture 15" descr="рис"/>
          <p:cNvPicPr/>
          <p:nvPr/>
        </p:nvPicPr>
        <p:blipFill>
          <a:blip r:embed="rId1"/>
          <a:stretch/>
        </p:blipFill>
        <p:spPr>
          <a:xfrm>
            <a:off x="2411280" y="2924280"/>
            <a:ext cx="446724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56360" y="404280"/>
            <a:ext cx="2449440" cy="29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c0439"/>
                </a:solidFill>
                <a:latin typeface="Times New Roman"/>
                <a:ea typeface="Times New Roman"/>
              </a:rPr>
              <a:t>ОЙ! Кубань, ты мать родная! Край станиц и хуторов.      Степь от края и до края</a:t>
            </a:r>
            <a:br>
              <a:rPr sz="1400"/>
            </a:br>
            <a:r>
              <a:rPr b="0" lang="ru-RU" sz="1400" spc="-1" strike="noStrike">
                <a:solidFill>
                  <a:srgbClr val="bc0439"/>
                </a:solidFill>
                <a:latin typeface="Times New Roman"/>
                <a:ea typeface="Times New Roman"/>
              </a:rPr>
              <a:t>Тонет в золоте хлебов.</a:t>
            </a:r>
            <a:br>
              <a:rPr sz="1400"/>
            </a:br>
            <a:r>
              <a:rPr b="0" lang="ru-RU" sz="1400" spc="-1" strike="noStrike">
                <a:solidFill>
                  <a:srgbClr val="bc0439"/>
                </a:solidFill>
                <a:latin typeface="Times New Roman"/>
                <a:ea typeface="Times New Roman"/>
              </a:rPr>
              <a:t>Это счастье-жить на свете</a:t>
            </a:r>
            <a:br>
              <a:rPr sz="1400"/>
            </a:br>
            <a:r>
              <a:rPr b="0" lang="ru-RU" sz="1400" spc="-1" strike="noStrike">
                <a:solidFill>
                  <a:srgbClr val="bc0439"/>
                </a:solidFill>
                <a:latin typeface="Times New Roman"/>
                <a:ea typeface="Times New Roman"/>
              </a:rPr>
              <a:t>И тобой весь век дышать.</a:t>
            </a:r>
            <a:br>
              <a:rPr sz="1400"/>
            </a:br>
            <a:r>
              <a:rPr b="0" lang="ru-RU" sz="1400" spc="-1" strike="noStrike">
                <a:solidFill>
                  <a:srgbClr val="bc0439"/>
                </a:solidFill>
                <a:latin typeface="Times New Roman"/>
                <a:ea typeface="Times New Roman"/>
              </a:rPr>
              <a:t>И встречать твои рассветы,</a:t>
            </a:r>
            <a:br>
              <a:rPr sz="1400"/>
            </a:br>
            <a:r>
              <a:rPr b="0" lang="ru-RU" sz="1400" spc="-1" strike="noStrike">
                <a:solidFill>
                  <a:srgbClr val="bc0439"/>
                </a:solidFill>
                <a:latin typeface="Times New Roman"/>
                <a:ea typeface="Times New Roman"/>
              </a:rPr>
              <a:t>И закаты провожать… </a:t>
            </a:r>
            <a:br>
              <a:rPr sz="1400"/>
            </a:br>
            <a:r>
              <a:rPr b="0" lang="ru-RU" sz="1400" spc="-1" strike="noStrike">
                <a:solidFill>
                  <a:srgbClr val="bc0439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789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ая цель воспитателя – помочь показать детям их родной хутор Бараниковский , в котором они живут, чтобы вызвать у них чувства восхищения, гордости и любви. Воспитание этих чувств у дошкольников весьма кропотливая работа, которая должна проводиться систематически и планомерно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до помнить, что дошкольник воспринимает окружающую его действительность эмоционально, поэтому патриотические чувства к родному краю у него проявляются в чувстве восхищения своим хутором (городом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5" descr="C:\Users\Admin\Desktop\Новая папка\WP_20180208_041.jpg"/>
          <p:cNvPicPr/>
          <p:nvPr/>
        </p:nvPicPr>
        <p:blipFill>
          <a:blip r:embed="rId1"/>
          <a:stretch/>
        </p:blipFill>
        <p:spPr>
          <a:xfrm>
            <a:off x="457200" y="549360"/>
            <a:ext cx="5554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9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вое с чего начинается познание мира ребенком, - это ласковая материнская улыбка, тихая колыбельная песня, добрые глаза и теплые материнские ру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считаю, что невозможно воспитать в ребенке патриотические чувства к Родине без таких понятий как: «любовь к матери», к дому, к детскому саду, к своему хутору, краю…</a:t>
            </a:r>
            <a:endParaRPr b="0" lang="en-US" sz="1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58" name="Picture 6" descr="C:\Users\Admin\Desktop\Новая папка\IMG_0401.jpg"/>
          <p:cNvPicPr/>
          <p:nvPr/>
        </p:nvPicPr>
        <p:blipFill>
          <a:blip r:embed="rId1"/>
          <a:stretch/>
        </p:blipFill>
        <p:spPr>
          <a:xfrm>
            <a:off x="395280" y="293544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:\Users\Admin\Desktop\Новая папка\IMG_0468.jpg"/>
          <p:cNvPicPr/>
          <p:nvPr/>
        </p:nvPicPr>
        <p:blipFill>
          <a:blip r:embed="rId2"/>
          <a:stretch/>
        </p:blipFill>
        <p:spPr>
          <a:xfrm>
            <a:off x="4643280" y="2943360"/>
            <a:ext cx="4008600" cy="3006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е наследие.</a:t>
            </a: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 каждого народа свои сказки, и все они передают от поколения к поколению основные нравственные ценности: добро, дружба, взаимопомощь, трудолюбие. «Это — первые и блестящие попыт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сской народной педагогики, — писал К.Д. Ушинский, — и я не думаю, чтобы кто-нибудь был в состоянии состязаться в этом случае с педагогическим гением народа". Не случайно К.Д. Ушинск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черкивал, что "... воспитание, если оно не хочет быть бессильным, должно быть народным". Произведения устного народного творчества не только формируют любовь к традициям своего народа, но и способствуют развитию личности в духе патриотизм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9" descr="C:\Users\Admin\Desktop\Новая папка\SAM_6164.JPG"/>
          <p:cNvPicPr/>
          <p:nvPr/>
        </p:nvPicPr>
        <p:blipFill>
          <a:blip r:embed="rId1"/>
          <a:stretch/>
        </p:blipFill>
        <p:spPr>
          <a:xfrm>
            <a:off x="539640" y="2997360"/>
            <a:ext cx="3888000" cy="3563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C:\Users\Admin\Desktop\Новая папка\WP_20180208_003.jpg"/>
          <p:cNvPicPr/>
          <p:nvPr/>
        </p:nvPicPr>
        <p:blipFill>
          <a:blip r:embed="rId2"/>
          <a:stretch/>
        </p:blipFill>
        <p:spPr>
          <a:xfrm>
            <a:off x="4643280" y="2997360"/>
            <a:ext cx="410544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5977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ие сведения и понятия о родном крае способны усвоить дети?</a:t>
            </a: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апазон объектов, с которыми знакомят старших дошкольников. расширяется — это район и город в целом, его достопримечательности, исторические места и памятники. Детям объясняют, в честь кого они воздвигнуты. Старший дошкольник должен знать название своего хутора, города, своей улицы, прилегающих к ней улиц, а также в честь кого они названы. Ему объясняют, что у каждого человека есть родной дом и хутор (город), где он родился и живет. Для этого необходимы экскурсии в музей, на природу, наблюдения за трудом взрослых, где каждый ребенок начинает осознавать, что труд объединяет людей, требует от них слаженности, взаимопомощи, знания своего дела. И здесь большое значение приобретает знакомство детей с народным искусством краснодарского  края, народными умельцам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6" descr="C:\Users\Admin\Desktop\Новая папка\WP_20180208_047.jpg"/>
          <p:cNvPicPr/>
          <p:nvPr/>
        </p:nvPicPr>
        <p:blipFill>
          <a:blip r:embed="rId1"/>
          <a:stretch/>
        </p:blipFill>
        <p:spPr>
          <a:xfrm>
            <a:off x="2484360" y="4365720"/>
            <a:ext cx="4824360" cy="2087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C:\Users\Admin\Desktop\Новая папка\WP_20180208_031.jpg"/>
          <p:cNvPicPr/>
          <p:nvPr/>
        </p:nvPicPr>
        <p:blipFill>
          <a:blip r:embed="rId2"/>
          <a:stretch/>
        </p:blipFill>
        <p:spPr>
          <a:xfrm>
            <a:off x="5364000" y="1700280"/>
            <a:ext cx="3456000" cy="2435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утешествие в историю</a:t>
            </a: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атриотическом воспитании огромное значение имеет пример взрослых, в особенности же близких людей. На конкретных фактах из жизни старших членов семьи (дедушек и бабушек, участников Великой Отечественной войны, их фронтовых и трудовых подвигов) необходимо привить детям такие важные понятия, как "долг перед Родиной", "любовь к Отечеству", «ненависть к врагу", "трудовой подвиг" и т.д. Важно подвести ребенка к пониманию, что мы победили потому, что любим свою Отчизну, Родина чтит своих героев, отдавших жизнь за счастье людей. Их имена увековечены в названиях городов, улиц, площадей, в их честь воздвигнуты памятник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F:\SAM_6072.JPG"/>
          <p:cNvPicPr/>
          <p:nvPr/>
        </p:nvPicPr>
        <p:blipFill>
          <a:blip r:embed="rId1"/>
          <a:stretch/>
        </p:blipFill>
        <p:spPr>
          <a:xfrm>
            <a:off x="4572000" y="3429000"/>
            <a:ext cx="4103640" cy="3168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F:\SAM_6079.JPG"/>
          <p:cNvPicPr/>
          <p:nvPr/>
        </p:nvPicPr>
        <p:blipFill>
          <a:blip r:embed="rId2"/>
          <a:stretch/>
        </p:blipFill>
        <p:spPr>
          <a:xfrm>
            <a:off x="539640" y="3429000"/>
            <a:ext cx="374508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3:06:11Z</dcterms:created>
  <dc:creator>ANNA</dc:creator>
  <dc:description/>
  <dc:language>en-US</dc:language>
  <cp:lastModifiedBy>днс</cp:lastModifiedBy>
  <dcterms:modified xsi:type="dcterms:W3CDTF">2019-10-11T05:27:28Z</dcterms:modified>
  <cp:revision>74</cp:revision>
  <dc:subject/>
  <dc:title>Патриотическое воспитание детей старшего дошкольного возраста</dc:title>
</cp:coreProperties>
</file>