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4CF-C4A7-4FA6-96D9-C04D7AD6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568-CDC0-408D-BC31-47BAEF5F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FCD-BC5B-4D9E-976A-15A642DC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B24D-E53D-4E8A-AF23-82324429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3712-C41E-4D87-BCC6-7A789946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173D-AFA0-4D25-A444-DF2886DF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0EF3-2D3E-44AB-AE2D-2E131F92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5C29-406D-45F9-ACF9-868A4058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13D1-B4B5-4C47-B0A4-2175A228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0E90-53E0-4776-98F0-6FF1631A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5140-A381-4036-800B-F15BE7FC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E47-9DA6-4EC2-B1B1-D12EC345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5C34-5FB7-4922-BE06-DF171B40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A3F2-79D4-40B5-A50C-DBF5B7AA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423C-CFDC-4FE6-B48D-23493879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6D07-9239-46DD-A0CC-B79934E8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F791-9C91-44A2-95BD-D0A0A4B2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FFE-456F-470F-81CB-5E74267F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407-B520-481E-BC72-2A423BAB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CD3-DCDE-46EE-B3D2-8D291829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DFA-8458-4B97-AAC3-E1536E42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792-E345-4D73-AF9C-339E9E50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45F-58FB-49A5-8B88-4AE72CC4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80D-F0B0-4016-92D6-8FA11436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FFD2-BC7F-473A-8F5C-D15489BC09E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FAEC-97BC-4753-A1BB-B1FF601EEC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96720" y="3429000"/>
            <a:ext cx="820872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Cкор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в школу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flipH="1">
            <a:off x="5867280" y="260280"/>
            <a:ext cx="3083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rot="19929000">
            <a:off x="1547640" y="188640"/>
            <a:ext cx="6336000" cy="645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798984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Звенит звонок нам десять лет подря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Его услышав, люди улыбаются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И расцветают лица у ребя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Пришла пора - уроки начинаю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4897440" cy="2001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95640" y="189000"/>
            <a:ext cx="1593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10800000">
            <a:off x="323640" y="1124640"/>
            <a:ext cx="8280360" cy="3529080"/>
          </a:xfrm>
          <a:prstGeom prst="upArrowCallout">
            <a:avLst>
              <a:gd name="adj1" fmla="val -50878"/>
              <a:gd name="adj2" fmla="val 58658"/>
              <a:gd name="adj3" fmla="val 1666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20728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Можно ли быть уверенным, чт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Читающ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Знающий названия всех контин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Знающий марки всех машин и т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flipH="1">
            <a:off x="6948000" y="3933720"/>
            <a:ext cx="1003320" cy="1728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476360" y="5516640"/>
            <a:ext cx="583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Успешный уче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08000" y="2924280"/>
            <a:ext cx="4897440" cy="26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ЕТ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68709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отовность ребёнка к школе включает в себ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04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Психологическая готовнос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Физическое здоровь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Умение логически мысли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Умение общаться в коллективе сверстников и со взрослым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Развитие мелкой моторики рук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Ответственность и самостоятельнос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Умение читать и писа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Умение счита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8709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Выделяются разные виды готовности к школ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696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Психологическая готовнос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Физическая готов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Специальная готов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Эмоционально-волевая готовность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способность управлять своим поведени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умение организовывать рабочее место и поддерживать порядок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стремление преодолевать труд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стремление к достижению результата своей деятель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23096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одителям необходимо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– научить ребёнка доводить начатое дело до конц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Большое значение имеет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тношение взрослых к делам дете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Если ребёнок видит внимательное, доброжелательное, отношение к результатам его деятельности, то он сам с ответственностью относится к н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Умственное развитие ребе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одителям следует помнить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что само по себе количество знаний или навыков не может служить показателем развит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Школа ждёт  психологичес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подготовленного к учебному труд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ребёнк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ажно  как дети умеют  пользовать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знаниями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7696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Развитие необходимой для письма «ручной умелости» ребё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Овладение некоторыми специальными знаниями и навыками – грамотой, счётом, решением арифметических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755640" y="404280"/>
            <a:ext cx="6983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Для подготовки детей к школе, еще важно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68709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Советы родителям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696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Развивайте настойчивость, трудолюбие ребёнка, умение доводить дело до конц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Формируйте у него мыслительные способности, наблюдательность, пытливость, интерес к познанию окружающег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Ставьте ребёнка перед проблемными ситуация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Беседуйте о прочитанных книг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2:19:56Z</dcterms:created>
  <dc:creator>OEM</dc:creator>
  <dc:description/>
  <dc:language>en-US</dc:language>
  <cp:lastModifiedBy>Toshiba</cp:lastModifiedBy>
  <dcterms:modified xsi:type="dcterms:W3CDTF">2010-11-23T17:56:54Z</dcterms:modified>
  <cp:revision>43</cp:revision>
  <dc:subject/>
  <dc:title>Слайд 1</dc:title>
</cp:coreProperties>
</file>