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6.wmf" ContentType="image/x-wmf"/>
  <Override PartName="/ppt/media/image7.gif" ContentType="image/gif"/>
  <Override PartName="/ppt/media/image9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947-D5C5-44E8-8910-4A2D3A94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BF1-78FA-4F92-99AC-BC8D9A9C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0BA-E4F3-4210-8266-DBF66F7F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45A-0455-4E12-82D7-61ED742C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9AEE-3715-4AC3-8D9E-131EA8F3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98DC-8EF7-4D75-A314-0A2CEE6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AB8D-0E2F-4462-A774-9C06BA73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732F-FC21-49DD-B267-13C21537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6005-8EE6-48A9-B4F5-F92EA3C0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D3BD-F2C9-420C-80AA-393F00F0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EECC-52CE-4F2B-91A9-239CB9DC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B1C-8A13-4D7D-8C5B-89ECC1C9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9208-0C9E-4262-9F57-D6EFE78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196F-C466-4BCC-B9ED-AEC0AE4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67F5-A5B1-4646-B4D6-D5DC12B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5EB3-98EC-4EB2-8A38-7BD6E48F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2248-8D34-48BD-B7B9-F9E5D1B6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443B9-1D54-401A-A36B-62171954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0EB7-105D-4EB7-B01B-E26ACEAE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360E-DB6E-4751-8270-9C14F585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23E97-E89E-448E-9080-AFA1DE71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E369-0232-44EF-9E6B-C0C7C4CA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82F-70EB-4A0F-8A4D-F0AAB44E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0890-31BA-489A-AE4D-38AC6471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9C1B-325B-4B97-B2CB-9E147943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E0A64-ED60-4485-B7EA-F21FE987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E5C2-DFCA-43A2-AEBA-A54DE4C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B7B2-342E-4B9D-AFDC-1B8C0301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FEE1-75D9-49FA-8950-CD86D801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D6E5-86FD-4929-A293-C93D990F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C63-AC37-44A8-9C69-B917772F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83C-0C09-438F-9D30-664E36ED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C4C-27D8-40C1-B139-C8267555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11A-7BC2-4002-A962-D053C810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30D-9D9B-42C2-8F64-4361F37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AE6-2BD3-4657-9F4A-AC9D941C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B682-B6A3-4D1A-8031-AD395D3F0F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B2C1-FDC7-4E29-AB17-5479433D2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1B37-97E0-42B7-AE05-7FB318B7BC3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7240" y="333000"/>
            <a:ext cx="79092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Муниципальное автономное обще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Наро-Фоминская средняя общеобразовательная школа №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ahoma"/>
              </a:rPr>
              <a:t>Роль классного руководителя в современной школ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C:\Documents and Settings\Admin\Мои документы\Мои рисунки\iCANOI1LM.jpg"/>
          <p:cNvPicPr/>
          <p:nvPr/>
        </p:nvPicPr>
        <p:blipFill>
          <a:blip r:embed="rId1"/>
          <a:stretch/>
        </p:blipFill>
        <p:spPr>
          <a:xfrm>
            <a:off x="4857840" y="3857760"/>
            <a:ext cx="3786120" cy="259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215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щита прав и интересов обучающихс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ганизация системной работы с обучающимися в класс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уманизация отношений между обучающимися, между обучающимися и педагогическими работника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ирование у обучающихся нравственных смыслов и духовных ориентир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ганизация социально значимой, творческой деятель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2771640" y="2349360"/>
            <a:ext cx="3384720" cy="201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Функ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кл. ру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611280" y="620640"/>
            <a:ext cx="288108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ce9fb"/>
                </a:solidFill>
                <a:latin typeface="Arial"/>
              </a:rPr>
              <a:t>Организацион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ce9fb"/>
                </a:solidFill>
                <a:latin typeface="Arial"/>
              </a:rPr>
              <a:t>координирую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5219640" y="549360"/>
            <a:ext cx="3097440" cy="180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755640" y="4581360"/>
            <a:ext cx="295272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Аналити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прогнос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64000" y="4581360"/>
            <a:ext cx="309564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Контро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843280" y="2205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 flipH="1">
            <a:off x="5435280" y="2205000"/>
            <a:ext cx="576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H="1">
            <a:off x="2627280" y="4149720"/>
            <a:ext cx="936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364000" y="4221000"/>
            <a:ext cx="1008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00"/>
                </a:solidFill>
                <a:latin typeface="Tahoma"/>
              </a:rPr>
              <a:t>1.</a:t>
            </a: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3300"/>
                </a:solidFill>
                <a:latin typeface="Tahoma"/>
              </a:rPr>
              <a:t>Организационно-координирующие</a:t>
            </a: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50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ение связи ОУ с семь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овление контактов с родителями (законными представителями) обучающихся, оказание им помощи в воспитании обучающихся (лично, через психолога, социального педагога, педагога ДО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дение консультаций, бесед с родителями (законными представителями) обучаю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е с педагогическими работниками, а также учебно-вспомогательным персоналом О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50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я в классе образовательного процесса, оптимального для развития положительного потенциала личности обучающихся в рамках деятельности общешкольного коллекти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я воспитательной работы с обучающимися через проведение "малых педсоветов", педагогических консилиумов, тематических и других мероприят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ование и учет разнообразной деятельности обучающихся, в том числе в системе дополнительного образования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е с каждым обучающимся и коллективом, класса в це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дение документации (классный журнал, личные дела обучающихся, план работы классного руководител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ahoma"/>
              </a:rPr>
              <a:t>2. Коммуникативны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21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гулирование межличностных отношений между обучающимися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установление взаимодействия между педагогическими работниками и обучающимися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одействие общему благоприятному психологическому климату в коллективе класс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казание помощи обучающимся в формировании коммуникативных качест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ahoma"/>
              </a:rPr>
              <a:t>3. Аналитико-прогностическ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индивидуальных особенностей обучающихся и динамики их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состояния и перспектив развития коллектива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ahoma"/>
              </a:rPr>
              <a:t>4. Контрольны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 за успеваемостью каждого обучающегося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 за посещаемостью учебных занятий обучающими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тапы работы классного руководител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7560" y="2674800"/>
            <a:ext cx="804888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990000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комство с будущим классным коллективом, первые вст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4600" indent="-804600">
              <a:spcBef>
                <a:spcPts val="799"/>
              </a:spcBef>
              <a:buClr>
                <a:srgbClr val="990000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агностика личности учащего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4600" indent="-804600">
              <a:spcBef>
                <a:spcPts val="799"/>
              </a:spcBef>
              <a:buClr>
                <a:srgbClr val="990000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заимодействие с родител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4600" indent="-804600">
              <a:spcBef>
                <a:spcPts val="799"/>
              </a:spcBef>
              <a:buClr>
                <a:srgbClr val="990000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заимодействие с педколлекти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накомство с будущим классом, первые встреч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4103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ещение уроков, классных праздников, родительских собр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учение опыта работы классного руководителя начальных классов с целью сохранения преемственности в воспит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грамма курса «Самосовершенствования личности» (авт. Г.К. Селевко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2662200"/>
            <a:ext cx="756144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ласс. Познай себя (самопозна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. Сделай себя сам (самовоспита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ласс. Научи себя учиться (самообразова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ласс. Утверждай себя (самоутвержде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ласс. Найди себя (самоопределе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ласс. Управляй собой (саморегуляц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ласс. Реализуй себя (самореализац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352000" cy="152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Ключевая рол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в решении задач воспит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принадлежит классному руководителю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74560" y="3643200"/>
            <a:ext cx="85694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Цель деятельности классного руководителя – создание условий для саморазвития и самореализации личности обучающегося, его успешной социализации в обще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21420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енок – горящий факел! Это то живое пламя, горючим материалом которого является тесная дружба, единая воля, отличное взаимопонимание, деловое сотрудничество, сотоварищество, содружество. И регулирует это пламя классный руководитель. От него зависит потухнет факел или будет гореть все ярче и ярче. И главная роль классного руководителя – поддерживать «огонь» в каждом ребе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8" descr="KIDS01"/>
          <p:cNvPicPr/>
          <p:nvPr/>
        </p:nvPicPr>
        <p:blipFill>
          <a:blip r:embed="rId1"/>
          <a:stretch/>
        </p:blipFill>
        <p:spPr>
          <a:xfrm>
            <a:off x="4286160" y="4071960"/>
            <a:ext cx="3443400" cy="27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642960" y="1571760"/>
          <a:ext cx="8215200" cy="3144600"/>
        </p:xfrm>
        <a:graphic>
          <a:graphicData uri="http://schemas.openxmlformats.org/drawingml/2006/table">
            <a:tbl>
              <a:tblPr/>
              <a:tblGrid>
                <a:gridCol w="965160"/>
                <a:gridCol w="1033560"/>
                <a:gridCol w="1033560"/>
                <a:gridCol w="1062000"/>
                <a:gridCol w="685800"/>
                <a:gridCol w="1623960"/>
                <a:gridCol w="1249200"/>
                <a:gridCol w="561960"/>
              </a:tblGrid>
              <a:tr h="314460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правления воспитательной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зовые национальные ц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держ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ероп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орма провед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заимодействие с другими субъектами в образовательном процесс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ланируемые результат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рок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Формула достижения успех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755280" y="2773440"/>
            <a:ext cx="7705800" cy="1644480"/>
          </a:xfrm>
          <a:prstGeom prst="rect">
            <a:avLst/>
          </a:prstGeom>
          <a:noFill/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Garamond"/>
              </a:rPr>
              <a:t>Я = Д + Р + П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3"/>
          <p:cNvSpPr txBox="1"/>
          <p:nvPr/>
        </p:nvSpPr>
        <p:spPr>
          <a:xfrm rot="20515800">
            <a:off x="-3240" y="774360"/>
            <a:ext cx="8580600" cy="39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86000"/>
                </a:gradFill>
                <a:latin typeface="Arial Black"/>
              </a:rPr>
              <a:t>СПАСИБ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86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86000"/>
                </a:gradFill>
                <a:latin typeface="Arial Black"/>
              </a:rPr>
              <a:t>ЗА ВНИМАНИЕ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86000"/>
              </a:gradFill>
              <a:latin typeface="Arial Black"/>
              <a:ea typeface="Arial Black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857240" y="475920"/>
            <a:ext cx="69883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3000" spc="-1" strike="noStrike">
                <a:solidFill>
                  <a:srgbClr val="ff3300"/>
                </a:solidFill>
                <a:latin typeface="Garamond"/>
              </a:rPr>
              <a:t>Деятельность классного руководителя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целенаправленный, системный, планируемый процесс, строящийся на основе Устава ОУ и иных локальных актов, анализа предыдущей деятельности, позитивных и негативных тенденций общественной жизни, на основе личностно ориентированного подхода к обучающимся с учетом актуальных задач, стоящих перед педагогическим коллективом ОУ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3" descr="CGDA"/>
          <p:cNvPicPr/>
          <p:nvPr/>
        </p:nvPicPr>
        <p:blipFill>
          <a:blip r:embed="rId1"/>
          <a:stretch/>
        </p:blipFill>
        <p:spPr>
          <a:xfrm>
            <a:off x="-785880" y="285840"/>
            <a:ext cx="3938760" cy="35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Надо хорошо знать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21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сихолого-педагогические основы работы с детьми конкретного возраст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быть информированным о новейших тенденциях, способах и формах воспитательной деятельности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ладеть современными технологиями воспита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j0295755[1]"/>
          <p:cNvPicPr/>
          <p:nvPr/>
        </p:nvPicPr>
        <p:blipFill>
          <a:blip r:embed="rId1"/>
          <a:stretch/>
        </p:blipFill>
        <p:spPr>
          <a:xfrm>
            <a:off x="7429680" y="5072040"/>
            <a:ext cx="1714320" cy="1785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Необходимо учитыват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ровень воспитанност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учающихся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циальные и материальны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словия их жизн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572160" y="4071960"/>
            <a:ext cx="2357640" cy="242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50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В условиях модернизации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российского образования, реализации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Национальной образовательной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инициативы «Наша новая школа»,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Концепции духовно-нравственного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развития и воспитания личности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гражданина России,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введения Федеральных государственных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образовательных стандартов второго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поколения, возрастают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воспитательные функции школы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Garamond"/>
              </a:rPr>
              <a:t>Главные задачи современной школы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скрытие способностей каждого ученика, воспитание порядочного и патриотичного человека, личности, готовой к жизни в высокотехнологичном, конкурентном мире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Наша новая школа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Цель деятельности классного руководител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здание условий для саморазвития и самореализации личности обучающегося, его успешной социализации в обществ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4" descr="Учительница"/>
          <p:cNvPicPr/>
          <p:nvPr/>
        </p:nvPicPr>
        <p:blipFill>
          <a:blip r:embed="rId1"/>
          <a:stretch/>
        </p:blipFill>
        <p:spPr>
          <a:xfrm>
            <a:off x="3500280" y="4071960"/>
            <a:ext cx="2498760" cy="2500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Задачи деятельности классного руководител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215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ирование и развитие коллектива класс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здание благоприятных психолого-педагогических условий для развития личности, самоутверждения каждого обучающегося, сохранения неповторимости и раскрытия его потенциальных способност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ирование здорового образа жиз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ганизация системы отношений через разнообразные формы воспитывающей деятельности коллектива класс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5:09:55Z</dcterms:created>
  <dc:creator>№</dc:creator>
  <dc:description/>
  <dc:language>en-US</dc:language>
  <cp:lastModifiedBy>Евгений</cp:lastModifiedBy>
  <dcterms:modified xsi:type="dcterms:W3CDTF">2019-10-11T05:58:45Z</dcterms:modified>
  <cp:revision>194</cp:revision>
  <dc:subject/>
  <dc:title>Из опыта работы классного руководителя </dc:title>
</cp:coreProperties>
</file>