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applause.wav" ContentType="audio/x-wav"/>
  <Override PartName="/ppt/media/%D0%B7%D0%B2%D1%83%D0%BA.wav" ContentType="audio/x-wav"/>
  <Override PartName="/ppt/media/image1.gif" ContentType="image/gif"/>
  <Override PartName="/ppt/media/image2.gif" ContentType="image/gif"/>
  <Override PartName="/ppt/media/image3.gif" ContentType="image/gif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067-F41E-424A-80FE-52041D1D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804-D9DF-4E1E-B132-9D468E28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2ED-473C-4F59-B512-77B1EB8F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A9D-A2BE-4ED7-BB1B-8BE1B131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C96E-582A-484E-AFFC-E68810EA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4D9F-2639-4021-9B16-6A9F983A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C868-A801-4E51-A04A-46DBF320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EDE-94B1-4E6F-81D3-B704029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D025-5251-43F8-BE06-A2DF620B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69CC-1851-4A03-AE9D-5022CADA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A4AC-628C-4CBF-AF77-42D4224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A15-6732-411B-B635-2F29323B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7E56-05C5-463F-92A8-ED2CAB1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67F2-DD8B-46A6-B6B9-71FAD78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0A4F-EA00-4BC2-B71E-43814E4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82F4-B807-40DB-84EB-AF6E967F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310-E892-4EEF-8938-C0E8C5BA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4F99-EE6D-406A-8B17-F3C3377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76F9-DDE5-4855-B19E-24D1594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A8BA-7BD2-464C-B96C-DACD7191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DB7D-D818-41C7-A128-5E3F41F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D59D-EAD0-429D-A376-DD8B63C2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0CC-AB88-4CD2-89C6-2AA459D3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6ACC-150E-4FB3-8DAA-14675F8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91FE-E5B6-4233-9ED4-F10DC96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8C34B-D468-46DA-8D2A-6242F3B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35E9-EEB4-4729-A58E-0EC2A08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7D6E-729B-49E8-98FA-0C799C7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2445-1955-48B8-96AA-7E8DDB83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CF2C-560B-4108-A8C4-4E08F094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E8BB7-D43B-410E-8685-C1AA1F32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0E9BD-47CF-4592-B50E-99DDDD9B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95A8E-97ED-4A95-ABBC-89043EC1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849-BEFE-4CC0-B6D1-1415EE61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D2AE4-1613-4A14-A018-DB56ADA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B620A-F05A-4AD1-8901-0EF914D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84E16-655E-4E75-BA94-1B9F474F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26E63-4537-474F-8BF6-BD60CB4C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3BB7C-E617-437F-B8BB-E4CABACC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74008-7243-44F0-903B-2A8A5B6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0A23D-3F91-4E75-A430-A61CECBE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04D7C-25EF-44ED-B41D-06239F97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61B79-8041-479B-8D93-6858525C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CF7A-D064-4B8B-A6D2-C9C76E80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187-8F62-42E7-8ACD-BF18125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F702-2AB5-44E2-9A0D-63310930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F857-6564-4514-9F44-279A330C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D891C-F799-4BC0-B94B-A0E24C9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A1FB-623D-4BE8-AE8A-76805D4C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E26C-CEEC-4159-903E-8837240C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455A-C19D-4DA2-B5FC-0AED45E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DA8B-A631-4120-92E0-AC1E4253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7612A-CB35-4CA0-937E-77F6130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D704-6690-4E43-8F7F-277856DD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EBD7D-D872-4E67-B285-DF02808F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F8E-0D6C-4024-B58A-89201B8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DBCB-B301-4305-BEC2-AA15F372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EA6-63F7-4FE6-8537-FE589040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AFF-6B36-461F-80F2-CC973EF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899-CA9F-4584-A427-5C34968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2536-14A3-4DE7-A965-047F5492F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C07-842C-486E-AEB4-4E431C41617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8E44-0F56-471D-8070-D7FAF572283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20D4-6D74-4E17-AC91-6C039D29FD6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B8E-EB5C-410D-A9C3-C161318E0BB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rkov3.narod.ru/effekt.htm" TargetMode="External"/><Relationship Id="rId2" Type="http://schemas.openxmlformats.org/officeDocument/2006/relationships/hyperlink" Target="http://www.gifpark.ru/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79;&#1074;&#1091;&#1082;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&#1079;&#1074;&#1091;&#1082;.wav"/><Relationship Id="rId2" Type="http://schemas.openxmlformats.org/officeDocument/2006/relationships/audio" Target="../media/&#1079;&#1074;&#1091;&#1082;.wav"/><Relationship Id="rId3" Type="http://schemas.openxmlformats.org/officeDocument/2006/relationships/audio" Target="../media/applause.wav"/><Relationship Id="rId4" Type="http://schemas.openxmlformats.org/officeDocument/2006/relationships/audio" Target="../media/&#1079;&#1074;&#1091;&#1082;.wav"/><Relationship Id="rId5" Type="http://schemas.openxmlformats.org/officeDocument/2006/relationships/audio" Target="../media/&#1079;&#1074;&#1091;&#1082;.wav"/><Relationship Id="rId6" Type="http://schemas.openxmlformats.org/officeDocument/2006/relationships/audio" Target="../media/&#1079;&#1074;&#1091;&#1082;.wav"/><Relationship Id="rId7" Type="http://schemas.openxmlformats.org/officeDocument/2006/relationships/audio" Target="../media/&#1079;&#1074;&#1091;&#1082;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&#1079;&#1074;&#1091;&#1082;.wav"/><Relationship Id="rId2" Type="http://schemas.openxmlformats.org/officeDocument/2006/relationships/audio" Target="../media/&#1079;&#1074;&#1091;&#1082;.wav"/><Relationship Id="rId3" Type="http://schemas.openxmlformats.org/officeDocument/2006/relationships/audio" Target="../media/&#1079;&#1074;&#1091;&#1082;.wav"/><Relationship Id="rId4" Type="http://schemas.openxmlformats.org/officeDocument/2006/relationships/audio" Target="../media/applause.wav"/><Relationship Id="rId5" Type="http://schemas.openxmlformats.org/officeDocument/2006/relationships/audio" Target="../media/&#1079;&#1074;&#1091;&#1082;.wav"/><Relationship Id="rId6" Type="http://schemas.openxmlformats.org/officeDocument/2006/relationships/audio" Target="../media/&#1079;&#1074;&#1091;&#1082;.wav"/><Relationship Id="rId7" Type="http://schemas.openxmlformats.org/officeDocument/2006/relationships/audio" Target="../media/applause.wav"/><Relationship Id="rId8" Type="http://schemas.openxmlformats.org/officeDocument/2006/relationships/audio" Target="../media/&#1079;&#1074;&#1091;&#1082;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&#1079;&#1074;&#1091;&#1082;.wav"/><Relationship Id="rId2" Type="http://schemas.openxmlformats.org/officeDocument/2006/relationships/audio" Target="../media/applause.wav"/><Relationship Id="rId3" Type="http://schemas.openxmlformats.org/officeDocument/2006/relationships/audio" Target="../media/&#1079;&#1074;&#1091;&#1082;.wav"/><Relationship Id="rId4" Type="http://schemas.openxmlformats.org/officeDocument/2006/relationships/audio" Target="../media/&#1079;&#1074;&#1091;&#1082;.wav"/><Relationship Id="rId5" Type="http://schemas.openxmlformats.org/officeDocument/2006/relationships/audio" Target="../media/&#1079;&#1074;&#1091;&#1082;.wav"/><Relationship Id="rId6" Type="http://schemas.openxmlformats.org/officeDocument/2006/relationships/audio" Target="../media/&#1079;&#1074;&#1091;&#1082;.wav"/><Relationship Id="rId7" Type="http://schemas.openxmlformats.org/officeDocument/2006/relationships/audio" Target="../media/&#1079;&#1074;&#1091;&#1082;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&#1079;&#1074;&#1091;&#1082;.wav"/><Relationship Id="rId2" Type="http://schemas.openxmlformats.org/officeDocument/2006/relationships/audio" Target="../media/&#1079;&#1074;&#1091;&#1082;.wav"/><Relationship Id="rId3" Type="http://schemas.openxmlformats.org/officeDocument/2006/relationships/audio" Target="../media/applause.wav"/><Relationship Id="rId4" Type="http://schemas.openxmlformats.org/officeDocument/2006/relationships/audio" Target="../media/&#1079;&#1074;&#1091;&#1082;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&#1079;&#1074;&#1091;&#1082;.wav"/><Relationship Id="rId2" Type="http://schemas.openxmlformats.org/officeDocument/2006/relationships/audio" Target="../media/&#1079;&#1074;&#1091;&#1082;.wav"/><Relationship Id="rId3" Type="http://schemas.openxmlformats.org/officeDocument/2006/relationships/audio" Target="../media/&#1079;&#1074;&#1091;&#1082;.wav"/><Relationship Id="rId4" Type="http://schemas.openxmlformats.org/officeDocument/2006/relationships/audio" Target="../media/applause.wav"/><Relationship Id="rId5" Type="http://schemas.openxmlformats.org/officeDocument/2006/relationships/audio" Target="../media/&#1079;&#1074;&#1091;&#1082;.wav"/><Relationship Id="rId6" Type="http://schemas.openxmlformats.org/officeDocument/2006/relationships/audio" Target="../media/&#1079;&#1074;&#1091;&#1082;.wav"/><Relationship Id="rId7" Type="http://schemas.openxmlformats.org/officeDocument/2006/relationships/audio" Target="../media/&#1079;&#1074;&#1091;&#1082;.wav"/><Relationship Id="rId8" Type="http://schemas.openxmlformats.org/officeDocument/2006/relationships/audio" Target="../media/&#1079;&#1074;&#1091;&#1082;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&#1079;&#1074;&#1091;&#1082;.wav"/><Relationship Id="rId2" Type="http://schemas.openxmlformats.org/officeDocument/2006/relationships/audio" Target="../media/&#1079;&#1074;&#1091;&#1082;.wav"/><Relationship Id="rId3" Type="http://schemas.openxmlformats.org/officeDocument/2006/relationships/audio" Target="../media/applause.wav"/><Relationship Id="rId4" Type="http://schemas.openxmlformats.org/officeDocument/2006/relationships/audio" Target="../media/&#1079;&#1074;&#1091;&#1082;.wav"/><Relationship Id="rId5" Type="http://schemas.openxmlformats.org/officeDocument/2006/relationships/audio" Target="../media/&#1079;&#1074;&#1091;&#1082;.wav"/><Relationship Id="rId6" Type="http://schemas.openxmlformats.org/officeDocument/2006/relationships/audio" Target="../media/applause.wav"/><Relationship Id="rId7" Type="http://schemas.openxmlformats.org/officeDocument/2006/relationships/audio" Target="../media/&#1079;&#1074;&#1091;&#1082;.wav"/><Relationship Id="rId8" Type="http://schemas.openxmlformats.org/officeDocument/2006/relationships/audio" Target="../media/&#1079;&#1074;&#1091;&#1082;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&#1079;&#1074;&#1091;&#1082;.wav"/><Relationship Id="rId2" Type="http://schemas.openxmlformats.org/officeDocument/2006/relationships/audio" Target="../media/applause.wav"/><Relationship Id="rId3" Type="http://schemas.openxmlformats.org/officeDocument/2006/relationships/audio" Target="../media/&#1079;&#1074;&#1091;&#1082;.wav"/><Relationship Id="rId4" Type="http://schemas.openxmlformats.org/officeDocument/2006/relationships/audio" Target="../media/&#1079;&#1074;&#1091;&#1082;.wav"/><Relationship Id="rId5" Type="http://schemas.openxmlformats.org/officeDocument/2006/relationships/audio" Target="../media/&#1079;&#1074;&#1091;&#1082;.wav"/><Relationship Id="rId6" Type="http://schemas.openxmlformats.org/officeDocument/2006/relationships/audio" Target="../media/&#1079;&#1074;&#1091;&#1082;.wav"/><Relationship Id="rId7" Type="http://schemas.openxmlformats.org/officeDocument/2006/relationships/audio" Target="../media/applause.wav"/><Relationship Id="rId8" Type="http://schemas.openxmlformats.org/officeDocument/2006/relationships/audio" Target="../media/&#1079;&#1074;&#1091;&#1082;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601040" cy="23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Тренажёр по русскому языку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мя существительное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5 класс</a:t>
            </a:r>
            <a:endParaRPr b="0" lang="en-US" sz="4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14200" y="3928680"/>
            <a:ext cx="5572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44d2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71480" y="274320"/>
            <a:ext cx="63579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дведём итог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42560" y="1428840"/>
            <a:ext cx="87152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ыполнено 12-13 заданий – 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ыполнено 10-11заданий – хорош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ыполнено 7-9 заданий – удовлетворитель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ыполнено менее 7 заданий – занимаемся повтор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2" descr="D:\шаблоны и фоны\Перенести на др флешку\Для презентац\АНИМ -БУКВЫ\arg-4-25-trans-y.gif"/>
          <p:cNvPicPr/>
          <p:nvPr/>
        </p:nvPicPr>
        <p:blipFill>
          <a:blip r:embed="rId1"/>
          <a:stretch/>
        </p:blipFill>
        <p:spPr>
          <a:xfrm>
            <a:off x="1571760" y="35712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D:\шаблоны и фоны\Перенести на др флешку\Для презентац\АНИМ -БУКВЫ\arg-5-25-trans-y.gif"/>
          <p:cNvPicPr/>
          <p:nvPr/>
        </p:nvPicPr>
        <p:blipFill>
          <a:blip r:embed="rId2"/>
          <a:stretch/>
        </p:blipFill>
        <p:spPr>
          <a:xfrm>
            <a:off x="428760" y="28584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D:\Перенести на др флешку\Для презентац\АНИМ -БУКВЫ\arg-exclaim-25-trans-y.gif"/>
          <p:cNvPicPr/>
          <p:nvPr/>
        </p:nvPicPr>
        <p:blipFill>
          <a:blip r:embed="rId3"/>
          <a:stretch/>
        </p:blipFill>
        <p:spPr>
          <a:xfrm>
            <a:off x="7956720" y="4869000"/>
            <a:ext cx="695160" cy="90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6"/>
          <p:cNvSpPr/>
          <p:nvPr/>
        </p:nvSpPr>
        <p:spPr>
          <a:xfrm>
            <a:off x="642960" y="49878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забываем работать над ошибка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225"/>
                            </p:stCondLst>
                            <p:childTnLst>
                              <p:par>
                                <p:cTn id="878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0.39965 -2.59259E-006 C 0.57951 -2.59259E-006 0.80087 -0.02361 0.80087 -0.04236 L 0.80087 -0.08403 E">
                                      <p:cBhvr>
                                        <p:cTn id="879" dur="1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Материалы</a:t>
            </a:r>
            <a:br>
              <a:rPr sz="2400"/>
            </a:br>
            <a:endParaRPr b="0" lang="en-US" sz="2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55" name="Прямоугольник 2"/>
          <p:cNvSpPr/>
          <p:nvPr/>
        </p:nvSpPr>
        <p:spPr>
          <a:xfrm>
            <a:off x="214200" y="3497400"/>
            <a:ext cx="864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2. 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Georgia"/>
                <a:ea typeface="Times New Roman"/>
                <a:hlinkClick r:id="rId1"/>
              </a:rPr>
              <a:t>http://parkov3.narod.ru/effekt.htm</a:t>
            </a: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  Звуковой файл </a:t>
            </a:r>
            <a:r>
              <a:rPr b="1" lang="ru-RU" sz="24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игнал в телевизионной игре (фраг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"/>
          <p:cNvSpPr/>
          <p:nvPr/>
        </p:nvSpPr>
        <p:spPr>
          <a:xfrm>
            <a:off x="357120" y="19288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1. Богданова Г.А. Тестовые задания по русскому языку 5 класс.- М.: Просвещение, 200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285840" y="52149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2"/>
              </a:rPr>
              <a:t>http://www.gifpark.ru</a:t>
            </a:r>
            <a:r>
              <a:rPr b="1" lang="ru-RU" sz="24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   Анимационные рису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нстру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400" y="1600200"/>
            <a:ext cx="82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f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Внимательно прочти зад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f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Подумай, выбери из четырёх вариантов предполагаемый ответ и нажми кнопку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f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Произойдёт следующее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04f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3"/>
          <p:cNvSpPr/>
          <p:nvPr/>
        </p:nvSpPr>
        <p:spPr>
          <a:xfrm>
            <a:off x="7286760" y="2643120"/>
            <a:ext cx="428400" cy="4287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4"/>
          <p:cNvSpPr/>
          <p:nvPr/>
        </p:nvSpPr>
        <p:spPr>
          <a:xfrm>
            <a:off x="5500800" y="378612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5"/>
          <p:cNvSpPr/>
          <p:nvPr/>
        </p:nvSpPr>
        <p:spPr>
          <a:xfrm>
            <a:off x="5429160" y="492912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1000080" y="376236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при правильном от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7"/>
          <p:cNvSpPr/>
          <p:nvPr/>
        </p:nvSpPr>
        <p:spPr>
          <a:xfrm>
            <a:off x="928800" y="484488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при неправильном ответе</a:t>
            </a:r>
            <a:r>
              <a:rPr b="0" lang="ru-RU" sz="32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Выгнутая влево стрелка 11"/>
          <p:cNvSpPr/>
          <p:nvPr/>
        </p:nvSpPr>
        <p:spPr>
          <a:xfrm rot="5740200">
            <a:off x="6114240" y="2486160"/>
            <a:ext cx="668520" cy="1928520"/>
          </a:xfrm>
          <a:custGeom>
            <a:avLst/>
            <a:gdLst>
              <a:gd name="textAreaLeft" fmla="*/ 89280 w 668520"/>
              <a:gd name="textAreaRight" fmla="*/ 579240 w 668520"/>
              <a:gd name="textAreaTop" fmla="*/ 412560 h 1928520"/>
              <a:gd name="textAreaBottom" fmla="*/ 1405440 h 192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5" stAng="-5400000" swAng="-5400000"/>
                <a:lnTo>
                  <a:pt x="0" y="11116"/>
                </a:lnTo>
                <a:arcTo wR="21600" hR="9245" stAng="10800000" swAng="-3533958"/>
                <a:lnTo>
                  <a:pt x="16200" y="21306"/>
                </a:lnTo>
                <a:lnTo>
                  <a:pt x="21600" y="19426"/>
                </a:lnTo>
                <a:lnTo>
                  <a:pt x="16200" y="16957"/>
                </a:lnTo>
                <a:lnTo>
                  <a:pt x="16200" y="18196"/>
                </a:lnTo>
                <a:arcTo wR="21600" hR="9245" stAng="7266042" swAng="3384394"/>
                <a:lnTo>
                  <a:pt x="111" y="10181"/>
                </a:lnTo>
                <a:arcTo wR="21600" hR="9245" stAng="-10650437" swAng="5250437"/>
                <a:close/>
              </a:path>
              <a:path fill="darkenLess" w="21600" h="21600">
                <a:moveTo>
                  <a:pt x="21600" y="0"/>
                </a:moveTo>
                <a:arcTo wR="21600" hR="9245" stAng="-5400000" swAng="-5400000"/>
                <a:lnTo>
                  <a:pt x="0" y="9245"/>
                </a:lnTo>
                <a:arcTo wR="21600" hR="9245" stAng="10800000" swAng="-149563"/>
                <a:lnTo>
                  <a:pt x="111" y="10181"/>
                </a:lnTo>
                <a:arcTo wR="21600" hR="9245" stAng="-10650437" swAng="5250437"/>
                <a:close/>
              </a:path>
            </a:pathLst>
          </a:custGeom>
          <a:solidFill>
            <a:srgbClr val="ffff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9"/>
          <p:cNvSpPr/>
          <p:nvPr/>
        </p:nvSpPr>
        <p:spPr>
          <a:xfrm>
            <a:off x="2357280" y="5572080"/>
            <a:ext cx="428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аю удач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0"/>
          <p:cNvSpPr/>
          <p:nvPr/>
        </p:nvSpPr>
        <p:spPr>
          <a:xfrm>
            <a:off x="6146280" y="37861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5932080" y="4834080"/>
            <a:ext cx="3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3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7" dur="10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8" dur="10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29" dur="10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1.Какое слово является существитель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2700360" y="928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ин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"/>
          <p:cNvSpPr/>
          <p:nvPr/>
        </p:nvSpPr>
        <p:spPr>
          <a:xfrm>
            <a:off x="2700360" y="14842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ине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2700360" y="1989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и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2700360" y="2574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подси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5572080" y="92880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7"/>
          <p:cNvSpPr/>
          <p:nvPr/>
        </p:nvSpPr>
        <p:spPr>
          <a:xfrm>
            <a:off x="5572080" y="150012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8"/>
          <p:cNvSpPr/>
          <p:nvPr/>
        </p:nvSpPr>
        <p:spPr>
          <a:xfrm>
            <a:off x="5572080" y="207180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9"/>
          <p:cNvSpPr/>
          <p:nvPr/>
        </p:nvSpPr>
        <p:spPr>
          <a:xfrm>
            <a:off x="5572080" y="264312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142920" y="35326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f21"/>
                </a:solidFill>
                <a:latin typeface="Times New Roman"/>
              </a:rPr>
              <a:t>2.Каким членом предложения является выделенное сл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1857240" y="414396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Л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кутал густой тума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2"/>
          <p:cNvSpPr/>
          <p:nvPr/>
        </p:nvSpPr>
        <p:spPr>
          <a:xfrm>
            <a:off x="357120" y="4929120"/>
            <a:ext cx="27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длежа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3"/>
          <p:cNvSpPr/>
          <p:nvPr/>
        </p:nvSpPr>
        <p:spPr>
          <a:xfrm>
            <a:off x="357120" y="5572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казуем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84720" y="5637960"/>
            <a:ext cx="28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допол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214880" y="490608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обстоя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16"/>
          <p:cNvSpPr/>
          <p:nvPr/>
        </p:nvSpPr>
        <p:spPr>
          <a:xfrm>
            <a:off x="3214800" y="500076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7"/>
          <p:cNvSpPr/>
          <p:nvPr/>
        </p:nvSpPr>
        <p:spPr>
          <a:xfrm>
            <a:off x="3214800" y="564372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18"/>
          <p:cNvSpPr/>
          <p:nvPr/>
        </p:nvSpPr>
        <p:spPr>
          <a:xfrm>
            <a:off x="7715160" y="500076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19"/>
          <p:cNvSpPr/>
          <p:nvPr/>
        </p:nvSpPr>
        <p:spPr>
          <a:xfrm>
            <a:off x="7715160" y="564372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1"/>
          <p:cNvSpPr/>
          <p:nvPr/>
        </p:nvSpPr>
        <p:spPr>
          <a:xfrm>
            <a:off x="1857240" y="4572000"/>
            <a:ext cx="14292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24"/>
          <p:cNvSpPr/>
          <p:nvPr/>
        </p:nvSpPr>
        <p:spPr>
          <a:xfrm>
            <a:off x="2071800" y="4570560"/>
            <a:ext cx="14292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26"/>
          <p:cNvSpPr/>
          <p:nvPr/>
        </p:nvSpPr>
        <p:spPr>
          <a:xfrm>
            <a:off x="2286000" y="4570560"/>
            <a:ext cx="14292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29"/>
          <p:cNvSpPr/>
          <p:nvPr/>
        </p:nvSpPr>
        <p:spPr>
          <a:xfrm>
            <a:off x="4572000" y="4500720"/>
            <a:ext cx="928800" cy="1440"/>
          </a:xfrm>
          <a:prstGeom prst="line">
            <a:avLst/>
          </a:prstGeom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31"/>
          <p:cNvSpPr/>
          <p:nvPr/>
        </p:nvSpPr>
        <p:spPr>
          <a:xfrm>
            <a:off x="2500200" y="4500720"/>
            <a:ext cx="85752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33"/>
          <p:cNvSpPr/>
          <p:nvPr/>
        </p:nvSpPr>
        <p:spPr>
          <a:xfrm>
            <a:off x="2500200" y="4643280"/>
            <a:ext cx="857520" cy="1800"/>
          </a:xfrm>
          <a:prstGeom prst="line">
            <a:avLst/>
          </a:prstGeom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Выгнутая вниз стрелка 35"/>
          <p:cNvSpPr/>
          <p:nvPr/>
        </p:nvSpPr>
        <p:spPr>
          <a:xfrm rot="10800000">
            <a:off x="2153880" y="4071960"/>
            <a:ext cx="1001880" cy="334800"/>
          </a:xfrm>
          <a:custGeom>
            <a:avLst/>
            <a:gdLst>
              <a:gd name="textAreaLeft" fmla="*/ 232200 w 1001880"/>
              <a:gd name="textAreaRight" fmla="*/ 696600 w 1001880"/>
              <a:gd name="textAreaTop" fmla="*/ 44640 h 334800"/>
              <a:gd name="textAreaBottom" fmla="*/ 290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12" hR="21600" stAng="10800000" swAng="-5400000"/>
                <a:lnTo>
                  <a:pt x="10012" y="21600"/>
                </a:lnTo>
                <a:arcTo wR="10012" hR="21600" stAng="5400000" swAng="-3863057"/>
                <a:lnTo>
                  <a:pt x="21362" y="4686"/>
                </a:lnTo>
                <a:lnTo>
                  <a:pt x="20024" y="0"/>
                </a:lnTo>
                <a:lnTo>
                  <a:pt x="18210" y="4686"/>
                </a:lnTo>
                <a:lnTo>
                  <a:pt x="19786" y="4686"/>
                </a:lnTo>
                <a:arcTo wR="10012" hR="21600" stAng="1536943" swAng="3863057"/>
                <a:lnTo>
                  <a:pt x="10012" y="21600"/>
                </a:lnTo>
                <a:arcTo wR="10012" hR="21600" stAng="5400000" swAng="5400000"/>
                <a:close/>
              </a:path>
              <a:path fill="darkenLess" w="21600" h="21600">
                <a:moveTo>
                  <a:pt x="0" y="0"/>
                </a:moveTo>
                <a:arcTo wR="10012" hR="21600" stAng="10800000" swAng="-5400000"/>
                <a:lnTo>
                  <a:pt x="10012" y="21600"/>
                </a:lnTo>
                <a:arcTo wR="10012" hR="21600" stAng="5400000" swAng="0"/>
                <a:lnTo>
                  <a:pt x="10012" y="21600"/>
                </a:lnTo>
                <a:arcTo wR="10012" hR="21600" stAng="5400000" swAng="5400000"/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714680" y="40010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?(кого?) В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429080" y="400104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? (кто?) И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animClr clrSpc="rgb">
                                      <p:cBhvr>
                                        <p:cTn id="40" dur="1000" autoRev="1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set>
                                      <p:cBhvr>
                                        <p:cTn id="41" dur="1000" autoRev="1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set>
                                      <p:cBhvr>
                                        <p:cTn id="52" dur="10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5,-87,70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5,-87,70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autoRev="1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set>
                                      <p:cBhvr>
                                        <p:cTn id="74" dur="1000" autoRev="1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animClr clrSpc="rgb">
                                      <p:cBhvr>
                                        <p:cTn id="84" dur="10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set>
                                      <p:cBhvr>
                                        <p:cTn id="85" dur="10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95" dur="100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6" dur="100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50,-22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animClr clrSpc="rgb">
                                      <p:cBhvr>
                                        <p:cTn id="106" dur="10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3224"/>
                                      </p:to>
                                    </p:animClr>
                                    <p:set>
                                      <p:cBhvr>
                                        <p:cTn id="107" dur="10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14" dur="50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1000" autoRev="1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47" dur="1000" autoRev="1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48" dur="1000" autoRev="1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3. Укажите неправильную форму множественного числа родительного падеж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357120" y="12142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ара мандар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374400" y="1833480"/>
            <a:ext cx="43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илограмм апельс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357120" y="240660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ного помид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357120" y="300204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т сап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7"/>
          <p:cNvSpPr/>
          <p:nvPr/>
        </p:nvSpPr>
        <p:spPr>
          <a:xfrm>
            <a:off x="-190440" y="511956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ного полоте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-203040" y="5762520"/>
            <a:ext cx="32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нет том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4429080" y="514368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есколько солд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4164840" y="5715000"/>
            <a:ext cx="32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ара но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11"/>
          <p:cNvSpPr/>
          <p:nvPr/>
        </p:nvSpPr>
        <p:spPr>
          <a:xfrm>
            <a:off x="4714920" y="128592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2"/>
          <p:cNvSpPr/>
          <p:nvPr/>
        </p:nvSpPr>
        <p:spPr>
          <a:xfrm>
            <a:off x="4714920" y="192888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3"/>
          <p:cNvSpPr/>
          <p:nvPr/>
        </p:nvSpPr>
        <p:spPr>
          <a:xfrm>
            <a:off x="4714920" y="257184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4"/>
          <p:cNvSpPr/>
          <p:nvPr/>
        </p:nvSpPr>
        <p:spPr>
          <a:xfrm>
            <a:off x="4714920" y="318600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5"/>
          <p:cNvSpPr/>
          <p:nvPr/>
        </p:nvSpPr>
        <p:spPr>
          <a:xfrm>
            <a:off x="3471840" y="525780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6"/>
          <p:cNvSpPr/>
          <p:nvPr/>
        </p:nvSpPr>
        <p:spPr>
          <a:xfrm>
            <a:off x="3471840" y="597204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7"/>
          <p:cNvSpPr/>
          <p:nvPr/>
        </p:nvSpPr>
        <p:spPr>
          <a:xfrm>
            <a:off x="8501040" y="528624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8"/>
          <p:cNvSpPr/>
          <p:nvPr/>
        </p:nvSpPr>
        <p:spPr>
          <a:xfrm>
            <a:off x="8501040" y="592920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9"/>
          <p:cNvSpPr/>
          <p:nvPr/>
        </p:nvSpPr>
        <p:spPr>
          <a:xfrm>
            <a:off x="1428840" y="3000240"/>
            <a:ext cx="1285920" cy="50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ап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0"/>
          <p:cNvSpPr/>
          <p:nvPr/>
        </p:nvSpPr>
        <p:spPr>
          <a:xfrm>
            <a:off x="6643800" y="5143680"/>
            <a:ext cx="1500120" cy="50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лд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1"/>
          <p:cNvSpPr/>
          <p:nvPr/>
        </p:nvSpPr>
        <p:spPr>
          <a:xfrm>
            <a:off x="214200" y="378612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4. Укажите неправильную форму множественного числа родительного паде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156" dur="500" autoRev="1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00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59" dur="100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0" dur="100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181" dur="10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182" dur="10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500" autoRev="1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5,-87,70)"/>
                                      </p:to>
                                    </p:set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5,-87,70)"/>
                                      </p:to>
                                    </p:set>
                                    <p:set>
                                      <p:cBhvr>
                                        <p:cTn id="189" dur="500" autoRev="1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0" autoRev="1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a923"/>
                                      </p:to>
                                    </p:animClr>
                                    <p:animClr clrSpc="rgb">
                                      <p:cBhvr>
                                        <p:cTn id="198" dur="1000" autoRev="1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a923"/>
                                      </p:to>
                                    </p:animClr>
                                    <p:set>
                                      <p:cBhvr>
                                        <p:cTn id="199" dur="1000" autoRev="1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05" dur="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06" dur="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16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17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0" autoRev="1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220" dur="1000" autoRev="1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221" dur="1000" autoRev="1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5,-87,70)"/>
                                      </p:to>
                                    </p:se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5,-87,70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0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37" dur="10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38" dur="10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44" dur="500" autoRev="1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245" dur="500" autoRev="1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00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248" dur="100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249" dur="100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5. В каком слове допущена орфографическая  ошиб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332000" y="9079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аль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1258920" y="1341000"/>
            <a:ext cx="2521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2) кирпич 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5143680" y="150156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д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5143680" y="858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луч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786120" y="378612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ет лу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3786120" y="433404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грамот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3786120" y="497664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зкий пля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3786120" y="557208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яжёлых ту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2"/>
          <p:cNvSpPr/>
          <p:nvPr/>
        </p:nvSpPr>
        <p:spPr>
          <a:xfrm>
            <a:off x="4071960" y="928800"/>
            <a:ext cx="428760" cy="428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7"/>
          <p:cNvSpPr/>
          <p:nvPr/>
        </p:nvSpPr>
        <p:spPr>
          <a:xfrm>
            <a:off x="4071960" y="1500120"/>
            <a:ext cx="428760" cy="4287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20"/>
          <p:cNvSpPr/>
          <p:nvPr/>
        </p:nvSpPr>
        <p:spPr>
          <a:xfrm>
            <a:off x="7286760" y="928800"/>
            <a:ext cx="428400" cy="428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21"/>
          <p:cNvSpPr/>
          <p:nvPr/>
        </p:nvSpPr>
        <p:spPr>
          <a:xfrm>
            <a:off x="7286760" y="1500120"/>
            <a:ext cx="428400" cy="4287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5"/>
          <p:cNvSpPr/>
          <p:nvPr/>
        </p:nvSpPr>
        <p:spPr>
          <a:xfrm>
            <a:off x="5715000" y="5572080"/>
            <a:ext cx="1071720" cy="50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26"/>
          <p:cNvSpPr/>
          <p:nvPr/>
        </p:nvSpPr>
        <p:spPr>
          <a:xfrm>
            <a:off x="7286760" y="3857760"/>
            <a:ext cx="428400" cy="428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7"/>
          <p:cNvSpPr/>
          <p:nvPr/>
        </p:nvSpPr>
        <p:spPr>
          <a:xfrm>
            <a:off x="7286760" y="4500720"/>
            <a:ext cx="428400" cy="428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28"/>
          <p:cNvSpPr/>
          <p:nvPr/>
        </p:nvSpPr>
        <p:spPr>
          <a:xfrm>
            <a:off x="7286760" y="5072040"/>
            <a:ext cx="428400" cy="4287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9"/>
          <p:cNvSpPr/>
          <p:nvPr/>
        </p:nvSpPr>
        <p:spPr>
          <a:xfrm>
            <a:off x="7286760" y="5715000"/>
            <a:ext cx="428400" cy="4287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24"/>
          <p:cNvGrpSpPr/>
          <p:nvPr/>
        </p:nvGrpSpPr>
        <p:grpSpPr>
          <a:xfrm>
            <a:off x="6786720" y="5643720"/>
            <a:ext cx="428400" cy="428400"/>
            <a:chOff x="6786720" y="5643720"/>
            <a:chExt cx="428400" cy="428400"/>
          </a:xfrm>
        </p:grpSpPr>
        <p:sp>
          <p:nvSpPr>
            <p:cNvPr id="335" name="Прямоугольник 22"/>
            <p:cNvSpPr/>
            <p:nvPr/>
          </p:nvSpPr>
          <p:spPr>
            <a:xfrm>
              <a:off x="6786720" y="5643720"/>
              <a:ext cx="428400" cy="428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ая соединительная линия 31"/>
            <p:cNvSpPr/>
            <p:nvPr/>
          </p:nvSpPr>
          <p:spPr>
            <a:xfrm flipH="1">
              <a:off x="6786720" y="5643720"/>
              <a:ext cx="428400" cy="4284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Прямоугольник 23"/>
          <p:cNvSpPr/>
          <p:nvPr/>
        </p:nvSpPr>
        <p:spPr>
          <a:xfrm>
            <a:off x="357120" y="29289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6. В каком слове допущена орфографическая  ошиб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9"/>
          <p:cNvSpPr/>
          <p:nvPr/>
        </p:nvSpPr>
        <p:spPr>
          <a:xfrm>
            <a:off x="2916360" y="15415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8"/>
          <p:cNvSpPr/>
          <p:nvPr/>
        </p:nvSpPr>
        <p:spPr>
          <a:xfrm>
            <a:off x="1258920" y="1557360"/>
            <a:ext cx="2286000" cy="57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ирпич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000" autoRev="1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6" dur="1000" autoRev="1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7" dur="1000" autoRev="1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100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0" dur="100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1" dur="100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73" dur="10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74" dur="10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00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0" dur="100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1" dur="100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4" dur="10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5" dur="10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0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91" dur="10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7%D0%B2%D1%83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4" dur="100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5" dur="100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6" dur="100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2" dur="1000" autoRev="1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3" dur="1000" autoRev="1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06" dur="100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7" dur="100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0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13" dur="10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14" dur="10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1000" autoRev="1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7" dur="1000" autoRev="1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8" dur="1000" autoRev="1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250" autoRev="1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4" dur="250" autoRev="1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5" dur="250" autoRev="1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7%D0%B2%D1%83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7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28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9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50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7,-81,88)"/>
                                      </p:to>
                                    </p:set>
                                    <p:set>
                                      <p:cBhvr>
                                        <p:cTn id="340" dur="50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7,-81,88)"/>
                                      </p:to>
                                    </p:set>
                                    <p:set>
                                      <p:cBhvr>
                                        <p:cTn id="341" dur="50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49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50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32968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7</a:t>
            </a:r>
            <a:r>
              <a:rPr b="1" lang="ru-RU" sz="40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404f21"/>
                </a:solidFill>
                <a:latin typeface="Times New Roman"/>
                <a:ea typeface="Times New Roman"/>
              </a:rPr>
              <a:t>В каком ряду во всех словах на месте пропуска пишется буква е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142920" y="14299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етка   сирен..,   быть   на   лекци..,   спросить о здоровь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142920" y="23252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доль   дорог..,    читать   в   брошюр..,    быть в здани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142920" y="3181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дти по тропинк ..,  мечтать о вершин..,    стоял в раздум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179280" y="400536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шли по алле..,   жили в селени..,    обратился к Мар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2268360" y="1484280"/>
            <a:ext cx="35892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4859280" y="1484280"/>
            <a:ext cx="36036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7786800" y="1500120"/>
            <a:ext cx="385560" cy="3445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9"/>
          <p:cNvSpPr/>
          <p:nvPr/>
        </p:nvSpPr>
        <p:spPr>
          <a:xfrm>
            <a:off x="8472600" y="150012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2268360" y="2349360"/>
            <a:ext cx="360720" cy="3589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7572240" y="2355840"/>
            <a:ext cx="384480" cy="3524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2"/>
          <p:cNvSpPr/>
          <p:nvPr/>
        </p:nvSpPr>
        <p:spPr>
          <a:xfrm>
            <a:off x="5364000" y="2349360"/>
            <a:ext cx="360360" cy="3589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13"/>
          <p:cNvSpPr/>
          <p:nvPr/>
        </p:nvSpPr>
        <p:spPr>
          <a:xfrm>
            <a:off x="8472600" y="242892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4"/>
          <p:cNvSpPr/>
          <p:nvPr/>
        </p:nvSpPr>
        <p:spPr>
          <a:xfrm>
            <a:off x="2786040" y="3286080"/>
            <a:ext cx="345960" cy="28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5"/>
          <p:cNvSpPr/>
          <p:nvPr/>
        </p:nvSpPr>
        <p:spPr>
          <a:xfrm>
            <a:off x="5500800" y="3286080"/>
            <a:ext cx="366480" cy="285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6"/>
          <p:cNvSpPr/>
          <p:nvPr/>
        </p:nvSpPr>
        <p:spPr>
          <a:xfrm>
            <a:off x="8101080" y="3284640"/>
            <a:ext cx="315720" cy="28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7"/>
          <p:cNvSpPr/>
          <p:nvPr/>
        </p:nvSpPr>
        <p:spPr>
          <a:xfrm>
            <a:off x="8501040" y="328608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8"/>
          <p:cNvSpPr/>
          <p:nvPr/>
        </p:nvSpPr>
        <p:spPr>
          <a:xfrm>
            <a:off x="7451640" y="4076640"/>
            <a:ext cx="38124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9"/>
          <p:cNvSpPr/>
          <p:nvPr/>
        </p:nvSpPr>
        <p:spPr>
          <a:xfrm>
            <a:off x="4573440" y="4076640"/>
            <a:ext cx="358920" cy="3650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0"/>
          <p:cNvSpPr/>
          <p:nvPr/>
        </p:nvSpPr>
        <p:spPr>
          <a:xfrm>
            <a:off x="2214720" y="4076640"/>
            <a:ext cx="34128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1"/>
          <p:cNvSpPr/>
          <p:nvPr/>
        </p:nvSpPr>
        <p:spPr>
          <a:xfrm>
            <a:off x="8501040" y="414324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50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357" dur="50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358" dur="50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0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376" dur="10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377" dur="10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50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383" dur="50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384" dur="50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1000" autoRev="1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402" dur="1000" autoRev="1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403" dur="1000" autoRev="1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5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09" dur="5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10" dur="5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1000" autoRev="1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428" dur="1000" autoRev="1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29" dur="1000" autoRev="1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5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435" dur="5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436" dur="5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00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454" dur="100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455" dur="100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501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8. В окончании какого существительного в именительном падеже множественного числа пишется буква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2786040" y="11437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офиц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000240" y="171612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нже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000240" y="22874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00240" y="28591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о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3000240" y="542916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ре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8"/>
          <p:cNvSpPr/>
          <p:nvPr/>
        </p:nvSpPr>
        <p:spPr>
          <a:xfrm>
            <a:off x="3000240" y="600084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фес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9"/>
          <p:cNvSpPr/>
          <p:nvPr/>
        </p:nvSpPr>
        <p:spPr>
          <a:xfrm>
            <a:off x="2928960" y="4786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еся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0"/>
          <p:cNvSpPr/>
          <p:nvPr/>
        </p:nvSpPr>
        <p:spPr>
          <a:xfrm>
            <a:off x="3071880" y="42148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17"/>
          <p:cNvSpPr/>
          <p:nvPr/>
        </p:nvSpPr>
        <p:spPr>
          <a:xfrm>
            <a:off x="5715000" y="121428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18"/>
          <p:cNvSpPr/>
          <p:nvPr/>
        </p:nvSpPr>
        <p:spPr>
          <a:xfrm>
            <a:off x="5715000" y="178596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19"/>
          <p:cNvSpPr/>
          <p:nvPr/>
        </p:nvSpPr>
        <p:spPr>
          <a:xfrm>
            <a:off x="5715000" y="232884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20"/>
          <p:cNvSpPr/>
          <p:nvPr/>
        </p:nvSpPr>
        <p:spPr>
          <a:xfrm>
            <a:off x="5715000" y="292896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21"/>
          <p:cNvSpPr/>
          <p:nvPr/>
        </p:nvSpPr>
        <p:spPr>
          <a:xfrm>
            <a:off x="5757840" y="428616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22"/>
          <p:cNvSpPr/>
          <p:nvPr/>
        </p:nvSpPr>
        <p:spPr>
          <a:xfrm>
            <a:off x="5786280" y="485784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23"/>
          <p:cNvSpPr/>
          <p:nvPr/>
        </p:nvSpPr>
        <p:spPr>
          <a:xfrm>
            <a:off x="5786280" y="542916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24"/>
          <p:cNvSpPr/>
          <p:nvPr/>
        </p:nvSpPr>
        <p:spPr>
          <a:xfrm>
            <a:off x="5786280" y="600084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285840" y="3500280"/>
            <a:ext cx="8501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9. В окончании какого существительного в именительном падеже множественного числа пишется буква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?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33"/>
          <p:cNvSpPr/>
          <p:nvPr/>
        </p:nvSpPr>
        <p:spPr>
          <a:xfrm>
            <a:off x="4648320" y="1143000"/>
            <a:ext cx="500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34"/>
          <p:cNvSpPr/>
          <p:nvPr/>
        </p:nvSpPr>
        <p:spPr>
          <a:xfrm>
            <a:off x="4859280" y="1704960"/>
            <a:ext cx="500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5"/>
          <p:cNvSpPr/>
          <p:nvPr/>
        </p:nvSpPr>
        <p:spPr>
          <a:xfrm>
            <a:off x="4792680" y="2286000"/>
            <a:ext cx="500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36"/>
          <p:cNvSpPr/>
          <p:nvPr/>
        </p:nvSpPr>
        <p:spPr>
          <a:xfrm>
            <a:off x="4648320" y="2857680"/>
            <a:ext cx="500040" cy="428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7"/>
          <p:cNvSpPr/>
          <p:nvPr/>
        </p:nvSpPr>
        <p:spPr>
          <a:xfrm>
            <a:off x="4359240" y="4214880"/>
            <a:ext cx="500040" cy="428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8"/>
          <p:cNvSpPr/>
          <p:nvPr/>
        </p:nvSpPr>
        <p:spPr>
          <a:xfrm>
            <a:off x="4572000" y="4786200"/>
            <a:ext cx="500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39"/>
          <p:cNvSpPr/>
          <p:nvPr/>
        </p:nvSpPr>
        <p:spPr>
          <a:xfrm>
            <a:off x="4714920" y="5445000"/>
            <a:ext cx="500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0"/>
          <p:cNvSpPr/>
          <p:nvPr/>
        </p:nvSpPr>
        <p:spPr>
          <a:xfrm>
            <a:off x="5214960" y="6072120"/>
            <a:ext cx="500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42"/>
          <p:cNvSpPr/>
          <p:nvPr/>
        </p:nvSpPr>
        <p:spPr>
          <a:xfrm flipH="1">
            <a:off x="3785760" y="4214880"/>
            <a:ext cx="716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44"/>
          <p:cNvSpPr/>
          <p:nvPr/>
        </p:nvSpPr>
        <p:spPr>
          <a:xfrm flipH="1">
            <a:off x="3928680" y="4786200"/>
            <a:ext cx="716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50"/>
          <p:cNvSpPr/>
          <p:nvPr/>
        </p:nvSpPr>
        <p:spPr>
          <a:xfrm flipH="1">
            <a:off x="4071960" y="5429160"/>
            <a:ext cx="712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53"/>
          <p:cNvSpPr/>
          <p:nvPr/>
        </p:nvSpPr>
        <p:spPr>
          <a:xfrm flipH="1">
            <a:off x="5500800" y="6000840"/>
            <a:ext cx="71280" cy="1429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55"/>
          <p:cNvSpPr/>
          <p:nvPr/>
        </p:nvSpPr>
        <p:spPr>
          <a:xfrm flipH="1">
            <a:off x="4500720" y="1143000"/>
            <a:ext cx="712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57"/>
          <p:cNvSpPr/>
          <p:nvPr/>
        </p:nvSpPr>
        <p:spPr>
          <a:xfrm flipH="1">
            <a:off x="4572000" y="1785960"/>
            <a:ext cx="712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59"/>
          <p:cNvSpPr/>
          <p:nvPr/>
        </p:nvSpPr>
        <p:spPr>
          <a:xfrm flipH="1">
            <a:off x="4500720" y="2286000"/>
            <a:ext cx="712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61"/>
          <p:cNvSpPr/>
          <p:nvPr/>
        </p:nvSpPr>
        <p:spPr>
          <a:xfrm flipH="1">
            <a:off x="4928760" y="2857680"/>
            <a:ext cx="71640" cy="142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50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462" dur="50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463" dur="50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0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474" dur="10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475" dur="10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481" dur="50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482" dur="50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493" dur="100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494" dur="100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500" autoRev="1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00" dur="500" autoRev="1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01" dur="500" autoRev="1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10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512" dur="10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513" dur="10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500" autoRev="1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519" dur="500" autoRev="1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520" dur="500" autoRev="1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100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531" dur="100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532" dur="100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50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38" dur="50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39" dur="50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B7%D0%B2%D1%83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9" dur="1000" autoRev="1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550" dur="1000" autoRev="1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551" dur="1000" autoRev="1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500" autoRev="1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57" dur="500" autoRev="1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58" dur="500" autoRev="1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0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569" dur="10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570" dur="10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50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76" dur="50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577" dur="50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50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595" dur="50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596" dur="50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autoRev="1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607" dur="1000" autoRev="1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608" dur="1000" autoRev="1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864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1. В каком случае допущена ошибка в употреблении предлога с именем существитель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714240" y="1214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642960" y="19288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яко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4"/>
          <p:cNvSpPr/>
          <p:nvPr/>
        </p:nvSpPr>
        <p:spPr>
          <a:xfrm>
            <a:off x="3114720" y="135720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5"/>
          <p:cNvSpPr/>
          <p:nvPr/>
        </p:nvSpPr>
        <p:spPr>
          <a:xfrm>
            <a:off x="3114720" y="200016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"/>
          <p:cNvSpPr/>
          <p:nvPr/>
        </p:nvSpPr>
        <p:spPr>
          <a:xfrm>
            <a:off x="5143680" y="1214280"/>
            <a:ext cx="20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чер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5072040" y="18572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8"/>
          <p:cNvSpPr/>
          <p:nvPr/>
        </p:nvSpPr>
        <p:spPr>
          <a:xfrm>
            <a:off x="7615080" y="128592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9"/>
          <p:cNvSpPr/>
          <p:nvPr/>
        </p:nvSpPr>
        <p:spPr>
          <a:xfrm>
            <a:off x="7643880" y="192888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0"/>
          <p:cNvSpPr/>
          <p:nvPr/>
        </p:nvSpPr>
        <p:spPr>
          <a:xfrm>
            <a:off x="214200" y="214200"/>
            <a:ext cx="8572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0. В окончании какого существительного в именительном падеже множественного числа пишется буква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1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2"/>
          <p:cNvSpPr/>
          <p:nvPr/>
        </p:nvSpPr>
        <p:spPr>
          <a:xfrm>
            <a:off x="2000160" y="1928880"/>
            <a:ext cx="500040" cy="428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3"/>
          <p:cNvSpPr/>
          <p:nvPr/>
        </p:nvSpPr>
        <p:spPr>
          <a:xfrm>
            <a:off x="6804000" y="1268280"/>
            <a:ext cx="432000" cy="432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4"/>
          <p:cNvSpPr/>
          <p:nvPr/>
        </p:nvSpPr>
        <p:spPr>
          <a:xfrm>
            <a:off x="6664320" y="1857240"/>
            <a:ext cx="500040" cy="428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5"/>
          <p:cNvSpPr/>
          <p:nvPr/>
        </p:nvSpPr>
        <p:spPr>
          <a:xfrm>
            <a:off x="4067280" y="525312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ивезли из Узбекист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6"/>
          <p:cNvSpPr/>
          <p:nvPr/>
        </p:nvSpPr>
        <p:spPr>
          <a:xfrm>
            <a:off x="268200" y="5273640"/>
            <a:ext cx="32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шёл до баб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7"/>
          <p:cNvSpPr/>
          <p:nvPr/>
        </p:nvSpPr>
        <p:spPr>
          <a:xfrm>
            <a:off x="4143240" y="4572000"/>
            <a:ext cx="40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нулись из отпу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8"/>
          <p:cNvSpPr/>
          <p:nvPr/>
        </p:nvSpPr>
        <p:spPr>
          <a:xfrm>
            <a:off x="286560" y="45720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иехал с У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19"/>
          <p:cNvSpPr/>
          <p:nvPr/>
        </p:nvSpPr>
        <p:spPr>
          <a:xfrm>
            <a:off x="3471840" y="457200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20"/>
          <p:cNvSpPr/>
          <p:nvPr/>
        </p:nvSpPr>
        <p:spPr>
          <a:xfrm>
            <a:off x="3500280" y="5357880"/>
            <a:ext cx="38592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21"/>
          <p:cNvSpPr/>
          <p:nvPr/>
        </p:nvSpPr>
        <p:spPr>
          <a:xfrm>
            <a:off x="1619280" y="5229360"/>
            <a:ext cx="1785960" cy="50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 баб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22"/>
          <p:cNvSpPr/>
          <p:nvPr/>
        </p:nvSpPr>
        <p:spPr>
          <a:xfrm>
            <a:off x="8290080" y="454356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23"/>
          <p:cNvSpPr/>
          <p:nvPr/>
        </p:nvSpPr>
        <p:spPr>
          <a:xfrm>
            <a:off x="8362800" y="5286240"/>
            <a:ext cx="38592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25"/>
          <p:cNvSpPr/>
          <p:nvPr/>
        </p:nvSpPr>
        <p:spPr>
          <a:xfrm flipH="1">
            <a:off x="2556000" y="119700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4"/>
          <p:cNvSpPr/>
          <p:nvPr/>
        </p:nvSpPr>
        <p:spPr>
          <a:xfrm flipH="1">
            <a:off x="2268000" y="1916280"/>
            <a:ext cx="71640" cy="14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36"/>
          <p:cNvSpPr/>
          <p:nvPr/>
        </p:nvSpPr>
        <p:spPr>
          <a:xfrm flipH="1">
            <a:off x="6928920" y="1857240"/>
            <a:ext cx="716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38"/>
          <p:cNvSpPr/>
          <p:nvPr/>
        </p:nvSpPr>
        <p:spPr>
          <a:xfrm flipH="1">
            <a:off x="5857920" y="1285920"/>
            <a:ext cx="712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500" autoRev="1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615" dur="500" autoRev="1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616" dur="500" autoRev="1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629" dur="10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630" dur="10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636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637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10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650" dur="10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651" dur="10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500" autoRev="1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657" dur="500" autoRev="1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658" dur="500" autoRev="1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0" autoRev="1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671" dur="1000" autoRev="1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672" dur="1000" autoRev="1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50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678" dur="50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679" dur="50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1000" autoRev="1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692" dur="1000" autoRev="1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693" dur="1000" autoRev="1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50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699" dur="50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0" dur="50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03" dur="100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4" dur="100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-80,89)"/>
                                      </p:to>
                                    </p:set>
                                    <p:set>
                                      <p:cBhvr>
                                        <p:cTn id="710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-80,89)"/>
                                      </p:to>
                                    </p:set>
                                    <p:set>
                                      <p:cBhvr>
                                        <p:cTn id="711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0" autoRev="1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9b036"/>
                                      </p:to>
                                    </p:animClr>
                                    <p:animClr clrSpc="rgb">
                                      <p:cBhvr>
                                        <p:cTn id="719" dur="1000" autoRev="1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9b036"/>
                                      </p:to>
                                    </p:animClr>
                                    <p:set>
                                      <p:cBhvr>
                                        <p:cTn id="720" dur="1000" autoRev="1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500" autoRev="1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26" dur="500" autoRev="1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27" dur="500" autoRev="1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30" dur="100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31" dur="100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500" autoRev="1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37" dur="500" autoRev="1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38" dur="500" autoRev="1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100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41" dur="100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42" dur="100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2. В каком слове ударение падает </a:t>
            </a:r>
            <a:r>
              <a:rPr b="1" i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 первый 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лог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3"/>
          <p:cNvSpPr/>
          <p:nvPr/>
        </p:nvSpPr>
        <p:spPr>
          <a:xfrm>
            <a:off x="2500200" y="7858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2500200" y="1333440"/>
            <a:ext cx="19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2500200" y="19051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ля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6"/>
          <p:cNvSpPr/>
          <p:nvPr/>
        </p:nvSpPr>
        <p:spPr>
          <a:xfrm>
            <a:off x="2500200" y="247644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во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428920" y="56206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в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9"/>
          <p:cNvSpPr/>
          <p:nvPr/>
        </p:nvSpPr>
        <p:spPr>
          <a:xfrm>
            <a:off x="2357280" y="3905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ло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0"/>
          <p:cNvSpPr/>
          <p:nvPr/>
        </p:nvSpPr>
        <p:spPr>
          <a:xfrm>
            <a:off x="2428920" y="44766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фа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1"/>
          <p:cNvSpPr/>
          <p:nvPr/>
        </p:nvSpPr>
        <p:spPr>
          <a:xfrm>
            <a:off x="2428920" y="5048280"/>
            <a:ext cx="22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зя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3"/>
          <p:cNvSpPr/>
          <p:nvPr/>
        </p:nvSpPr>
        <p:spPr>
          <a:xfrm>
            <a:off x="142920" y="3357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3. В каком слове ударение падает </a:t>
            </a:r>
            <a:r>
              <a:rPr b="1" i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 второй 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ло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12"/>
          <p:cNvSpPr/>
          <p:nvPr/>
        </p:nvSpPr>
        <p:spPr>
          <a:xfrm>
            <a:off x="4857840" y="85716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14"/>
          <p:cNvSpPr/>
          <p:nvPr/>
        </p:nvSpPr>
        <p:spPr>
          <a:xfrm>
            <a:off x="4857840" y="142884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15"/>
          <p:cNvSpPr/>
          <p:nvPr/>
        </p:nvSpPr>
        <p:spPr>
          <a:xfrm>
            <a:off x="4857840" y="200016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6"/>
          <p:cNvSpPr/>
          <p:nvPr/>
        </p:nvSpPr>
        <p:spPr>
          <a:xfrm>
            <a:off x="4857840" y="257184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17"/>
          <p:cNvSpPr/>
          <p:nvPr/>
        </p:nvSpPr>
        <p:spPr>
          <a:xfrm>
            <a:off x="4857840" y="400068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18"/>
          <p:cNvSpPr/>
          <p:nvPr/>
        </p:nvSpPr>
        <p:spPr>
          <a:xfrm>
            <a:off x="4857840" y="457200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19"/>
          <p:cNvSpPr/>
          <p:nvPr/>
        </p:nvSpPr>
        <p:spPr>
          <a:xfrm>
            <a:off x="4857840" y="5143680"/>
            <a:ext cx="385560" cy="385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20"/>
          <p:cNvSpPr/>
          <p:nvPr/>
        </p:nvSpPr>
        <p:spPr>
          <a:xfrm>
            <a:off x="4857840" y="5715000"/>
            <a:ext cx="385560" cy="385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25"/>
          <p:cNvSpPr/>
          <p:nvPr/>
        </p:nvSpPr>
        <p:spPr>
          <a:xfrm flipH="1">
            <a:off x="3927240" y="785880"/>
            <a:ext cx="7308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28"/>
          <p:cNvSpPr/>
          <p:nvPr/>
        </p:nvSpPr>
        <p:spPr>
          <a:xfrm flipH="1">
            <a:off x="3276720" y="1341360"/>
            <a:ext cx="71280" cy="144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30"/>
          <p:cNvSpPr/>
          <p:nvPr/>
        </p:nvSpPr>
        <p:spPr>
          <a:xfrm flipH="1">
            <a:off x="3851280" y="1916280"/>
            <a:ext cx="71280" cy="14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36"/>
          <p:cNvSpPr/>
          <p:nvPr/>
        </p:nvSpPr>
        <p:spPr>
          <a:xfrm flipH="1">
            <a:off x="3784320" y="2500200"/>
            <a:ext cx="7308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52"/>
          <p:cNvSpPr/>
          <p:nvPr/>
        </p:nvSpPr>
        <p:spPr>
          <a:xfrm flipH="1">
            <a:off x="4000680" y="3929040"/>
            <a:ext cx="7128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54"/>
          <p:cNvSpPr/>
          <p:nvPr/>
        </p:nvSpPr>
        <p:spPr>
          <a:xfrm flipH="1">
            <a:off x="4000680" y="4500720"/>
            <a:ext cx="71280" cy="14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56"/>
          <p:cNvSpPr/>
          <p:nvPr/>
        </p:nvSpPr>
        <p:spPr>
          <a:xfrm flipH="1">
            <a:off x="3499920" y="5072040"/>
            <a:ext cx="71640" cy="1429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68"/>
          <p:cNvSpPr/>
          <p:nvPr/>
        </p:nvSpPr>
        <p:spPr>
          <a:xfrm flipH="1">
            <a:off x="3357720" y="5643720"/>
            <a:ext cx="71280" cy="14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5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749" dur="5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750" dur="5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100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756" dur="100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757" dur="100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500" autoRev="1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63" dur="500" autoRev="1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64" dur="500" autoRev="1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100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770" dur="100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771" dur="100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500" autoRev="1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777" dur="500" autoRev="1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778" dur="500" autoRev="1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3" dur="10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784" dur="10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785" dur="10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500" autoRev="1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791" dur="500" autoRev="1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792" dur="500" autoRev="1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1000" autoRev="1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798" dur="1000" autoRev="1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799" dur="1000" autoRev="1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0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805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806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1" dur="1000" autoRev="1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812" dur="1000" autoRev="1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813" dur="1000" autoRev="1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500" autoRev="1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819" dur="500" autoRev="1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820" dur="500" autoRev="1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5" dur="100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826" dur="100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827" dur="100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833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834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1000" autoRev="1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840" dur="1000" autoRev="1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841" dur="1000" autoRev="1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7%D0%B2%D1%83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847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59,-32)"/>
                                      </p:to>
                                    </p:set>
                                    <p:set>
                                      <p:cBhvr>
                                        <p:cTn id="848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100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animClr clrSpc="rgb">
                                      <p:cBhvr>
                                        <p:cTn id="854" dur="100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3b2e"/>
                                      </p:to>
                                    </p:animClr>
                                    <p:set>
                                      <p:cBhvr>
                                        <p:cTn id="855" dur="100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51:07Z</dcterms:created>
  <dc:creator>СОШ№22</dc:creator>
  <dc:description/>
  <dc:language>en-US</dc:language>
  <cp:lastModifiedBy>Руфина</cp:lastModifiedBy>
  <dcterms:modified xsi:type="dcterms:W3CDTF">2011-04-08T04:23:17Z</dcterms:modified>
  <cp:revision>323</cp:revision>
  <dc:subject/>
  <dc:title>Слайд 1</dc:title>
</cp:coreProperties>
</file>