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4C1-A700-47ED-8275-9B3CCB31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6F5-04FB-437E-ACE3-BDDE431E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AF9D4-C01C-499B-801C-D1BC1267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712BD-F295-415C-91BE-1ADF352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4788-323D-4C8B-9E77-E776ACA0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E3627-59BB-4E1B-8FD9-24A3EE3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B4BB8-BCF1-4BA5-BDC4-1A3D8DB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B3DE-4B92-4951-86CC-2078322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99ACA-929F-4F7D-81B8-BAB4AF9E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FC12D-EFDE-4301-BD4E-5D9CAD5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68D14-AE79-43FA-9A39-3E68676A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3BC60-788E-4423-92F7-3B33767C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DF8-BDD2-4031-8B8D-4E14270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80CB8-87F0-493A-A9DF-27323E5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E25C3-74DA-4B27-A82C-1727F46B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7E956-3831-44C9-A1B7-BFD2750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DD086-2992-4670-8E73-2B1F9B42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0E57D-88D6-4DC1-8B0A-2347FCC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C31A-9CCD-4BEE-A77F-2ACE8575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7BB7F-4342-4A7A-A349-842942D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CB809-1FD2-49EE-8513-201641D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D6D14-C86D-446C-947A-B788C7C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72B19-75F8-47E9-8EE8-ECDC7E58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0B7-B33D-459F-B80B-78A1CE3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200AC-6469-42F3-9BCF-AC877A1B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5436-34CD-4B20-A39F-70113486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C253-3A88-40AD-883E-BBDBA8C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AB72E-A1DF-4DE0-8FDB-2F799A1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B3E6-B5BB-43AD-B117-3A6BDAE7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2F94F-9C04-4256-BA6A-E4FF3A2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2258A-2188-4CBB-9C98-01607E8D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3F2DE-77DA-4BCA-A559-022C935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363F-86A4-4115-AD5D-D3C0E1C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94A3-46D3-4DD7-8682-35B5DF3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DDB-B9AD-4708-ACE4-98672CA5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66AC2-7D1C-4AE3-9457-9CD49032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96D23-AC65-4E0F-A3EA-13F6E616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EC397-65AF-452D-ABE3-FFD3EC0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6F4-645B-44FF-93B0-E3B442E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6E8B-0C69-4584-9DCF-4016EAA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A843-674B-49A9-8A4D-BA97C24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0C12-F9D2-42E5-A506-62F78E0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3D06-C8E4-4FCC-9008-1C7B1AF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AAC-AE2F-4810-A90F-2A8BFBC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C64-0DBF-4A85-B0E7-765F0878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E2FA-C3C9-47CC-ABC2-0274991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60F-4CA4-40EC-8F41-EB89D6C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EB5F-17D8-4070-85A2-966272C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28D3-3A38-4580-B6A2-8787E439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D3E-5051-46AF-87C8-801B8851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62AD-A940-47F4-9E65-CFBFB681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3610-5A98-4EAC-88F1-E9CB6C11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9BB0-DCD1-4F25-92D4-8E2737F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832C-BB90-4AE7-BAAE-5DCD029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02F8-870B-46D1-8284-110317F9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F47-925C-4C9F-8EE4-B074FC3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B0FD-B962-4341-9CDA-B5F2749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2726-0E3F-4696-8C2E-85F53D1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411E-7DCE-4A88-BC2A-C629B61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37BC-1142-4BAB-944B-3F48C43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5F36-1BF1-40A4-B882-D19D639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E7AB-FEB0-4E00-BDC6-E21158A0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2CBE-2FD3-42B3-A821-D34FDB07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5556-E3C9-43B0-AA5E-FC386D19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1D29-577E-4283-8763-5A77BD5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53AA-A727-4F6B-B008-BD77F01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E0F-729A-431A-AC46-9ECB74EA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2235-A699-4ECA-96BC-66E7318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4EE7-AC11-49D0-A38C-FC361AF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056D-32F3-4803-BDA7-07BA45CE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2532-F842-4471-8F32-CA6A47F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57B0-0D1C-4A1D-B2F5-4DBA8FFC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D75B-C9AF-4CBF-A594-2CEEF9B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4018-0C49-40EF-8CF4-60DC24D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C3D5-ABC7-4EAA-A33D-D3318733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AAF2-24E7-4029-AFB6-7E1529F8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C39E2-2313-43A0-B204-9BCD42EF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E42-029D-48EF-AA20-EB18D4C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D228F-80D8-48E1-B079-C9EA2AD6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EA4DE-81CA-4650-B5D8-C1F52D6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369A4-F7D3-4512-B517-FC1EAC3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10D15-C3FF-4B96-BFA7-8245556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82160-C022-4D3A-94E1-48E6055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9E64A-3922-4C10-A313-68A5D5A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4FEEF-5999-425A-A662-072538A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70C1A-72BD-4A7F-84A3-1516773D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86E90-B616-46D8-9859-8E26643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F239E-1D82-4C9C-95BF-AF13CD3B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5F0-08AE-44E6-B0BB-0A38C21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05E85-17B2-4DCA-9744-669F8920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2AB1-D639-49C5-B39F-0BFDD605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701E-FEB1-45E9-86A7-32A90DCC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2C019-5D0C-4ABC-8D21-FE74B45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C0CE-DA26-4BFB-95BE-B987C65A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816C-9465-4BD5-89E0-85D913C2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A735-6590-4B25-A713-5CE3A0A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FAD80-4211-465E-B1A1-EFB636C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421B-2998-43EF-97A4-6A57F15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CA828-6D2A-4588-B5AF-70D24E7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839-E3A9-431A-9282-742A83D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E6AE-42D9-4942-BAB7-A3C9CAA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152D-FA1D-4758-B313-191C2670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7469-B422-42E8-B160-4356107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0263-3922-4CBE-B07E-6F57D422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0B2A-17E5-4645-94BC-5131F82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77AA-8475-4710-9EF8-EB3AFEC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1CD4-9EFA-4BF6-9C72-7073463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E9E39-4397-482C-AA0B-D58D1CF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3275-5D50-4480-97F3-E652339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5A99-5354-4204-9487-9DC1CCE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071-951E-4BCC-B539-86282D74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35E2-14BE-42D2-8846-5DE9AEC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02A7-EDFC-4505-A1EA-25A2A62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6883-32B1-46DC-A2B2-8972617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B639-9C71-44DB-9BF8-5E89EDD9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FFDD-CA30-4CC5-90AC-C82D5D45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E0B3-752D-455C-B916-42016C4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0C46-70B5-4CA0-8AD7-FE4DA32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1533F-0CF7-4D31-93F5-4719D63B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47F4-5ED1-47E4-A62E-21CD927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4BB3A-28FC-4B74-9A8E-E5A9AF4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99E-009C-4A16-8F6A-BADE04A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F7DB-6963-4D69-B157-1125286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70580-53E2-47B8-85BC-42D3A08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A3CC9-5D2E-42ED-9AEA-B8A1580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5395-7347-4B1E-9CF2-F2C48A2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5876-5353-46D8-9860-D69B2BC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9319-F63B-4A37-B2FA-EBD515A9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EB73-3B81-4F1E-B6BC-D70A7037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CD200-9AF4-4717-B4C1-9139E89A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2A8F1-C8B5-4830-A021-76C0F664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91B6-C626-43E4-A994-D12135A0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869-7591-4F83-93CD-97F5C60C0DA6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58FF-B936-4992-9D1E-122A5488EF5B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2C83-1428-46D1-B096-B3CBA82ACBB7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E88B-9F1B-439E-B783-25A0916368AB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5A6-F4EF-49BB-A9E1-4B3BA589B5ED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67E-D236-4CA1-8268-C945C4CCAC68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23A-27C9-4817-8569-F8812EFBEB4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BE9-CCB8-404D-B4F6-D0E41C3BB811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0A14-0E0C-4B96-A2A4-DB4AA6152667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F5A-B924-4BB4-B24D-C226B24961E3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B9A5-A1B6-437E-8098-DD883B01B25A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Тула - моя малая Родин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211640" y="486864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 ученик 1 класса 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БОУ ЦО № 4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воров Андр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4"/>
          <p:cNvSpPr/>
          <p:nvPr/>
        </p:nvSpPr>
        <p:spPr>
          <a:xfrm>
            <a:off x="611280" y="907920"/>
            <a:ext cx="624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ульский край, любимый край, Нет на свете мест красивей, Наша область - словно рай, Лучший уголок России!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6" name="Содержимое 16" descr="05401743333940f344304bb3871ebf4e.jpg"/>
          <p:cNvPicPr/>
          <p:nvPr/>
        </p:nvPicPr>
        <p:blipFill>
          <a:blip r:embed="rId1"/>
          <a:stretch/>
        </p:blipFill>
        <p:spPr>
          <a:xfrm>
            <a:off x="179280" y="1197000"/>
            <a:ext cx="51022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116000" y="549360"/>
            <a:ext cx="7504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Times New Roman"/>
              </a:rPr>
              <a:t>1146</a:t>
            </a:r>
            <a:r>
              <a:rPr b="1" lang="ru-RU" sz="4000" spc="-1" strike="noStrike">
                <a:solidFill>
                  <a:srgbClr val="595959"/>
                </a:solidFill>
                <a:latin typeface="Times New Roman"/>
              </a:rPr>
              <a:t> год – первое упоминание о Туле в Никоновской летопи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1229753080foto1_big"/>
          <p:cNvPicPr/>
          <p:nvPr/>
        </p:nvPicPr>
        <p:blipFill>
          <a:blip r:embed="rId1"/>
          <a:stretch/>
        </p:blipFill>
        <p:spPr>
          <a:xfrm>
            <a:off x="1763640" y="2565360"/>
            <a:ext cx="57150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Содержимое 6" descr="05401743333940f344304bb3871ebf4e.jpg"/>
          <p:cNvPicPr/>
          <p:nvPr/>
        </p:nvPicPr>
        <p:blipFill>
          <a:blip r:embed="rId1"/>
          <a:stretch/>
        </p:blipFill>
        <p:spPr>
          <a:xfrm>
            <a:off x="1332000" y="836640"/>
            <a:ext cx="70768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Содержимое 3" descr="img3.jpg"/>
          <p:cNvPicPr/>
          <p:nvPr/>
        </p:nvPicPr>
        <p:blipFill>
          <a:blip r:embed="rId1"/>
          <a:stretch/>
        </p:blipFill>
        <p:spPr>
          <a:xfrm>
            <a:off x="1116000" y="907920"/>
            <a:ext cx="68277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003640" y="981000"/>
            <a:ext cx="3732480" cy="56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В дни войны наш полк рабочи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Вёл неравный бой с врагом. Слышно было днём и ночью Взрывы бомб, орудий гро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Шли бои в районе Тул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 двух сторон наперекрёст, Оглашая страшным гуло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Всё вокруг на сотни вёрст. Бились стойко и бесстрашн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За клочок родной зем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Так луга, леса и паш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От фашистов сберегли. .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Не дымят орудий дул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Под Калугой и Москвой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И не зря наш город Ту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Носит звание - Гер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2" name="Picture 8" descr="kartinki24_city_0105"/>
          <p:cNvPicPr/>
          <p:nvPr/>
        </p:nvPicPr>
        <p:blipFill>
          <a:blip r:embed="rId1"/>
          <a:stretch/>
        </p:blipFill>
        <p:spPr>
          <a:xfrm>
            <a:off x="250920" y="1484280"/>
            <a:ext cx="4770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Содержимое 7" descr="p0147530.jpg"/>
          <p:cNvPicPr/>
          <p:nvPr/>
        </p:nvPicPr>
        <p:blipFill>
          <a:blip r:embed="rId1"/>
          <a:stretch/>
        </p:blipFill>
        <p:spPr>
          <a:xfrm>
            <a:off x="250920" y="692280"/>
            <a:ext cx="5217840" cy="324324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5579640" y="2565000"/>
            <a:ext cx="31561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Есть и краше гор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Но нигде и никог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Не забуду Тулу я... ТЫ ВЕДЬ РОДИНА МОЯ!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10-11T18:11:29Z</dcterms:modified>
  <cp:revision>43</cp:revision>
  <dc:subject/>
  <dc:title>PowerPoint Presentation</dc:title>
</cp:coreProperties>
</file>