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9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33.jpeg" ContentType="image/jpeg"/>
  <Override PartName="/ppt/media/image27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63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68.png" ContentType="image/pn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86D-A8CC-45FC-90A8-255C8CE7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291-E867-40C8-BD52-D24E7119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A86-E5BF-41C8-B788-6D1E0A21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7CB-089F-4915-A57C-553AE17B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2B9-0F8F-4E69-9614-F08872A9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64B-2BB8-455F-94B8-EF1396E6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E03-DBAE-4A6F-8BFF-4A3789A1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2C7-F85A-4236-A953-106E7021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A99-EB49-4782-9974-F59FF35E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A1F-8373-483A-A506-017080DE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2BA-9EA1-451D-933D-32D8A8F9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5C8-BADA-498A-AB1B-4B8C8A43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D6C6-862B-4168-9D93-D00F78BDF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avicanet.com/directory/rus/11245.html" TargetMode="External"/><Relationship Id="rId2" Type="http://schemas.openxmlformats.org/officeDocument/2006/relationships/hyperlink" Target="http://www.mavicanet.com/directory/rus/21278.html" TargetMode="External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1559160"/>
            <a:ext cx="8675280" cy="3490920"/>
            <a:chOff x="250920" y="1559160"/>
            <a:chExt cx="8675280" cy="3490920"/>
          </a:xfrm>
        </p:grpSpPr>
        <p:cxnSp>
          <p:nvCxnSpPr>
            <p:cNvPr id="42" name="_s2081"/>
            <p:cNvCxnSpPr>
              <a:stCxn id="43" idx="3"/>
              <a:endCxn id="44" idx="2"/>
            </p:cNvCxnSpPr>
            <p:nvPr/>
          </p:nvCxnSpPr>
          <p:spPr>
            <a:xfrm flipV="1">
              <a:off x="1622160" y="2677680"/>
              <a:ext cx="230760" cy="2153160"/>
            </a:xfrm>
            <a:prstGeom prst="bentConnector4">
              <a:avLst>
                <a:gd name="adj1" fmla="val 100468"/>
                <a:gd name="adj2" fmla="val 551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054"/>
            <p:cNvCxnSpPr>
              <a:stCxn id="46" idx="3"/>
              <a:endCxn id="44" idx="2"/>
            </p:cNvCxnSpPr>
            <p:nvPr/>
          </p:nvCxnSpPr>
          <p:spPr>
            <a:xfrm flipV="1">
              <a:off x="1622160" y="2677680"/>
              <a:ext cx="230760" cy="1559880"/>
            </a:xfrm>
            <a:prstGeom prst="bentConnector4">
              <a:avLst>
                <a:gd name="adj1" fmla="val 100468"/>
                <a:gd name="adj2" fmla="val 570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055"/>
            <p:cNvCxnSpPr>
              <a:stCxn id="48" idx="3"/>
              <a:endCxn id="44" idx="2"/>
            </p:cNvCxnSpPr>
            <p:nvPr/>
          </p:nvCxnSpPr>
          <p:spPr>
            <a:xfrm flipV="1">
              <a:off x="1622160" y="2677680"/>
              <a:ext cx="230760" cy="966960"/>
            </a:xfrm>
            <a:prstGeom prst="bentConnector4">
              <a:avLst>
                <a:gd name="adj1" fmla="val 100468"/>
                <a:gd name="adj2" fmla="val 613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056"/>
            <p:cNvCxnSpPr>
              <a:stCxn id="50" idx="3"/>
              <a:endCxn id="44" idx="2"/>
            </p:cNvCxnSpPr>
            <p:nvPr/>
          </p:nvCxnSpPr>
          <p:spPr>
            <a:xfrm flipV="1">
              <a:off x="1622160" y="2677680"/>
              <a:ext cx="230760" cy="374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2057"/>
            <p:cNvCxnSpPr>
              <a:stCxn id="52" idx="0"/>
              <a:endCxn id="53" idx="2"/>
            </p:cNvCxnSpPr>
            <p:nvPr/>
          </p:nvCxnSpPr>
          <p:spPr>
            <a:xfrm flipV="1" rot="16200000">
              <a:off x="4512240" y="2354760"/>
              <a:ext cx="154800" cy="800280"/>
            </a:xfrm>
            <a:prstGeom prst="bentConnector3">
              <a:avLst>
                <a:gd name="adj1" fmla="val 501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058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3711240" y="2354040"/>
              <a:ext cx="154800" cy="801720"/>
            </a:xfrm>
            <a:prstGeom prst="bentConnector3">
              <a:avLst>
                <a:gd name="adj1" fmla="val 501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059"/>
            <p:cNvCxnSpPr>
              <a:stCxn id="57" idx="1"/>
              <a:endCxn id="58" idx="2"/>
            </p:cNvCxnSpPr>
            <p:nvPr/>
          </p:nvCxnSpPr>
          <p:spPr>
            <a:xfrm rot="10800000">
              <a:off x="6589800" y="3270960"/>
              <a:ext cx="228960" cy="1227960"/>
            </a:xfrm>
            <a:prstGeom prst="bentConnector4">
              <a:avLst>
                <a:gd name="adj1" fmla="val 101417"/>
                <a:gd name="adj2" fmla="val 562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2060"/>
            <p:cNvCxnSpPr>
              <a:stCxn id="60" idx="1"/>
              <a:endCxn id="58" idx="2"/>
            </p:cNvCxnSpPr>
            <p:nvPr/>
          </p:nvCxnSpPr>
          <p:spPr>
            <a:xfrm rot="10800000">
              <a:off x="6589800" y="3270600"/>
              <a:ext cx="228960" cy="767520"/>
            </a:xfrm>
            <a:prstGeom prst="bentConnector4">
              <a:avLst>
                <a:gd name="adj1" fmla="val 101417"/>
                <a:gd name="adj2" fmla="val 5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2061"/>
            <p:cNvCxnSpPr>
              <a:stCxn id="62" idx="1"/>
              <a:endCxn id="58" idx="2"/>
            </p:cNvCxnSpPr>
            <p:nvPr/>
          </p:nvCxnSpPr>
          <p:spPr>
            <a:xfrm rot="10800000">
              <a:off x="6589800" y="3270600"/>
              <a:ext cx="228960" cy="30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2062"/>
            <p:cNvCxnSpPr>
              <a:stCxn id="58" idx="0"/>
              <a:endCxn id="64" idx="2"/>
            </p:cNvCxnSpPr>
            <p:nvPr/>
          </p:nvCxnSpPr>
          <p:spPr>
            <a:xfrm flipH="1" flipV="1" rot="5400000">
              <a:off x="7153920" y="2113560"/>
              <a:ext cx="154800" cy="1282680"/>
            </a:xfrm>
            <a:prstGeom prst="bentConnector3">
              <a:avLst>
                <a:gd name="adj1" fmla="val 501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2063"/>
            <p:cNvCxnSpPr>
              <a:stCxn id="64" idx="0"/>
              <a:endCxn id="66" idx="2"/>
            </p:cNvCxnSpPr>
            <p:nvPr/>
          </p:nvCxnSpPr>
          <p:spPr>
            <a:xfrm flipV="1" rot="16200000">
              <a:off x="6153480" y="376200"/>
              <a:ext cx="154800" cy="3283920"/>
            </a:xfrm>
            <a:prstGeom prst="bentConnector5">
              <a:avLst>
                <a:gd name="adj1" fmla="val 150116"/>
                <a:gd name="adj2" fmla="val 49775"/>
                <a:gd name="adj3" fmla="val -498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2064"/>
            <p:cNvCxnSpPr>
              <a:stCxn id="53" idx="0"/>
              <a:endCxn id="66" idx="2"/>
            </p:cNvCxnSpPr>
            <p:nvPr/>
          </p:nvCxnSpPr>
          <p:spPr>
            <a:xfrm flipH="1" flipV="1" rot="5400000">
              <a:off x="4311720" y="1818360"/>
              <a:ext cx="154800" cy="399960"/>
            </a:xfrm>
            <a:prstGeom prst="bentConnector3">
              <a:avLst>
                <a:gd name="adj1" fmla="val 501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2065"/>
            <p:cNvCxnSpPr>
              <a:stCxn id="44" idx="0"/>
              <a:endCxn id="66" idx="2"/>
            </p:cNvCxnSpPr>
            <p:nvPr/>
          </p:nvCxnSpPr>
          <p:spPr>
            <a:xfrm flipH="1" flipV="1" rot="5400000">
              <a:off x="3143160" y="650160"/>
              <a:ext cx="154800" cy="2736720"/>
            </a:xfrm>
            <a:prstGeom prst="bentConnector5">
              <a:avLst>
                <a:gd name="adj1" fmla="val 150116"/>
                <a:gd name="adj2" fmla="val 49743"/>
                <a:gd name="adj3" fmla="val -498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2066"/>
            <p:cNvSpPr/>
            <p:nvPr/>
          </p:nvSpPr>
          <p:spPr>
            <a:xfrm>
              <a:off x="3521160" y="1559160"/>
              <a:ext cx="2135880" cy="381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СКУС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7"/>
            <p:cNvSpPr/>
            <p:nvPr/>
          </p:nvSpPr>
          <p:spPr>
            <a:xfrm>
              <a:off x="798840" y="2095560"/>
              <a:ext cx="2107440" cy="58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ОСТРАНСТВ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68"/>
            <p:cNvSpPr/>
            <p:nvPr/>
          </p:nvSpPr>
          <p:spPr>
            <a:xfrm>
              <a:off x="3135600" y="2095560"/>
              <a:ext cx="2107440" cy="58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РЕ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069"/>
            <p:cNvSpPr/>
            <p:nvPr/>
          </p:nvSpPr>
          <p:spPr>
            <a:xfrm>
              <a:off x="6818760" y="2095560"/>
              <a:ext cx="2107440" cy="58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ОСТРАНСТВЕННО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РЕ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ЗРЕЛИЩНЫЕ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070"/>
            <p:cNvSpPr/>
            <p:nvPr/>
          </p:nvSpPr>
          <p:spPr>
            <a:xfrm>
              <a:off x="5904360" y="2832120"/>
              <a:ext cx="137160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2680" rIns="2268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ЦЕН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2071"/>
            <p:cNvSpPr/>
            <p:nvPr/>
          </p:nvSpPr>
          <p:spPr>
            <a:xfrm>
              <a:off x="6818760" y="3425040"/>
              <a:ext cx="1374840" cy="30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2680" rIns="2268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И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2072"/>
            <p:cNvSpPr/>
            <p:nvPr/>
          </p:nvSpPr>
          <p:spPr>
            <a:xfrm>
              <a:off x="6818760" y="3885120"/>
              <a:ext cx="1374840" cy="30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АТ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073"/>
            <p:cNvSpPr/>
            <p:nvPr/>
          </p:nvSpPr>
          <p:spPr>
            <a:xfrm>
              <a:off x="6818760" y="4345560"/>
              <a:ext cx="1374840" cy="30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040" rIns="3204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ЦИР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74"/>
            <p:cNvSpPr/>
            <p:nvPr/>
          </p:nvSpPr>
          <p:spPr>
            <a:xfrm>
              <a:off x="2702160" y="2832120"/>
              <a:ext cx="137160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75"/>
            <p:cNvSpPr/>
            <p:nvPr/>
          </p:nvSpPr>
          <p:spPr>
            <a:xfrm>
              <a:off x="4303440" y="2832120"/>
              <a:ext cx="137160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76"/>
            <p:cNvSpPr/>
            <p:nvPr/>
          </p:nvSpPr>
          <p:spPr>
            <a:xfrm>
              <a:off x="250920" y="2832120"/>
              <a:ext cx="137124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З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77"/>
            <p:cNvSpPr/>
            <p:nvPr/>
          </p:nvSpPr>
          <p:spPr>
            <a:xfrm>
              <a:off x="250920" y="3425040"/>
              <a:ext cx="137124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АРХИТЕКТУР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78"/>
            <p:cNvSpPr/>
            <p:nvPr/>
          </p:nvSpPr>
          <p:spPr>
            <a:xfrm>
              <a:off x="250920" y="4017960"/>
              <a:ext cx="137124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960" rIns="5796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ДЕКОРАТИВН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ПРИКЛАД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80"/>
            <p:cNvSpPr/>
            <p:nvPr/>
          </p:nvSpPr>
          <p:spPr>
            <a:xfrm>
              <a:off x="250920" y="4611240"/>
              <a:ext cx="137124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ИЗАЙ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501280" y="549360"/>
            <a:ext cx="408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ИДЫ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76200" y="260280"/>
            <a:ext cx="75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ОСТРАНСТВЕ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Неизобразительные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32720" y="2924280"/>
            <a:ext cx="1479240" cy="3476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407640" y="184464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диз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худож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стру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644640"/>
            <a:ext cx="18352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7632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архитекту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564000" y="2852640"/>
            <a:ext cx="2465280" cy="360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03640" y="1628640"/>
            <a:ext cx="1166760" cy="2087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21360" y="90792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декоратив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приклад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95280" y="4221000"/>
            <a:ext cx="28796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9280" y="0"/>
            <a:ext cx="864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АРХИТЕКТУРА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искусство: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 проектирования и строительства зданий; и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 создания художественно выразительных ансам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ая цель архитектуры состоит в формировании среды для труда, быта и отдыха насел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372360" y="4724280"/>
            <a:ext cx="2376360" cy="179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2408040" cy="3714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50920" y="2276640"/>
            <a:ext cx="1969920" cy="2793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932360" y="2205000"/>
            <a:ext cx="3816360" cy="2473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995640" y="4230720"/>
            <a:ext cx="2438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0"/>
            <a:ext cx="86425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ДЕКОРАТИВНОЕ ИСКУССТВО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область пластических искусств, произведения которой наряду с архитектурой художественно формируют окружающую человека материальную сред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коративное искусство разделяется 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монументально-декоративное искусство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екоративно-прикладное искусство; 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формительское искус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24000" y="429264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2233440" cy="3189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2109960" cy="1977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04000" y="4292640"/>
            <a:ext cx="2027160" cy="2395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04000" y="2852640"/>
            <a:ext cx="1967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0"/>
            <a:ext cx="86425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ДИЗАЙН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 художественное конструирование предметного мира; разработка образцов рационального построения предметно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 творческая деятельность, целью которой является определение формальных качеств промышленных издел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2962080" cy="2336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3321000" cy="3055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419640" y="4149720"/>
            <a:ext cx="2611440" cy="25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227640" y="5445000"/>
            <a:ext cx="1270080" cy="1168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132000" y="2276640"/>
            <a:ext cx="2340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90792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. ВРЕМЕННЫЕ ВИДЫ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временным видам искусства относя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музыку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художественную литературу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260280"/>
            <a:ext cx="8496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Музыка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 — вид искусства, отражающий действительность в звуковых художественных образах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узыка может передавать эмоции, чувства людей, что выражается в ритме, интонации, мелодии. По способу исполнения она делится на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инструментальную и вокальну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3381480" cy="3527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75120" y="3089160"/>
            <a:ext cx="49179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зыка характеризуется воздействием на эмоциональное состояние людей, соотношением частот (высот), громкостью, длительностью, тембром, переходными процесс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зыка делится также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народную и классическ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овреме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джазов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вое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духов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260280"/>
            <a:ext cx="84978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Художественная литература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 — вид искусства, в котором материальным носителем образности является речь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Ее именуют порой «изящной словесностью» или «искусством сло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а - письменная форма искусства слова. Различа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художественную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аучную, публицистическую, справочную, критическую, куртуазную, эпистолярную и др. литерату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1641600" cy="273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71640" y="3933720"/>
            <a:ext cx="1928880" cy="2603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932360" y="3860640"/>
            <a:ext cx="33368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907920"/>
            <a:ext cx="83516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. ПРОСТРАНСТВЕННО-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зрелищ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ИДЫ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данным видам искусства относя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танец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театр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киноискусство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эстрадно-цирковое искусств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714840" cy="2597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714840" cy="2462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24000" y="485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КИНОИСКУССТВО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ид искусства, произведения которого (фильмы или кинокартины) создаются с помощью киносъемки реальных, или специально инсценированных, или с привлечением средств мультипликации событий, фактов, явлений действительности. Это синтетический вид искусства, соединяющий в себе литературу, театр, изобразительные искусства и му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79280" y="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ТАНЕЦ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д искусства, в котором художественные образы создаются средствами пластических движений и ритмически четкой и непрерывной смены выразительных положений человеческого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нец неразрывно связан с музыкой, эмоционально-образное содержание которой находит свое воплощение в его хореографической композиции, движениях, фигу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родный тане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танец определенной национальности, народности или региона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ценический тане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один из основных видов танца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едназначенный для зрителей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редполагающий создание хореографического образа на сце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2976480" cy="3246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867280" y="3645000"/>
            <a:ext cx="3063960" cy="3022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484360" y="4005360"/>
            <a:ext cx="3473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44676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кусство - специфический вид отражения и формирования действительности человеком в процессе художественного творчества в соответствии с определенными эстетическими идеал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усство есть одновременно и сознание, и познание, и общение между люд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ы искусства разделяются на 3 основных вида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ранственные (пластическ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которые существуют в пространстве, не изменяясь и не развиваясь во времени, и воспринимающиеся зрением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ременные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ранственно-временны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8560" y="623664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и каждого вида искусств различают жан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108160" cy="1893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77080" y="4149720"/>
            <a:ext cx="1768320" cy="194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140360" y="414972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627280" y="4149720"/>
            <a:ext cx="2857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0"/>
            <a:ext cx="864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ТЕАТР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д искусства, отражающий действительность, характеры, события, конфликты, их трактовки и оценки посредством драматического действия, возникающего в процессе игры актера перед публи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ходе исторического развития определились три основные вида театра, отличающиеся специфическими признаками и средствами художественной выразительности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раматический, оперный и балет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ат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2425680" cy="3354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87640" y="3213000"/>
            <a:ext cx="2268720" cy="338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37800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9280" y="0"/>
            <a:ext cx="864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ЦИР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вид искусства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редусматривающий демонстр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ы, ловкости и смелости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ключающий: акробати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вилибристи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онглирование, клоуна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ессировку живо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00720" y="476280"/>
            <a:ext cx="2441520" cy="4348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4205160" cy="2886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2530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189000"/>
            <a:ext cx="8352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. Самые СО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ИДЫ ИСКУССТВ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 вне классифик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данным видам искусства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ди ар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искусство росписи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ар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искусство росписи автомоб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усство инстал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ая графика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3D-графи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еб-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нап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PinUp) - от англ. pin-up приколоть, крикрепить к стене. Фотография красотки, кинозвезды, эстрадной певицы, вырезанная из журнала и прикрепленная на ст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товое искусство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готовление почтовых откр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132000" y="4508640"/>
            <a:ext cx="3097440" cy="2031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801880" cy="1979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156360" y="4508640"/>
            <a:ext cx="29876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0920" y="333360"/>
            <a:ext cx="84978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Анимэ и ма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га - это современные японские комиксы и мультипликационные фильмы. Обычно манга печатается в еженедельных и ежемесячных журналах, часто полностью посвященных манге. Манга совсем не похожа на известные нам американские и российские комик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Она обычно черно-белая, с цветной обложкой и несколькими цветными разворо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В Японии мангу читают не только маленькие дети, но и подростки и взросл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Диапазон возможных тем и стилей графики варьируется очень широко, от детских сказок до сложных философских произвед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е - это современная японская ани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472428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Визуальная поэз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то вид искусства, соединяющий в себе словесное и зрительное творчество стихотворения, чьи строки образуют декоративные или наделенные эмблематическим смыслом фигуры и зн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61672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333360"/>
            <a:ext cx="85690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. ПРОСТРАН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лас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ИДЫ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ранственные искусства - виды искус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едения которых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существуют в пространстве, не изменяясь и не развиваясь во врем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меют предметный характер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ыполняются путем обработки веществен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ринимаются зрителями непосредственно и визуа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ранственные искусства подразделяются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изобразительные искусст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пись, скульптура, графика, фотоискусство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неизобразительные искусст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текту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коративно-прикладное искусство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ое конструирование (дизайн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360360"/>
            <a:ext cx="856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ОСТРАНСТВЕ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Изобразительные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образительное искусство — вид искусства, главной особенностью которого является отражение действительности в наглядных, зрительно воспринимаемых образ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изобразительным искусст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4724280"/>
            <a:ext cx="1461960" cy="187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1606680" cy="2082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41800" y="18446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воп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8200" y="429264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ф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02440" y="3357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ульпту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340000" y="4221000"/>
            <a:ext cx="1765440" cy="215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064280" y="3789360"/>
            <a:ext cx="1704960" cy="2660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83000" y="32130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284720" y="4076640"/>
            <a:ext cx="2592360" cy="2346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50800" y="3284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-14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ЖИВОПИ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вид изобразительного искусства, произведения которого создаются на плоскости посредством цветных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вопись подразделяют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2200" y="2924280"/>
            <a:ext cx="2346480" cy="3089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4560" y="2395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нков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8520" y="24192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нумент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46080" y="241920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корати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67280" y="2995560"/>
            <a:ext cx="3024360" cy="2530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03640" y="2924280"/>
            <a:ext cx="2452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80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обыми видами живописи являются: иконопись, миниатюра, фреска, театрально-декорационная живопись, диорама и панор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658960" cy="360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64000" y="260280"/>
            <a:ext cx="3569040" cy="403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916360" y="1125360"/>
            <a:ext cx="2566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81440"/>
            <a:ext cx="8569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ГРАФИКА -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искусство изображения предметов контурными линиями и штрихами. Иногда в графике допускается применение цветных пятен.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linediv2" descr=""/>
          <p:cNvPicPr/>
          <p:nvPr/>
        </p:nvPicPr>
        <p:blipFill>
          <a:blip r:embed="rId1"/>
          <a:stretch/>
        </p:blipFill>
        <p:spPr>
          <a:xfrm>
            <a:off x="-399960" y="285912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236000" y="3357720"/>
            <a:ext cx="169848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03640" y="3429000"/>
            <a:ext cx="2376720" cy="232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908000" y="3429000"/>
            <a:ext cx="154476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linediv2" descr=""/>
          <p:cNvPicPr/>
          <p:nvPr/>
        </p:nvPicPr>
        <p:blipFill>
          <a:blip r:embed="rId5"/>
          <a:stretch/>
        </p:blipFill>
        <p:spPr>
          <a:xfrm>
            <a:off x="3598920" y="2725560"/>
            <a:ext cx="190440" cy="19080"/>
          </a:xfrm>
          <a:prstGeom prst="rect">
            <a:avLst/>
          </a:prstGeom>
          <a:ln w="0">
            <a:noFill/>
          </a:ln>
        </p:spPr>
      </p:pic>
      <p:pic>
        <p:nvPicPr>
          <p:cNvPr id="105" name="linediv2" descr=""/>
          <p:cNvPicPr/>
          <p:nvPr/>
        </p:nvPicPr>
        <p:blipFill>
          <a:blip r:embed="rId6"/>
          <a:stretch/>
        </p:blipFill>
        <p:spPr>
          <a:xfrm>
            <a:off x="3598920" y="3279600"/>
            <a:ext cx="190440" cy="19080"/>
          </a:xfrm>
          <a:prstGeom prst="rect">
            <a:avLst/>
          </a:prstGeom>
          <a:ln w="0">
            <a:noFill/>
          </a:ln>
        </p:spPr>
      </p:pic>
      <p:pic>
        <p:nvPicPr>
          <p:cNvPr id="106" name="linediv2" descr=""/>
          <p:cNvPicPr/>
          <p:nvPr/>
        </p:nvPicPr>
        <p:blipFill>
          <a:blip r:embed="rId7"/>
          <a:stretch/>
        </p:blipFill>
        <p:spPr>
          <a:xfrm>
            <a:off x="3598920" y="3833640"/>
            <a:ext cx="190440" cy="19080"/>
          </a:xfrm>
          <a:prstGeom prst="rect">
            <a:avLst/>
          </a:prstGeom>
          <a:ln w="0">
            <a:noFill/>
          </a:ln>
        </p:spPr>
      </p:pic>
      <p:pic>
        <p:nvPicPr>
          <p:cNvPr id="107" name="linediv2" descr=""/>
          <p:cNvPicPr/>
          <p:nvPr/>
        </p:nvPicPr>
        <p:blipFill>
          <a:blip r:embed="rId8"/>
          <a:stretch/>
        </p:blipFill>
        <p:spPr>
          <a:xfrm>
            <a:off x="3598920" y="4387680"/>
            <a:ext cx="190440" cy="19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573408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графике относятся рисунок и различные виды его печатных воспроизведений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гравюра, литография, монотипия, книжная иллюстрация, плакаты, а также компьютерная граф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71760" y="1484280"/>
            <a:ext cx="577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у подразделяют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ков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ельную(эскиз,набросок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ладную и промышленную граф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рамоты, марки, этикетки, рекла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7308720" y="1197000"/>
            <a:ext cx="1621080" cy="2203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3492360" y="3429000"/>
            <a:ext cx="1716120" cy="2303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324000" y="155736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0" y="3357720"/>
            <a:ext cx="17985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9280" y="0"/>
            <a:ext cx="864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СКУЛЬП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ид изобразительного искусства, произведения которого имеют физически материальный, предметный объем и трехмерную форму, размещенную в реальном простран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ми объектами скульптуры являются человек и изображения животного мира. Основными разновидностями скульптуры являются круглая скульптура и релье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ульптура подразделяется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а монументальную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а монументально-декоративную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танковую; 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кульптуру малых фор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2449440" cy="1709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1560240" cy="2543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59640" y="2349360"/>
            <a:ext cx="2246400" cy="338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788000" y="4149720"/>
            <a:ext cx="2174760" cy="2486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2700360" y="4221000"/>
            <a:ext cx="20066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0"/>
            <a:ext cx="86425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ФОТОИСКУССТВО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 пластическое искусство, произведения которого создаются средствами фотограф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762440" cy="30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524400" cy="4790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771640" y="4724280"/>
            <a:ext cx="2305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6:11:52Z</dcterms:created>
  <dc:creator>Lena</dc:creator>
  <dc:description/>
  <dc:language>en-US</dc:language>
  <cp:lastModifiedBy>Lena</cp:lastModifiedBy>
  <dcterms:modified xsi:type="dcterms:W3CDTF">2007-09-25T21:17:34Z</dcterms:modified>
  <cp:revision>6</cp:revision>
  <dc:subject/>
  <dc:title>Слайд 1</dc:title>
</cp:coreProperties>
</file>