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6D0-2B3B-4FC2-B381-A71D3881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27B-3ECB-4043-B943-CEDE722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7B2-2D5F-4396-8983-A5626FB2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779-1642-4499-ADF3-8CE1A354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4ACA-05A5-460D-88CB-5A305154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5CDE-2F10-4B38-93B6-7BF09A2F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131-42C0-4BCA-A7B5-43263460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6B2B-23A7-4138-AA67-C91B59BD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F4F4-3D5B-40AA-AD54-CC7FF195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18A5-E53D-4EE3-B5D5-4F151AB2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621C-3B15-4E37-8180-1915063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DBD-6EC1-4104-A471-90265DF5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0542-38EF-479C-9418-EBDBD31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8DBC-C864-4EC6-9A5D-B68F7AE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8421-A4E9-4891-8DA3-4FE42A07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7039-F23E-480A-9E0D-D5491299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2AD9-2B30-4F75-ACF1-FAE576E3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AD953-96E9-4F67-9727-8128DDA9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5CD48-91D2-448B-9ADD-B2E7B368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EDB10-BD0B-44B1-BC48-AB8C6874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AE18B-3851-4A45-9F00-54F25B2B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A9383-C0FC-478D-96ED-8F3F5023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61B-C430-4491-BC34-06E06476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95C54-BE1C-4749-97D2-6CFEFCED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03F6C-064F-405E-B446-1FB2981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A10FA-1F4B-457A-8807-7B03A572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766DD-A1ED-4200-8BB8-D76E9BD9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67190-39AF-472E-BBA6-A1AA4756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72452-0675-4BEC-94CB-AD1DBCBD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190F3-C8C9-42F1-9EEE-D1365A76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D89A-1ADF-4A1C-9DED-80885AFE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4A7A-1F97-4DD2-AF5D-4195BD26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E431-14C5-439B-A2B6-41334014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48B-2C22-4072-BB1D-15CCD281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6ADB-D1DD-40EE-B2C7-F8451AE9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9AD4-707E-447E-BF4D-720F2573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7FC4-46EF-49CA-9D17-772994CE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D1F4-1A6A-4525-940F-F0E5655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0668-39DB-4080-BC76-4BD72EF2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60D4-1E27-496D-B6FC-167970C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61C3D-20B7-4080-A4A1-BA9A40E4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D6A2-6526-4DC8-9925-76DA6DDA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3F4D-219A-4748-B848-770028AA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C0A-6D32-443B-ADD1-D11ABE5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BC0-984A-42D6-A62F-A37AF158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864-CF08-43F4-AA6C-3B5099C0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BB9-DFA7-4D5E-B30C-3EAA35E0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D3E-A745-40DB-ABC9-03A99DA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AF3B-8E26-4348-AA15-921FC14B180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8283-DCD9-43A1-B043-61DC7EC5561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7B70-761B-4999-8E0A-D6C30F42A4B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604C-D604-4DD4-9FA1-063353A4733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ение числовой информации с помощью систем счисления. Перевод чисел в позиционных системах счислени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972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10 клас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читель Кечкина Наталия Игор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зержинск, 201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7"/>
          <p:cNvSpPr/>
          <p:nvPr/>
        </p:nvSpPr>
        <p:spPr>
          <a:xfrm>
            <a:off x="142920" y="642960"/>
            <a:ext cx="8715240" cy="62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.6, 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вести следующие числа в десятичную систему с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0110111,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б) 563,4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) 1C4,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ести следующие числа из десятичной системы счисления в двоичную,  восьмеричную и шестнадцатеричную системы счисл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2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  б) 3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вести следующие числа из десятичной системы счисления в двоичную,  восьмеричную и шестнадцатеричную системы счисления (точность вычислений - 5 знаков после запятой)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0,345; б) 217,37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ение числовой информации с помощью систем счисления 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Овал 4"/>
          <p:cNvSpPr/>
          <p:nvPr/>
        </p:nvSpPr>
        <p:spPr>
          <a:xfrm>
            <a:off x="142920" y="3429000"/>
            <a:ext cx="4500360" cy="92880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5"/>
          <p:cNvSpPr/>
          <p:nvPr/>
        </p:nvSpPr>
        <p:spPr>
          <a:xfrm>
            <a:off x="2938320" y="2081160"/>
            <a:ext cx="3786480" cy="12859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ы 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6"/>
          <p:cNvSpPr/>
          <p:nvPr/>
        </p:nvSpPr>
        <p:spPr>
          <a:xfrm>
            <a:off x="5072040" y="3429000"/>
            <a:ext cx="3929040" cy="100008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низ 7"/>
          <p:cNvSpPr/>
          <p:nvPr/>
        </p:nvSpPr>
        <p:spPr>
          <a:xfrm rot="3307800">
            <a:off x="2374200" y="2721600"/>
            <a:ext cx="428400" cy="7855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вниз 8"/>
          <p:cNvSpPr/>
          <p:nvPr/>
        </p:nvSpPr>
        <p:spPr>
          <a:xfrm rot="18312000">
            <a:off x="6874560" y="272304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457200" y="64296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истема счисления </a:t>
            </a: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– знаковая система, в которой числа записываются по определенным правилам с помощью символов некоторого алфавита, называемых циф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71680" y="4662360"/>
            <a:ext cx="81118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ятичная система счисления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0160" y="6192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тая форма записи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308520" y="1762200"/>
            <a:ext cx="48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нутая форма записи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285840" y="32148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число в десятичной системе счисления в развернутой форм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295200" y="1071720"/>
                <a:ext cx="86346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2"/>
              <p:cNvSpPr txBox="1"/>
              <p:nvPr/>
            </p:nvSpPr>
            <p:spPr>
              <a:xfrm>
                <a:off x="357120" y="2357280"/>
                <a:ext cx="4503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4"/>
              <p:cNvSpPr txBox="1"/>
              <p:nvPr/>
            </p:nvSpPr>
            <p:spPr>
              <a:xfrm>
                <a:off x="928800" y="4286160"/>
                <a:ext cx="72216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limUpp>
                      <m:e>
                        <m:r>
                          <m:t xml:space="preserve">4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2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limUpp>
                      <m:e>
                        <m:r>
                          <m:t xml:space="preserve">3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Upp>
                    <m:sSub>
                      <m:e>
                        <m:limUpp>
                          <m:e>
                            <m:r>
                              <m:t xml:space="preserve">5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lim>
                        </m:limUpp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6"/>
              <p:cNvSpPr txBox="1"/>
              <p:nvPr/>
            </p:nvSpPr>
            <p:spPr>
              <a:xfrm>
                <a:off x="333360" y="5865840"/>
                <a:ext cx="20239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5</m:t>
                        </m:r>
                      </m:e>
                      <m:lim>
                        <m:r>
                          <m:t xml:space="preserve">3</m:t>
                        </m:r>
                      </m:lim>
                    </m:limUpp>
                    <m:limUpp>
                      <m:e>
                        <m:r>
                          <m:t xml:space="preserve">4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limUpp>
                      <m:e>
                        <m:r>
                          <m:t xml:space="preserve">3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0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Upp>
                    <m:sSub>
                      <m:e>
                        <m:limUpp>
                          <m:e>
                            <m:r>
                              <m:t xml:space="preserve">2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lim>
                        </m:limUpp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Box 7"/>
          <p:cNvSpPr/>
          <p:nvPr/>
        </p:nvSpPr>
        <p:spPr>
          <a:xfrm>
            <a:off x="285840" y="519120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ТЬ САМОСТОЯ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8"/>
              <p:cNvSpPr txBox="1"/>
              <p:nvPr/>
            </p:nvSpPr>
            <p:spPr>
              <a:xfrm>
                <a:off x="2424240" y="6029280"/>
                <a:ext cx="6576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ичная система счисления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303120" y="1214280"/>
                <a:ext cx="85550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4"/>
              <p:cNvSpPr txBox="1"/>
              <p:nvPr/>
            </p:nvSpPr>
            <p:spPr>
              <a:xfrm>
                <a:off x="285840" y="2357280"/>
                <a:ext cx="41432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6"/>
              <p:cNvSpPr txBox="1"/>
              <p:nvPr/>
            </p:nvSpPr>
            <p:spPr>
              <a:xfrm>
                <a:off x="1587600" y="4214880"/>
                <a:ext cx="6199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limUpp>
                      <m:e>
                        <m:r>
                          <m:t xml:space="preserve">0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limUpp>
                      <m:e>
                        <m:r>
                          <m:t xml:space="preserve">0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Upp>
                    <m:sSub>
                      <m:e>
                        <m:limUpp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TextBox 4"/>
          <p:cNvSpPr/>
          <p:nvPr/>
        </p:nvSpPr>
        <p:spPr>
          <a:xfrm>
            <a:off x="380160" y="6192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тая форма записи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308520" y="1762200"/>
            <a:ext cx="48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нутая форма записи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85840" y="32148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число в двоичной системе счисления в развернутой форм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285840" y="519120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ТЬ САМОСТОЯ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5"/>
              <p:cNvSpPr txBox="1"/>
              <p:nvPr/>
            </p:nvSpPr>
            <p:spPr>
              <a:xfrm>
                <a:off x="1643040" y="5805360"/>
                <a:ext cx="14479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0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Upp>
                    <m:sSub>
                      <m:e>
                        <m:limUpp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3286080" y="5965920"/>
                <a:ext cx="3651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ционная система счисления с произвольным основанием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80160" y="50004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тая форма записи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308520" y="1428840"/>
            <a:ext cx="48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нутая форма записи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285840" y="25002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число в системе счисления с заданным основанием в развернутой форм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285840" y="4857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ТЬ САМОСТОЯ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4"/>
              <p:cNvSpPr txBox="1"/>
              <p:nvPr/>
            </p:nvSpPr>
            <p:spPr>
              <a:xfrm>
                <a:off x="285840" y="1000080"/>
                <a:ext cx="864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6"/>
              <p:cNvSpPr txBox="1"/>
              <p:nvPr/>
            </p:nvSpPr>
            <p:spPr>
              <a:xfrm>
                <a:off x="285840" y="1928880"/>
                <a:ext cx="4214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8"/>
              <p:cNvSpPr txBox="1"/>
              <p:nvPr/>
            </p:nvSpPr>
            <p:spPr>
              <a:xfrm>
                <a:off x="1836720" y="3500280"/>
                <a:ext cx="47149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6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limUpp>
                      <m:e>
                        <m:r>
                          <m:t xml:space="preserve">7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3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sSub>
                      <m:e>
                        <m:limUpp>
                          <m:e>
                            <m:r>
                              <m:t xml:space="preserve">2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lim>
                        </m:limUpp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0"/>
              <p:cNvSpPr txBox="1"/>
              <p:nvPr/>
            </p:nvSpPr>
            <p:spPr>
              <a:xfrm>
                <a:off x="1847880" y="4071960"/>
                <a:ext cx="4660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8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sSub>
                      <m:e>
                        <m:limUpp>
                          <m:e>
                            <m:r>
                              <m:t xml:space="preserve">F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lim>
                        </m:limUpp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8"/>
              <p:cNvSpPr txBox="1"/>
              <p:nvPr/>
            </p:nvSpPr>
            <p:spPr>
              <a:xfrm>
                <a:off x="1928880" y="5286240"/>
                <a:ext cx="13078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2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limUpp>
                      <m:e>
                        <m:r>
                          <m:t xml:space="preserve">4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sSub>
                      <m:e>
                        <m:limUpp>
                          <m:e>
                            <m:r>
                              <m:t xml:space="preserve">7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lim>
                        </m:limUpp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9"/>
              <p:cNvSpPr txBox="1"/>
              <p:nvPr/>
            </p:nvSpPr>
            <p:spPr>
              <a:xfrm>
                <a:off x="1636560" y="5948280"/>
                <a:ext cx="1649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5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limUpp>
                      <m:e>
                        <m:r>
                          <m:t xml:space="preserve">9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F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sSub>
                      <m:e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lim>
                        </m:limUpp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0"/>
              <p:cNvSpPr txBox="1"/>
              <p:nvPr/>
            </p:nvSpPr>
            <p:spPr>
              <a:xfrm>
                <a:off x="3214800" y="5423040"/>
                <a:ext cx="3378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1"/>
              <p:cNvSpPr txBox="1"/>
              <p:nvPr/>
            </p:nvSpPr>
            <p:spPr>
              <a:xfrm>
                <a:off x="3214800" y="6135840"/>
                <a:ext cx="44002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вод чисел в десятичную систему счисления: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8760" y="64260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писывается в развернутой форме и производятся вычисл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"/>
              <p:cNvSpPr txBox="1"/>
              <p:nvPr/>
            </p:nvSpPr>
            <p:spPr>
              <a:xfrm>
                <a:off x="428760" y="3071880"/>
                <a:ext cx="8216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0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Upp>
                    <m:sSub>
                      <m:e>
                        <m:limUpp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000080" y="3857760"/>
                <a:ext cx="68547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6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7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sSub>
                      <m:e>
                        <m:limUpp>
                          <m:e>
                            <m:r>
                              <m:t xml:space="preserve">5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lim>
                        </m:limUpp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5"/>
              <p:cNvSpPr txBox="1"/>
              <p:nvPr/>
            </p:nvSpPr>
            <p:spPr>
              <a:xfrm>
                <a:off x="857160" y="4643280"/>
                <a:ext cx="75423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limUpp>
                      <m:e>
                        <m:r>
                          <m:t xml:space="preserve">9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sSub>
                      <m:e>
                        <m:limUpp>
                          <m:e>
                            <m:r>
                              <m:t xml:space="preserve">F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Upp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1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TextBox 7"/>
          <p:cNvSpPr/>
          <p:nvPr/>
        </p:nvSpPr>
        <p:spPr>
          <a:xfrm>
            <a:off x="285840" y="16430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сти число из системе счисления с заданным основанием в десятичную систему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285840" y="52624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ТЬ САМОСТОЯ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214200" y="5857920"/>
                <a:ext cx="1143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limUpp>
                      <m:e>
                        <m:r>
                          <m:t xml:space="preserve">1</m:t>
                        </m:r>
                      </m:e>
                      <m:lim>
                        <m:r>
                          <m:t xml:space="preserve">1</m:t>
                        </m:r>
                      </m:lim>
                    </m:limUpp>
                    <m:limUpp>
                      <m:e>
                        <m:r>
                          <m:t xml:space="preserve">0</m:t>
                        </m:r>
                      </m:e>
                      <m:lim>
                        <m:r>
                          <m:t xml:space="preserve">0</m:t>
                        </m:r>
                      </m:lim>
                    </m:limUpp>
                    <m:r>
                      <m:t xml:space="preserve">,</m:t>
                    </m:r>
                    <m:limUpp>
                      <m:e>
                        <m:r>
                          <m:t xml:space="preserve">0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Upp>
                    <m:sSub>
                      <m:e>
                        <m:limUpp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2"/>
              <p:cNvSpPr txBox="1"/>
              <p:nvPr/>
            </p:nvSpPr>
            <p:spPr>
              <a:xfrm>
                <a:off x="1357200" y="5805360"/>
                <a:ext cx="75726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вод целых десятичных чисел в двоичную систему счисления: 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13840" y="71388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 выполнить деление исходного целого десятичного числа и получаемых целых частных на основание системы (на 2) до тех пор, пока не получится частное, меньшее 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полученные остатки в обратной последователь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57120" y="36576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сти целое десятичное число в дво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072040" y="3000240"/>
          <a:ext cx="3643200" cy="3382920"/>
        </p:xfrm>
        <a:graphic>
          <a:graphicData uri="http://schemas.openxmlformats.org/drawingml/2006/table">
            <a:tbl>
              <a:tblPr/>
              <a:tblGrid>
                <a:gridCol w="658800"/>
                <a:gridCol w="658800"/>
                <a:gridCol w="658800"/>
                <a:gridCol w="554040"/>
                <a:gridCol w="557280"/>
                <a:gridCol w="555480"/>
              </a:tblGrid>
              <a:tr h="48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3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0" name="AutoShape 42"/>
          <p:cNvCxnSpPr/>
          <p:nvPr/>
        </p:nvCxnSpPr>
        <p:spPr>
          <a:xfrm flipH="1" flipV="1">
            <a:off x="5142960" y="4428720"/>
            <a:ext cx="3143880" cy="22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3"/>
              <p:cNvSpPr txBox="1"/>
              <p:nvPr/>
            </p:nvSpPr>
            <p:spPr>
              <a:xfrm>
                <a:off x="2214720" y="5143680"/>
                <a:ext cx="193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01110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вод десятичных дробей в двоичную систему счисления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571680"/>
            <a:ext cx="8715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09840" indent="-5040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 выполнять умножение исходной десятичной дроби и получаемых дробных частей произведений на основание системы (на 2) до тех пор, пока не получится нулевая дробная часть или не будет достигнута требуемая точность вычисле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840" indent="-5040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полученные целые части произведения в прямой последователь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857840" y="3143160"/>
          <a:ext cx="4071960" cy="3668760"/>
        </p:xfrm>
        <a:graphic>
          <a:graphicData uri="http://schemas.openxmlformats.org/drawingml/2006/table">
            <a:tbl>
              <a:tblPr/>
              <a:tblGrid>
                <a:gridCol w="428400"/>
                <a:gridCol w="1144800"/>
                <a:gridCol w="355680"/>
                <a:gridCol w="1001520"/>
                <a:gridCol w="355680"/>
                <a:gridCol w="785880"/>
              </a:tblGrid>
              <a:tr h="571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7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3"/>
              <p:cNvSpPr txBox="1"/>
              <p:nvPr/>
            </p:nvSpPr>
            <p:spPr>
              <a:xfrm>
                <a:off x="6823080" y="5286240"/>
                <a:ext cx="2106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00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TextBox 7"/>
          <p:cNvSpPr/>
          <p:nvPr/>
        </p:nvSpPr>
        <p:spPr>
          <a:xfrm>
            <a:off x="285840" y="3705120"/>
            <a:ext cx="43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сти  число из десятичной системы счисления в двоичную систему счисления (точность вычислений - 5 знаков после запя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7272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вод чисел из системы с основание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систему с основанием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142920" y="64296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сти  числа из десятичной системы счисления в восьмеричную и шестнадцатеричную системы счисления (точность вычислений - 5 знаков после запя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85840" y="4572000"/>
          <a:ext cx="3214440" cy="1471680"/>
        </p:xfrm>
        <a:graphic>
          <a:graphicData uri="http://schemas.openxmlformats.org/drawingml/2006/table">
            <a:tbl>
              <a:tblPr/>
              <a:tblGrid>
                <a:gridCol w="990360"/>
                <a:gridCol w="989280"/>
                <a:gridCol w="380880"/>
                <a:gridCol w="853920"/>
              </a:tblGrid>
              <a:tr h="6303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61"/>
              <p:cNvSpPr txBox="1"/>
              <p:nvPr/>
            </p:nvSpPr>
            <p:spPr>
              <a:xfrm>
                <a:off x="1428840" y="6215040"/>
                <a:ext cx="1789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5072040" y="4214880"/>
          <a:ext cx="2357640" cy="2300400"/>
        </p:xfrm>
        <a:graphic>
          <a:graphicData uri="http://schemas.openxmlformats.org/drawingml/2006/table">
            <a:tbl>
              <a:tblPr/>
              <a:tblGrid>
                <a:gridCol w="497520"/>
                <a:gridCol w="1063080"/>
                <a:gridCol w="173520"/>
                <a:gridCol w="623520"/>
              </a:tblGrid>
              <a:tr h="420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5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63"/>
              <p:cNvSpPr txBox="1"/>
              <p:nvPr/>
            </p:nvSpPr>
            <p:spPr>
              <a:xfrm>
                <a:off x="7000920" y="5357880"/>
                <a:ext cx="1928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0625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0,1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87" name=""/>
          <p:cNvGraphicFramePr/>
          <p:nvPr/>
        </p:nvGraphicFramePr>
        <p:xfrm>
          <a:off x="1635120" y="1928880"/>
          <a:ext cx="1428840" cy="1571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</a:tblGrid>
              <a:tr h="51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Rectangle 6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65"/>
              <p:cNvSpPr txBox="1"/>
              <p:nvPr/>
            </p:nvSpPr>
            <p:spPr>
              <a:xfrm>
                <a:off x="1785960" y="3714840"/>
                <a:ext cx="1220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90" name=""/>
          <p:cNvGraphicFramePr/>
          <p:nvPr/>
        </p:nvGraphicFramePr>
        <p:xfrm>
          <a:off x="5432400" y="2071800"/>
          <a:ext cx="1717560" cy="1520640"/>
        </p:xfrm>
        <a:graphic>
          <a:graphicData uri="http://schemas.openxmlformats.org/drawingml/2006/table">
            <a:tbl>
              <a:tblPr/>
              <a:tblGrid>
                <a:gridCol w="573120"/>
                <a:gridCol w="573120"/>
                <a:gridCol w="571320"/>
              </a:tblGrid>
              <a:tr h="506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Rectangle 6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7"/>
              <p:cNvSpPr txBox="1"/>
              <p:nvPr/>
            </p:nvSpPr>
            <p:spPr>
              <a:xfrm>
                <a:off x="5932440" y="3714840"/>
                <a:ext cx="1354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9T06:37:35Z</dcterms:created>
  <dc:creator>Наталия</dc:creator>
  <dc:description/>
  <dc:language>en-US</dc:language>
  <cp:lastModifiedBy>Наталия</cp:lastModifiedBy>
  <dcterms:modified xsi:type="dcterms:W3CDTF">2019-10-05T05:09:17Z</dcterms:modified>
  <cp:revision>77</cp:revision>
  <dc:subject/>
  <dc:title>Представление числовой информации с помощью систем счисления. Перевод чисел в позиционных системах счисления.</dc:title>
</cp:coreProperties>
</file>