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1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ГБОУ “ Гимназия 1048 “ Новокосино “   9 группа 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                                         2015 год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81" name="Picture 7" descr="C:\Users\home\Pictures\pp\1_1.jpg"/>
          <p:cNvPicPr/>
          <p:nvPr/>
        </p:nvPicPr>
        <p:blipFill>
          <a:blip r:embed="rId1"/>
          <a:stretch/>
        </p:blipFill>
        <p:spPr>
          <a:xfrm>
            <a:off x="719280" y="1332000"/>
            <a:ext cx="8569080" cy="6084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Нравятся мне палочки , палочки такие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Сверху деревянные , а внутри цветные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5" name="Picture 7" descr="C:\Users\home\Pictures\pp\1\10.jpg"/>
          <p:cNvPicPr/>
          <p:nvPr/>
        </p:nvPicPr>
        <p:blipFill>
          <a:blip r:embed="rId1"/>
          <a:stretch/>
        </p:blipFill>
        <p:spPr>
          <a:xfrm>
            <a:off x="647640" y="1353960"/>
            <a:ext cx="9083880" cy="6205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Настоящая картина !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Всем рассказывал Илья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8" name="Picture 6" descr="C:\Users\home\Pictures\pp\1\11.jpg"/>
          <p:cNvPicPr/>
          <p:nvPr/>
        </p:nvPicPr>
        <p:blipFill>
          <a:blip r:embed="rId1"/>
          <a:stretch/>
        </p:blipFill>
        <p:spPr>
          <a:xfrm>
            <a:off x="576360" y="1281240"/>
            <a:ext cx="9156600" cy="6278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Это все карандаши -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Рисовали от души !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11" name="Picture 7" descr="C:\Users\home\Pictures\pp\1\12.jpg"/>
          <p:cNvPicPr/>
          <p:nvPr/>
        </p:nvPicPr>
        <p:blipFill>
          <a:blip r:embed="rId1"/>
          <a:stretch/>
        </p:blipFill>
        <p:spPr>
          <a:xfrm>
            <a:off x="503280" y="1281240"/>
            <a:ext cx="9083520" cy="6278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Дети получили письмо от гусеницы. “ Дорогие дети , я собралась к вам на праздник и приготовила костюм радуги. Помогите мне одеть этот костюм.”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14" name="Picture 5" descr="C:\Users\home\Pictures\pp\1\13.jpg"/>
          <p:cNvPicPr/>
          <p:nvPr/>
        </p:nvPicPr>
        <p:blipFill>
          <a:blip r:embed="rId1"/>
          <a:stretch/>
        </p:blipFill>
        <p:spPr>
          <a:xfrm>
            <a:off x="287280" y="1500120"/>
            <a:ext cx="9302760" cy="6059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17" name="Picture 7" descr="C:\Users\home\Pictures\pp\1\14.jpg"/>
          <p:cNvPicPr/>
          <p:nvPr/>
        </p:nvPicPr>
        <p:blipFill>
          <a:blip r:embed="rId1"/>
          <a:stretch/>
        </p:blipFill>
        <p:spPr>
          <a:xfrm>
            <a:off x="360360" y="179280"/>
            <a:ext cx="5543640" cy="3891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C:\Users\home\Pictures\pp\1\142.jpg"/>
          <p:cNvPicPr/>
          <p:nvPr/>
        </p:nvPicPr>
        <p:blipFill>
          <a:blip r:embed="rId2"/>
          <a:stretch/>
        </p:blipFill>
        <p:spPr>
          <a:xfrm>
            <a:off x="4753080" y="3308400"/>
            <a:ext cx="5079960" cy="4081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Игра – эксперимент “ Цветик – семицветик “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1" name="Picture 5" descr="C:\Users\home\Pictures\pp\1\15.jpg"/>
          <p:cNvPicPr/>
          <p:nvPr/>
        </p:nvPicPr>
        <p:blipFill>
          <a:blip r:embed="rId1"/>
          <a:stretch/>
        </p:blipFill>
        <p:spPr>
          <a:xfrm>
            <a:off x="503280" y="1139760"/>
            <a:ext cx="9010440" cy="6419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Дети смешивают краски на палитре.Красный + желтый получится оранжевый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4" name="Picture 5" descr="C:\Users\home\Pictures\pp\1\16.jpg"/>
          <p:cNvPicPr/>
          <p:nvPr/>
        </p:nvPicPr>
        <p:blipFill>
          <a:blip r:embed="rId1"/>
          <a:stretch/>
        </p:blipFill>
        <p:spPr>
          <a:xfrm>
            <a:off x="576360" y="1353960"/>
            <a:ext cx="9156600" cy="6205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Синий смешаем с желтым получим зеленый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7" name="Picture 5" descr="C:\Users\home\Pictures\pp\1\17.jpg"/>
          <p:cNvPicPr/>
          <p:nvPr/>
        </p:nvPicPr>
        <p:blipFill>
          <a:blip r:embed="rId1"/>
          <a:stretch/>
        </p:blipFill>
        <p:spPr>
          <a:xfrm>
            <a:off x="647640" y="1139760"/>
            <a:ext cx="8942400" cy="6419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Если к красной краске добавить немного синей , получим фиолетовый цвет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0" name="Picture 5" descr="C:\Users\home\Pictures\pp\1\18.jpg"/>
          <p:cNvPicPr/>
          <p:nvPr/>
        </p:nvPicPr>
        <p:blipFill>
          <a:blip r:embed="rId1"/>
          <a:stretch/>
        </p:blipFill>
        <p:spPr>
          <a:xfrm>
            <a:off x="719280" y="1281240"/>
            <a:ext cx="8619840" cy="6278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К синей краске добавим белую, получится голубая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3" name="Picture 5" descr="C:\Users\home\Pictures\pp\1\19.jpg"/>
          <p:cNvPicPr/>
          <p:nvPr/>
        </p:nvPicPr>
        <p:blipFill>
          <a:blip r:embed="rId1"/>
          <a:stretch/>
        </p:blipFill>
        <p:spPr>
          <a:xfrm>
            <a:off x="576360" y="1139760"/>
            <a:ext cx="8942400" cy="6419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Проект “ Дублер “</a:t>
            </a:r>
            <a:br>
              <a:rPr sz="40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Цель : создание условий для участия родителей в образовательной деятельности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Заголовок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84" name="Picture 8" descr="C:\Users\home\Pictures\pp\2.jpg"/>
          <p:cNvPicPr/>
          <p:nvPr/>
        </p:nvPicPr>
        <p:blipFill>
          <a:blip r:embed="rId1"/>
          <a:stretch/>
        </p:blipFill>
        <p:spPr>
          <a:xfrm>
            <a:off x="1152360" y="1663560"/>
            <a:ext cx="7704360" cy="5896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Вот такой  получился Цветик – семицветик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6" name="Picture 6" descr="C:\Users\home\Pictures\pp\1\20_.jpg"/>
          <p:cNvPicPr/>
          <p:nvPr/>
        </p:nvPicPr>
        <p:blipFill>
          <a:blip r:embed="rId1"/>
          <a:stretch/>
        </p:blipFill>
        <p:spPr>
          <a:xfrm>
            <a:off x="647640" y="1474920"/>
            <a:ext cx="8640720" cy="5918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Игра “ Дорисуй – ка !”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Дорисуем желтой краской листопад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9" name="Picture 5" descr="C:\Users\home\Pictures\pp\1\21.jpg"/>
          <p:cNvPicPr/>
          <p:nvPr/>
        </p:nvPicPr>
        <p:blipFill>
          <a:blip r:embed="rId1"/>
          <a:stretch/>
        </p:blipFill>
        <p:spPr>
          <a:xfrm>
            <a:off x="503280" y="1281240"/>
            <a:ext cx="9156600" cy="6278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Конкурс “ Рисунок “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Дети рассаживаются за столы и рисуют в соответствии со стихотворением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2" name="Picture 5" descr="C:\Users\home\Pictures\pp\1\22.jpg"/>
          <p:cNvPicPr/>
          <p:nvPr/>
        </p:nvPicPr>
        <p:blipFill>
          <a:blip r:embed="rId1"/>
          <a:stretch/>
        </p:blipFill>
        <p:spPr>
          <a:xfrm>
            <a:off x="503280" y="1500120"/>
            <a:ext cx="9302760" cy="6059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Спят в коробке малыши,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Малыши – карандаши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5" name="Picture 5" descr="C:\Users\home\Pictures\pp\1\23.jpg"/>
          <p:cNvPicPr/>
          <p:nvPr/>
        </p:nvPicPr>
        <p:blipFill>
          <a:blip r:embed="rId1"/>
          <a:stretch/>
        </p:blipFill>
        <p:spPr>
          <a:xfrm>
            <a:off x="431640" y="1353960"/>
            <a:ext cx="9302760" cy="6205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Красный , желтый , голубой...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Выбирай себе любой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8" name="Picture 5" descr="C:\Users\home\Pictures\pp\1\24.jpg"/>
          <p:cNvPicPr/>
          <p:nvPr/>
        </p:nvPicPr>
        <p:blipFill>
          <a:blip r:embed="rId1"/>
          <a:stretch/>
        </p:blipFill>
        <p:spPr>
          <a:xfrm>
            <a:off x="576360" y="1353960"/>
            <a:ext cx="9083520" cy="6205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Нарисуем вместе дом ,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Будем жить с тобою в нем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1" name="Picture 6" descr="C:\Users\home\Pictures\pp\1\25.jpg"/>
          <p:cNvPicPr/>
          <p:nvPr/>
        </p:nvPicPr>
        <p:blipFill>
          <a:blip r:embed="rId1"/>
          <a:stretch/>
        </p:blipFill>
        <p:spPr>
          <a:xfrm>
            <a:off x="576360" y="1281240"/>
            <a:ext cx="9083520" cy="6278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Пусть над домом будет солнце ,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Чтоб светило к нам в оконце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4" name="Picture 7" descr="C:\Users\home\Pictures\pp\1\26.jpg"/>
          <p:cNvPicPr/>
          <p:nvPr/>
        </p:nvPicPr>
        <p:blipFill>
          <a:blip r:embed="rId1"/>
          <a:stretch/>
        </p:blipFill>
        <p:spPr>
          <a:xfrm>
            <a:off x="647640" y="1353960"/>
            <a:ext cx="9083880" cy="6205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А по небу – облака ,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К нам бегут издалека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7" name="Picture 5" descr="C:\Users\home\Pictures\pp\1\27.jpg"/>
          <p:cNvPicPr/>
          <p:nvPr/>
        </p:nvPicPr>
        <p:blipFill>
          <a:blip r:embed="rId1"/>
          <a:stretch/>
        </p:blipFill>
        <p:spPr>
          <a:xfrm>
            <a:off x="360360" y="1281240"/>
            <a:ext cx="9375840" cy="6278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А внизу ручей , трава ,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А на дереве листва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0" name="Picture 6" descr="C:\Users\home\Pictures\pp\1\28.jpg"/>
          <p:cNvPicPr/>
          <p:nvPr/>
        </p:nvPicPr>
        <p:blipFill>
          <a:blip r:embed="rId1"/>
          <a:stretch/>
        </p:blipFill>
        <p:spPr>
          <a:xfrm>
            <a:off x="431640" y="1281240"/>
            <a:ext cx="9083880" cy="6278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Этот дом , как наша дачка...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Нарисуем мы собачку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3" name="Picture 7" descr="C:\Users\home\Pictures\pp\1\29_.jpg"/>
          <p:cNvPicPr/>
          <p:nvPr/>
        </p:nvPicPr>
        <p:blipFill>
          <a:blip r:embed="rId1"/>
          <a:stretch/>
        </p:blipFill>
        <p:spPr>
          <a:xfrm>
            <a:off x="431640" y="1332000"/>
            <a:ext cx="9145800" cy="6072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Мама Вики , Гуськова Светлана ,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 организовала и провела  “ Праздник цветных карандашей “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6" name="Picture 5" descr="C:\Users\home\Pictures\pp\1\3.jpg"/>
          <p:cNvPicPr/>
          <p:nvPr/>
        </p:nvPicPr>
        <p:blipFill>
          <a:blip r:embed="rId1"/>
          <a:stretch/>
        </p:blipFill>
        <p:spPr>
          <a:xfrm>
            <a:off x="576360" y="1465200"/>
            <a:ext cx="9072360" cy="5843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Ну , а рядом... Кто здесь ? Кот ?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Показалось – бегемот..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6" name="Picture 6" descr="C:\Users\home\Pictures\pp\1\30.jpg"/>
          <p:cNvPicPr/>
          <p:nvPr/>
        </p:nvPicPr>
        <p:blipFill>
          <a:blip r:embed="rId1"/>
          <a:stretch/>
        </p:blipFill>
        <p:spPr>
          <a:xfrm>
            <a:off x="576360" y="1353960"/>
            <a:ext cx="9010440" cy="6205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Все мы здесь нарисовали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И слегка с тобой устали.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Малышей мы уберем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И с тобой играть пойдем !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9" name="Picture 5" descr="C:\Users\home\Pictures\pp\1\31.jpg"/>
          <p:cNvPicPr/>
          <p:nvPr/>
        </p:nvPicPr>
        <p:blipFill>
          <a:blip r:embed="rId1"/>
          <a:stretch/>
        </p:blipFill>
        <p:spPr>
          <a:xfrm>
            <a:off x="576360" y="1596960"/>
            <a:ext cx="9083520" cy="5962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Игра “ Бой воздушных шаров “. ( под музыку ) 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72" name="Picture 6" descr="C:\Users\home\Pictures\pp\1\32.jpg"/>
          <p:cNvPicPr/>
          <p:nvPr/>
        </p:nvPicPr>
        <p:blipFill>
          <a:blip r:embed="rId1"/>
          <a:stretch/>
        </p:blipFill>
        <p:spPr>
          <a:xfrm>
            <a:off x="431640" y="1066680"/>
            <a:ext cx="9230040" cy="6492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Умейте рисовать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И сотворить руками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Все то, что может радовать друзей !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75" name="Picture 5" descr="C:\Users\home\Pictures\pp\1\33.jpg"/>
          <p:cNvPicPr/>
          <p:nvPr/>
        </p:nvPicPr>
        <p:blipFill>
          <a:blip r:embed="rId1"/>
          <a:stretch/>
        </p:blipFill>
        <p:spPr>
          <a:xfrm>
            <a:off x="360360" y="1530360"/>
            <a:ext cx="9302760" cy="6029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78" name="Picture 6" descr="C:\Users\home\Pictures\pp\1\34_.jpg"/>
          <p:cNvPicPr/>
          <p:nvPr/>
        </p:nvPicPr>
        <p:blipFill>
          <a:blip r:embed="rId1"/>
          <a:stretch/>
        </p:blipFill>
        <p:spPr>
          <a:xfrm>
            <a:off x="360360" y="250920"/>
            <a:ext cx="9433080" cy="7075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43920"/>
            <a:ext cx="860904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Мы позовем  на праздник наш -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Разноцветный карандаш !      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Дружно крикнем : раз, два , три ,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В гости карандаш приди !     </a:t>
            </a:r>
            <a:br>
              <a:rPr sz="2400"/>
            </a:b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8" name="Picture 6" descr="C:\Users\home\Pictures\pp\1\4.jpg"/>
          <p:cNvPicPr/>
          <p:nvPr/>
        </p:nvPicPr>
        <p:blipFill>
          <a:blip r:embed="rId1"/>
          <a:stretch/>
        </p:blipFill>
        <p:spPr>
          <a:xfrm>
            <a:off x="1008000" y="1500120"/>
            <a:ext cx="8425080" cy="6059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43920"/>
            <a:ext cx="860904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Главный карандаш : Я – самый Главный Карандаш ,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Тяни рот до ушей. Мы начинаем праздник наш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Цветных карандашей. И пусть возьмут карандаши 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Художники подряд , и пусть рисуют малыши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Сегодня , что хотят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90" name="Picture 4" descr="C:\Users\home\Pictures\pp\1\5.jpg"/>
          <p:cNvPicPr/>
          <p:nvPr/>
        </p:nvPicPr>
        <p:blipFill>
          <a:blip r:embed="rId1"/>
          <a:stretch/>
        </p:blipFill>
        <p:spPr>
          <a:xfrm>
            <a:off x="782640" y="1768320"/>
            <a:ext cx="8650440" cy="5791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Конкурс “ Я люблю рисовать.”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Главный Карандаш приглашает детей к мольберту.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Мир хотим нарисовать, как сумели увидать!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9000" y="2376000"/>
            <a:ext cx="847728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Развитие ситуации до сегодняшнего дня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Важная информация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Прогнозы, которые оказались неверны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Прогнозы, которые оправдались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3" name="Picture 6" descr="C:\Users\home\Pictures\pp\1\6.jpg"/>
          <p:cNvPicPr/>
          <p:nvPr/>
        </p:nvPicPr>
        <p:blipFill>
          <a:blip r:embed="rId1"/>
          <a:stretch/>
        </p:blipFill>
        <p:spPr>
          <a:xfrm>
            <a:off x="503280" y="1530360"/>
            <a:ext cx="9156600" cy="6029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Вот зеленый – будет травка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Обозначьте альтернативные стратегии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Опишите “за” и “против” каждой стратегии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Предоставьте прогноз затрат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6" name="Picture 5" descr="C:\Users\home\Pictures\pp\1\7.jpg"/>
          <p:cNvPicPr/>
          <p:nvPr/>
        </p:nvPicPr>
        <p:blipFill>
          <a:blip r:embed="rId1"/>
          <a:stretch/>
        </p:blipFill>
        <p:spPr>
          <a:xfrm>
            <a:off x="431640" y="1139760"/>
            <a:ext cx="9448920" cy="6419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Желтым – солнце , синим – лавка ,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Красным – шарик , черным – кот ,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Серым – в небе самолет,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Предложите одну или несколько стратегий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Дайте обзор ожидаемых результатов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Обозначьте дальнейшие шаги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Распределите различные задачи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9" name="Picture 5" descr="C:\Users\home\Pictures\pp\1\8.jpg"/>
          <p:cNvPicPr/>
          <p:nvPr/>
        </p:nvPicPr>
        <p:blipFill>
          <a:blip r:embed="rId1"/>
          <a:stretch/>
        </p:blipFill>
        <p:spPr>
          <a:xfrm>
            <a:off x="719280" y="1427040"/>
            <a:ext cx="9010440" cy="6132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Солнце , горы и дома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Маму с розой у окна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2" name="Picture 6" descr="C:\Users\home\Pictures\pp\1\9.jpg"/>
          <p:cNvPicPr/>
          <p:nvPr/>
        </p:nvPicPr>
        <p:blipFill>
          <a:blip r:embed="rId1"/>
          <a:stretch/>
        </p:blipFill>
        <p:spPr>
          <a:xfrm>
            <a:off x="287280" y="1281240"/>
            <a:ext cx="9448920" cy="6278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7T09:31:46Z</dcterms:created>
  <dc:creator>Sergey Volkov</dc:creator>
  <dc:description>Предложение пути развития и альтернатив, рекомендации по использованию той или другой стратегии</dc:description>
  <dc:language>en-US</dc:language>
  <cp:lastModifiedBy>home</cp:lastModifiedBy>
  <dcterms:modified xsi:type="dcterms:W3CDTF">2019-10-12T11:51:35Z</dcterms:modified>
  <cp:revision>13</cp:revision>
  <dc:subject/>
  <dc:title>Предложение стратегии</dc:title>
</cp:coreProperties>
</file>