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56F-D084-4593-AFC0-E353282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4BE-BA90-4B8E-965A-F3730F2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16B-A230-4B18-9B62-815AD4FA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F15-6E3F-4635-8266-9131209D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3BF-5826-43C1-A0B4-4342490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2D0-F769-4592-9F61-317B159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87C-9F92-4CE1-95E9-A86073A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578-6B8D-4508-8C6A-8FDCE92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5D0-8D0C-4959-9ACF-0F19EFA1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45C-E0A1-4165-A11B-2FBF5C8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BE8-C897-4CC8-B09D-B478063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224-DCA0-40FD-B26C-0113908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B740-8E23-484F-8349-376F3B84EC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gansk-school6.narod.ru/p46aa1.html" TargetMode="External"/><Relationship Id="rId2" Type="http://schemas.openxmlformats.org/officeDocument/2006/relationships/hyperlink" Target="http://www.school2100.ru/upload/iblock/dd2/dd230f32b1828f9aaf5b2e700890e160.pdf" TargetMode="External"/><Relationship Id="rId3" Type="http://schemas.openxmlformats.org/officeDocument/2006/relationships/hyperlink" Target="http://cis.rudn.ru/document/show.action;jsessionid=D629D93F976C2B7B85DBDEFC0E0B9608?document.id=1554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Формирование универсальных учебных действий на уроках иностранного язы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стема заданий на примере УМК «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rizont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4000" y="4797360"/>
            <a:ext cx="648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втор презентации Позднякова З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чётный работник общего образов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немецкого языка МАОУ Домодедовская гимназия №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285840"/>
            <a:ext cx="7632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ОУ Домодедовская гимназия №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9"/>
          <p:cNvSpPr/>
          <p:nvPr/>
        </p:nvSpPr>
        <p:spPr>
          <a:xfrm>
            <a:off x="1258920" y="148428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редметные результа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А. В коммуникативной сфере (т.е. владении вторым ИЯ как средством общения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Б. В познавательной сфере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В. В ценностно-ориентационной сфере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Г. В эстет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Д. В  трудовой сф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Е. В физической сф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редполагаемые результаты обучения 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9"/>
          <p:cNvSpPr/>
          <p:nvPr/>
        </p:nvSpPr>
        <p:spPr>
          <a:xfrm>
            <a:off x="61128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стигаются че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одержание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использование ИК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наличие текстов разных жанров и обилие заданий на разные типы чт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опоставление явлений родного и изучаемого язы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знакомство с явлениями окружающего мира на немецком язы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Метапредметные результ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9"/>
          <p:cNvSpPr/>
          <p:nvPr/>
        </p:nvSpPr>
        <p:spPr>
          <a:xfrm>
            <a:off x="468360" y="1700280"/>
            <a:ext cx="822960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МК вход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грамм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чебни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абочая тетрадь с 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нига для учител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листы (на сайте скачивания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айт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ww.prosv.ru/umk/horizo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ные задания (пособие готовится к выпуску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9"/>
          <p:cNvSpPr/>
          <p:nvPr/>
        </p:nvSpPr>
        <p:spPr>
          <a:xfrm>
            <a:off x="1258920" y="1700280"/>
            <a:ext cx="69134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ики для 5 и 6  классов состоят  и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глав, семи страноведческих блоков, «Маленькой перемены», «Большой перемены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оки повтор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ая глава занимает 8 страниц. Коллаж на первой странице каждой темы вводит в содержание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9"/>
          <p:cNvSpPr/>
          <p:nvPr/>
        </p:nvSpPr>
        <p:spPr>
          <a:xfrm>
            <a:off x="1258920" y="1700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9640" y="189000"/>
            <a:ext cx="8229600" cy="100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C:\Users\1\Pictures\2012-08-23\001.jpg"/>
          <p:cNvPicPr/>
          <p:nvPr/>
        </p:nvPicPr>
        <p:blipFill>
          <a:blip r:embed="rId1"/>
          <a:stretch/>
        </p:blipFill>
        <p:spPr>
          <a:xfrm rot="21236400">
            <a:off x="546120" y="1730520"/>
            <a:ext cx="2808360" cy="362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1\Pictures\2012-08-23\002.jpg"/>
          <p:cNvPicPr/>
          <p:nvPr/>
        </p:nvPicPr>
        <p:blipFill>
          <a:blip r:embed="rId2"/>
          <a:stretch/>
        </p:blipFill>
        <p:spPr>
          <a:xfrm>
            <a:off x="3924360" y="1319040"/>
            <a:ext cx="2808360" cy="333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1\Pictures\2012-08-23\003.jpg"/>
          <p:cNvPicPr/>
          <p:nvPr/>
        </p:nvPicPr>
        <p:blipFill>
          <a:blip r:embed="rId3"/>
          <a:stretch/>
        </p:blipFill>
        <p:spPr>
          <a:xfrm rot="784200">
            <a:off x="4863600" y="3992400"/>
            <a:ext cx="359100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9"/>
          <p:cNvSpPr/>
          <p:nvPr/>
        </p:nvSpPr>
        <p:spPr>
          <a:xfrm>
            <a:off x="1266840" y="1628640"/>
            <a:ext cx="6697800" cy="39333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Inhalt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1.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Kennenlernen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2. Meine Klasse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      Мой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3. Tiere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    Животные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4. Mein Schultag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     День в шк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5. Hobbys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                Хобб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6. Meine Familie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      Моя сем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7. Was kostet das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   Сколько это стои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95280" y="287280"/>
            <a:ext cx="8229600" cy="100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9"/>
          <p:cNvSpPr/>
          <p:nvPr/>
        </p:nvSpPr>
        <p:spPr>
          <a:xfrm>
            <a:off x="1258920" y="1700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9640" y="189000"/>
            <a:ext cx="8229600" cy="100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УМК «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HORIZONTE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440" y="1483920"/>
            <a:ext cx="81342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совершенствование приёмов работы с 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C:\Users\1\Pictures\2012-08-23\004.jpg"/>
          <p:cNvPicPr/>
          <p:nvPr/>
        </p:nvPicPr>
        <p:blipFill>
          <a:blip r:embed="rId1"/>
          <a:stretch/>
        </p:blipFill>
        <p:spPr>
          <a:xfrm>
            <a:off x="755640" y="2852640"/>
            <a:ext cx="7297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УМК «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совершенствование приёмов работы с 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учебник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I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тр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C:\Users\1\Documents\Гимназия\ММО\ММО-формирование УУД...Горзонты\Слайды для доклада на ММО\чтение 001.jpg"/>
          <p:cNvPicPr/>
          <p:nvPr/>
        </p:nvPicPr>
        <p:blipFill>
          <a:blip r:embed="rId1"/>
          <a:stretch/>
        </p:blipFill>
        <p:spPr>
          <a:xfrm>
            <a:off x="900000" y="357336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ть самоконтроль и самооц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раздел в рабочей тетра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nen Schritt weiter – was kann ich schon jetzt?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1\Pictures\2012-08-23\005.jpg"/>
          <p:cNvPicPr/>
          <p:nvPr/>
        </p:nvPicPr>
        <p:blipFill>
          <a:blip r:embed="rId1"/>
          <a:stretch/>
        </p:blipFill>
        <p:spPr>
          <a:xfrm>
            <a:off x="2700360" y="3500280"/>
            <a:ext cx="374328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разнообразными приёмами раскрытия значения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работа с антони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1\Documents\Гимназия\ММО\ММО-формирование УУД...Горзонты\Слайды для доклада на ММО\Работа с антонимами 001.jpg"/>
          <p:cNvPicPr/>
          <p:nvPr/>
        </p:nvPicPr>
        <p:blipFill>
          <a:blip r:embed="rId1"/>
          <a:stretch/>
        </p:blipFill>
        <p:spPr>
          <a:xfrm>
            <a:off x="1116000" y="3933720"/>
            <a:ext cx="7416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863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Формирование УУД на уроках ИЯ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9280" y="1855800"/>
            <a:ext cx="80643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Задачи современного преподавателя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не преподносить знания учащимся, а создавать мотивацию и сформировать комплекс умений учить самого себ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коммуникативной и социокультурной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умение начинать и завершать разговор,используя речевые клиш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C:\Users\1\Documents\Гимназия\ММО\ММО-формирование УУД...Горзонты\Слайды для доклада на ММО\Умение завершать разговор 001.jpg"/>
          <p:cNvPicPr/>
          <p:nvPr/>
        </p:nvPicPr>
        <p:blipFill>
          <a:blip r:embed="rId1"/>
          <a:stretch/>
        </p:blipFill>
        <p:spPr>
          <a:xfrm>
            <a:off x="3635280" y="3795840"/>
            <a:ext cx="28814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 учащихся УУ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коммуникативной и социокультурной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 иметь представление об особенностях жизни, быта, культуры стран изучаемого я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C:\Users\1\Documents\Гимназия\ММО\ММО-формирование УУД...Горзонты\Слайды для доклада на ММО\Знание реалий стран изучаемого языка 001.jpg"/>
          <p:cNvPicPr/>
          <p:nvPr/>
        </p:nvPicPr>
        <p:blipFill>
          <a:blip r:embed="rId1"/>
          <a:stretch/>
        </p:blipFill>
        <p:spPr>
          <a:xfrm>
            <a:off x="2987640" y="3645000"/>
            <a:ext cx="360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о., в УМК «Горизонты» представлен широкий спектр заданий, направленных на развитие различных умений и навыков, соответствующих современным требов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К для 5 и 6 класса позволяют выйти на уровень А1 европейских языковых компетен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imHei"/>
                <a:ea typeface="SimHei"/>
              </a:rPr>
              <a:t>УМК»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HORIZONTE</a:t>
            </a:r>
            <a:r>
              <a:rPr b="0" lang="ru-RU" sz="3200" spc="-1" strike="noStrike">
                <a:solidFill>
                  <a:srgbClr val="000000"/>
                </a:solidFill>
                <a:latin typeface="SimHei"/>
                <a:ea typeface="SimHe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Users\1\Documents\Гимназия\ММО\ММО-формирование УУД...Горзонты\Слайды для доклада на ММО\Требования к уровню А1.jpg"/>
          <p:cNvPicPr/>
          <p:nvPr/>
        </p:nvPicPr>
        <p:blipFill>
          <a:blip r:embed="rId1"/>
          <a:stretch/>
        </p:blipFill>
        <p:spPr>
          <a:xfrm>
            <a:off x="539640" y="155736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К «Горизонты», М., 2012г., изд. «Просвещ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prosv.ru/umk/horizo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демия АйТи. Коротенков Ю.Г. Учебное пособие «Информационная образовательная среда основной школы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or.it.ru/eor/file.php/1/metod_material/Uchebnoe_posobie_IOS.pd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tandart.edu.ru/catalog.aspx?CatalogId=27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gansk-school6.narod.ru/p46aa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chool2100.ru/upload/iblock/dd2/dd230f32b1828f9aaf5b2e700890e160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is.rudn.ru/document/show.action;jsessionid=D629D93F976C2B7B85DBDEFC0E0B9608?document.id=15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йл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esterweg,_Friedrich_Adolph_Wilhelm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772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широком смысле УУД – это саморазвитие и самосовершенствование  путём сознательного и  активного присвоения нового социального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86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855800"/>
            <a:ext cx="70311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УД в психологическом значении – это совокупность действий обучающегося, обеспечивающих его культурную идентично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оциальную компетентность, толерантность, способность к самостоятельному усвоению новых знаний  умений , включая организацию эт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9"/>
          <p:cNvSpPr/>
          <p:nvPr/>
        </p:nvSpPr>
        <p:spPr>
          <a:xfrm>
            <a:off x="1258920" y="1700280"/>
            <a:ext cx="6000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На уроках ИЯ ученику следует для себя найти ответы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зачем я учу иностранный язы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зачем я выполняю то или иное упражнение (слушаю, читаю, пишу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зачем повторяю дома пройденное на уро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чему научился на уро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00040" y="142920"/>
            <a:ext cx="8229600" cy="90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Формирование УУ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9"/>
          <p:cNvSpPr/>
          <p:nvPr/>
        </p:nvSpPr>
        <p:spPr>
          <a:xfrm>
            <a:off x="1258920" y="1700280"/>
            <a:ext cx="6481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иноязычной компетенции в совокупности её составляющи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чевой,          языков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оциокульту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омпенсаторн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чебно-познавате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Цели обучения ИЯ согласно ФГОС второго 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  <a:ea typeface="Arial"/>
              </a:rPr>
              <a:t>покол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9"/>
          <p:cNvSpPr/>
          <p:nvPr/>
        </p:nvSpPr>
        <p:spPr>
          <a:xfrm>
            <a:off x="1258920" y="1700280"/>
            <a:ext cx="600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- предметные результат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- личност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- метапредмет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ahoma"/>
                <a:ea typeface="Arial"/>
              </a:rPr>
              <a:t>Предполагаемые результаты обучения 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9"/>
          <p:cNvSpPr/>
          <p:nvPr/>
        </p:nvSpPr>
        <p:spPr>
          <a:xfrm>
            <a:off x="611280" y="1477800"/>
            <a:ext cx="811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ичностные результат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формирование мотивации изучения 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стремление к совершенствованию собственной речево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формирование речевой компетен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формирование общекультурной и этнической иденти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стремление к лучшему сознанию культуры своего народа и готовность содействовать ознакомлению с ней представителей других стр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толерантное отношение к проявлениям ино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готовность отстаивать национальные ценности, свою гражданскую пози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редполагаемые результаты обучения 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9"/>
          <p:cNvSpPr/>
          <p:nvPr/>
        </p:nvSpPr>
        <p:spPr>
          <a:xfrm>
            <a:off x="1258920" y="148428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етапредметные результа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умения планировать своё речевое повед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коммуникативной компетен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мение чётко определять границы знаемого и незнаемо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мение ставить перед собой цели и определять задач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00040" y="142920"/>
            <a:ext cx="822960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редполагаемые результаты обучения 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16:22:41Z</dcterms:created>
  <dc:creator>Зоя</dc:creator>
  <dc:description/>
  <dc:language>en-US</dc:language>
  <cp:lastModifiedBy>1</cp:lastModifiedBy>
  <dcterms:modified xsi:type="dcterms:W3CDTF">2012-09-02T13:30:49Z</dcterms:modified>
  <cp:revision>28</cp:revision>
  <dc:subject/>
  <dc:title>«Формирование универсальных учебных действий на уроках иностранного языка. Система заданий на примере УМК «Horizonte»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