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C3B-7A02-4463-9A3B-8101F46E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7A1-09B6-407A-802A-C01636CA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6A6-E41C-4267-9737-3D78E4A8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EDB-8F10-4D4C-89B7-8379B840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FDF-9E20-43F0-86E2-CCF2C24D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D55-CB26-4DC6-98CD-BCEAD314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C5E-EEEF-4723-89C6-ADDDB244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15E-7A0B-44C6-91E3-9565BAA0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401-3876-48FA-9D2E-D841F3A3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730-D2AC-42AA-8F1A-3ABD9B0D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64C-A2A9-4CF9-BE86-C8C12296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3C9-D160-4EEE-8D67-49529F99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25F0-5354-4AEC-A04D-A8D0687A1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я числительное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Das Num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оличественные числ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e Kardinalza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Ч. обозначают количество предметов и отвечают на вопро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 viele?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ительные от 1 до 12, а также 100 и 1000 являются простыми, все остальные слож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жные числительные пишу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rei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ze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zwanz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under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hsundvierz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ительные  0 –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0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s                        11-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 - zw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zwo)             12-zw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 - dr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 - v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 - 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- 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Arial"/>
              </a:rPr>
              <a:t>c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 - </a:t>
            </a: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008080"/>
                </a:solidFill>
                <a:latin typeface="Arial"/>
              </a:rPr>
              <a:t>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 - a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c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 - n</a:t>
            </a: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eu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- </a:t>
            </a:r>
            <a:r>
              <a:rPr b="1" i="1" lang="en-US" sz="2000" spc="-1" strike="noStrike">
                <a:solidFill>
                  <a:srgbClr val="0000cc"/>
                </a:solidFill>
                <a:latin typeface="Arial Black"/>
              </a:rPr>
              <a:t>z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Arial Black"/>
              </a:rPr>
              <a:t>eh</a:t>
            </a:r>
            <a:r>
              <a:rPr b="1" i="1" lang="en-US" sz="2000" spc="-1" strike="noStrike">
                <a:solidFill>
                  <a:srgbClr val="0000cc"/>
                </a:solidFill>
                <a:latin typeface="Arial Black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я числительное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Das Num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3960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HN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=  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e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us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zeh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ist   drei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ze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=  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r  plus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zeh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ist   vier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ze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lus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zeh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ist   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ze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80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HREIBT AU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 – drei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 – vier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– sech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– sieb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 – acht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 -  neun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я числительное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Das Num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Числительные 20-90 (суф.-</a:t>
            </a: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zig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 -  zwan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z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-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ei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β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-   vier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z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-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zig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27640" y="2492280"/>
            <a:ext cx="4402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h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zig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ень теряет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 - sieb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z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ень теря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– acht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z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 - neun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z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мя числительное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Das Nume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оличественных числительных от 21 до 99 (кроме круглых чисел) сначала называются единицы, далее союз «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затем десятки. Они образуются 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ей мод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(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ϋ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n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zwan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25 (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ϋ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nf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zwanzig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we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drei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β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wei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drei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β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i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re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ier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rei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ier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ier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f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ϋ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nf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i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f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ϋ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nfzi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hzig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(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h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chs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eb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chs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eb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ebe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t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=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ebe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cht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h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eun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ht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eun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мя числительное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Das Nume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Сотни и тысячи образуются по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lain" startAt="1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ins +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under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inhundert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ff9900"/>
                </a:solidFill>
                <a:latin typeface="Arial"/>
              </a:rPr>
              <a:t>(корень теряет –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-</a:t>
            </a:r>
            <a:r>
              <a:rPr b="0" i="1" lang="ru-RU" sz="1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lain" startAt="2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zwei +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undert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zwei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lain" startAt="3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rei +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under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reihund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4390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 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ins +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ause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ein)tau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2 000 zwei + tausend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zweitau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 000  drei + tausend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reitau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ительные  101 – 999 999 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У количественных числительных от 101 до 999 999 999 и далее сначала называют более крупные числа: миллионы, тысячи, сотни. Две последние цифры читаются по правилу двузначных числительных ,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101 -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hunder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18 – hundertacht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80 – hundertacht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999 –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neunhundert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neunundneun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8 888 -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chttausend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achthundert</a:t>
            </a:r>
            <a:r>
              <a:rPr b="0" lang="en-US" sz="2400" spc="-1" strike="noStrike" u="sng">
                <a:solidFill>
                  <a:srgbClr val="666633"/>
                </a:solidFill>
                <a:uFillTx/>
                <a:latin typeface="Arial"/>
              </a:rPr>
              <a:t>achtundacht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бозначение д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значении года употребляются количественные числите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т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0 года называются 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ни, а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ыся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00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t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58 – dreizehn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und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tund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5 – neunzehn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und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undvier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e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au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1 - zwe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au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01:23:56Z</dcterms:created>
  <dc:creator>Зоя</dc:creator>
  <dc:description/>
  <dc:language>en-US</dc:language>
  <cp:lastModifiedBy>Зоя</cp:lastModifiedBy>
  <dcterms:modified xsi:type="dcterms:W3CDTF">2012-08-05T15:30:25Z</dcterms:modified>
  <cp:revision>12</cp:revision>
  <dc:subject/>
  <dc:title>Имя числительное/ Das Numera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