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5D7-017A-4A56-A69C-D599F29F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956-93A6-45D0-BB06-F12CB3EC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B8E-9023-43FA-A59B-5AE70A82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102-B3F9-4F28-BB67-0AE90ADA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804-EEA4-4773-AEAD-0F373E7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33B-58A3-4566-962C-703ED33A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A13-40E0-4E25-A3C7-D821EC4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D4C-E77B-46CE-B613-81DFA62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59C-A1DF-4922-B120-05F7A739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12B-5737-4B7A-ADC9-FA185D6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508-FFCE-4B78-BE1F-424B1DD1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AA6-0477-4548-8DC5-F07A876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EA8B34-3280-4AEC-B0CB-81F8946B3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АРШ  ПОБЕД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47640" y="1963800"/>
            <a:ext cx="8866080" cy="493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оин отважный берет города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мелым, бесстрашным буду всегда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38120" y="1368360"/>
            <a:ext cx="941868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Есть у нас танки, есть пулеметы !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Есть у нас пушки и самолеты !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удем врагов мы бесстрашно крушить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Чтобы Отчизну освободить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57360" y="1728720"/>
            <a:ext cx="8847000" cy="517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сенью 1941 года враги подошли к Москве. Командующим  обороной  был назначен маршал Георгий  Константинович  Жуков  - талантливый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пытный и смелый полководец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49440" y="1728720"/>
            <a:ext cx="886284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олдаты под его командованием совершили подвиг, они отбросили фашистов от Москвы, не дали им захватить и разрушить столицу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41240" y="1440000"/>
            <a:ext cx="87724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ойна. Жестокая война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е первый месяц длится..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Жизнь, как струна, напряжена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 опасности столица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741240" y="1609560"/>
            <a:ext cx="8772480" cy="558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Мы отстояли столицу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 тот 41-й год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мелого пуля боится !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мелого штык не берет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09760" y="1655640"/>
            <a:ext cx="913104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о война не закончилась ! Много было еще тяжелых,кровопролитных сражений. Перелом в войне наступил после Сталинградской битвы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750960" y="1440000"/>
            <a:ext cx="875340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ыл в городе Сталинграде дом Павлова, многие его защитники погибли в боях, но дом устоял и не сдался врагам. Домом Павлова это здание называли по фамилии сержанта, защищавшего его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34960" y="160812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Дом Павлова в Сталинграде чудом лишь уцелел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 огненном водопаде, в вихре смертельных стрел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омбы рвались и снаряды,земля превратилась в ад !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лышались гул кананады, взрывы мин и гранат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757080" y="1963800"/>
            <a:ext cx="8740800" cy="493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43920"/>
            <a:ext cx="860904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Многих здесь смерть скосила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Русских отважных солдат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о с неослабною силой в доме строчил автомат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Падал солдат, поднимался, на смену его — другой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Дом Павлова не сдавался и выиграл трудный бо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47640" y="1963800"/>
            <a:ext cx="8866080" cy="5452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егодня мы празднуем День Победы нашего народа в Великой Отечественной войне. В этот день фашистская Германия признала свое полное поражение, а наш народ победил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52320" y="1608120"/>
            <a:ext cx="8856720" cy="52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Четыре с половиной года продолжалась Великая Отечественная война. Наши солдаты храбро сражались в боях. Те, кто оставался в тылу, работали на заводах, фабриках, делали оружи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39640" y="1608120"/>
            <a:ext cx="9134640" cy="563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36400" y="282600"/>
            <a:ext cx="9141120" cy="6702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аконец враг был сломлен ! Воины освободили от фашистских захватчиков не только нашу Отчизну, но и многие страны Европы. Они дошли до Берлина и водрузили на Рейхстаге красный флаг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57360" y="1657440"/>
            <a:ext cx="8980200" cy="532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Мы водрузили на Рейхстаг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аш советский красный флаг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Этот флаг над миром реет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н сверкает и алеет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50960" y="1652760"/>
            <a:ext cx="8753400" cy="540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Говорит всем людям флаг :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« Побежден жестокий враг !»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85720" y="1440000"/>
            <a:ext cx="905364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Парад  Победы  на Красной площад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752400" y="1544760"/>
            <a:ext cx="875052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43920"/>
            <a:ext cx="860904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9 Мая — в День Победы нашего народа в Великой Отечественной войне на улицы и площади городов выходят тысячи людей. Люди радуются Великой Победе и печалятся о потере близких и дорогих люде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49160" y="1782720"/>
            <a:ext cx="8756640" cy="511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Еще тогда нас не было на свете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Когда гремел салют из края в край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олдаты подарили вы планете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еликий Май, победный Май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68280" y="1608120"/>
            <a:ext cx="9272520" cy="544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Еще тогда нас не было на свете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Когда с Победой вы домой пришли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олдаты Мая, слава вам навеки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т всей земли, от всей земли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41240" y="1608120"/>
            <a:ext cx="8772480" cy="52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лагодарим, солдаты, вас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жизнь, за детство и весну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тишину,за мирный дом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мир, в котором мы живем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87280" y="1728720"/>
            <a:ext cx="950436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о победа далась очень дорогой ценой — погибли миллионы солдат. Имен многих из них мы не знаем. Но мы чтим память тех, кто отстоял нашу Отчизну от фашистских захватчиков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10061640" cy="551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43920"/>
            <a:ext cx="860904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то, что есть сейчас у нас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каждый наш счастливый час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 то, что солнце светит нам, -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пасибо доблестным солдатам -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ашим дедам и отцам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87280" y="1782720"/>
            <a:ext cx="9504360" cy="5722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о многих городах горит Вечный огонь, мы возлагаем к нему цветы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икто не забыт, ничто не забыто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65040" y="1440000"/>
            <a:ext cx="935064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Имя твое неизвестно, солдат!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ыл ты отец или сын, или брат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вали тебя Иван иль Василий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Жизнь ты отдал во спасенье Росси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744480" y="1655640"/>
            <a:ext cx="876636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ами твой подвиг, солдат, не забыт -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ечный огонь на могиле горит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везды салюта в небо летят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Помним тебя, Неизвестный Солдат !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50960" y="1655640"/>
            <a:ext cx="8753400" cy="5681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емецкие захватчики напали на нашу страну неожиданно, без объявления войны, 22 июня 1941 года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368360"/>
            <a:ext cx="6624720" cy="417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4832280" y="3743280"/>
            <a:ext cx="524052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Каждый день эшелоны увозили красноармейцев на фронт. Родные и близкие провожали их со слезами на глазах, но с верой в победу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09760" y="1790640"/>
            <a:ext cx="9131040" cy="526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9040" cy="1390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ы не плачь, сестренка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Мама, не рыдай,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Я вернусь с победой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 наш родимый край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54200" y="1728720"/>
            <a:ext cx="874692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08:04:42Z</dcterms:created>
  <dc:creator>Sergey Volkov</dc:creator>
  <dc:description/>
  <dc:language>en-US</dc:language>
  <cp:lastModifiedBy>home</cp:lastModifiedBy>
  <dcterms:modified xsi:type="dcterms:W3CDTF">2019-10-12T13:18:55Z</dcterms:modified>
  <cp:revision>8</cp:revision>
  <dc:subject/>
  <dc:title>МАРШ  ПОБЕДЫ</dc:title>
</cp:coreProperties>
</file>