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0078-8C35-4963-9563-F8393892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8147-EB90-4C1B-8CCE-32ED9D00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3068-BA85-44B0-8006-145488A9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478A-75FF-413A-BFEF-EBB5DCFF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A49D-E1E1-4E5F-A080-5BF46487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27FE-D991-4B48-9265-7874CA67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60BF-03C9-4A03-BD9D-1152C28C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2E50-B9CB-4BCD-AE9B-8D0C61E6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E6CE-1547-48A5-9802-F282CCB7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A277-BC81-4742-8D8A-89B02EE2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0473-5A09-48FB-91E2-B1F5C01C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58AC-8514-4515-8403-4BCA4A63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EAC4-8AB5-4DEA-B5A6-1DC40EF8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A813-67F6-4495-B768-0FC9559B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A2C2-BA82-4BCC-A7B2-6E2628D1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082E-BCB8-473A-901F-02682BDC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90F7-067E-4FBB-8F37-2BDA038D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F8EC-748E-4463-8411-8CC34583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BBDB-57DC-4BFF-960D-15E2A7D1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DA91-C730-403D-A2B2-45B9041C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4B3C-9DC8-4FDC-906A-11B8A544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D933-3A2B-47EF-BAEC-748A55F7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C6BE-5769-4D40-940E-4C7F813E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847F-A5A4-476D-9E6C-B13E6582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7AE3-BBFC-4BBB-8BD2-8C35387FE5F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19F1-F714-4A88-B0DF-7A6AFFAC6AD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«Введение в мир культуры Омского Прииртышья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Содержательная линия «Художники Омского Прииртышья»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5" descr="Ð¡ÐµÐ»Ð¾ Ð¼Ð¾ÐµÐ¹ ÑÐ½Ð¾ÑÑÐ¸"/>
          <p:cNvPicPr/>
          <p:nvPr/>
        </p:nvPicPr>
        <p:blipFill>
          <a:blip r:embed="rId1"/>
          <a:stretch/>
        </p:blipFill>
        <p:spPr>
          <a:xfrm>
            <a:off x="4191120" y="2971800"/>
            <a:ext cx="5105160" cy="3535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ÐÐµÑÐ¾ÑÐ¿Ð»Ð°Ð² Ð½Ð° ÐÑÑÑÑÐµ"/>
          <p:cNvPicPr/>
          <p:nvPr/>
        </p:nvPicPr>
        <p:blipFill>
          <a:blip r:embed="rId2"/>
          <a:stretch/>
        </p:blipFill>
        <p:spPr>
          <a:xfrm>
            <a:off x="0" y="228600"/>
            <a:ext cx="4648320" cy="3219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ÐÑÐ¸Ð¸ÑÑÑÑÑÐµ"/>
          <p:cNvPicPr/>
          <p:nvPr/>
        </p:nvPicPr>
        <p:blipFill>
          <a:blip r:embed="rId3"/>
          <a:stretch/>
        </p:blipFill>
        <p:spPr>
          <a:xfrm>
            <a:off x="0" y="3581280"/>
            <a:ext cx="4191120" cy="2901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ÐÐ°Ð¼ÑÑÐ½Ð¸Ðº ÐÑÐ¼Ð°ÐºÑ"/>
          <p:cNvPicPr/>
          <p:nvPr/>
        </p:nvPicPr>
        <p:blipFill>
          <a:blip r:embed="rId4"/>
          <a:stretch/>
        </p:blipFill>
        <p:spPr>
          <a:xfrm>
            <a:off x="4724280" y="0"/>
            <a:ext cx="426744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5" descr="konek-gorbunok-1"/>
          <p:cNvPicPr/>
          <p:nvPr/>
        </p:nvPicPr>
        <p:blipFill>
          <a:blip r:embed="rId1"/>
          <a:stretch/>
        </p:blipFill>
        <p:spPr>
          <a:xfrm>
            <a:off x="533520" y="990720"/>
            <a:ext cx="3639960" cy="5257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konek-gorbunok-2"/>
          <p:cNvPicPr/>
          <p:nvPr/>
        </p:nvPicPr>
        <p:blipFill>
          <a:blip r:embed="rId2"/>
          <a:stretch/>
        </p:blipFill>
        <p:spPr>
          <a:xfrm>
            <a:off x="4467240" y="1219320"/>
            <a:ext cx="33750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4267440" cy="2842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4343400" y="457200"/>
            <a:ext cx="4572000" cy="3046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3"/>
          <a:stretch/>
        </p:blipFill>
        <p:spPr>
          <a:xfrm>
            <a:off x="457200" y="3733920"/>
            <a:ext cx="3733920" cy="2489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4"/>
          <a:stretch/>
        </p:blipFill>
        <p:spPr>
          <a:xfrm>
            <a:off x="4800600" y="3352680"/>
            <a:ext cx="2629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держательная линия «Художники омского Прииртышья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800440"/>
            <a:ext cx="755028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Цель: формирование начальных представлений об архитектуре, театрах, музеях, изобразительном искусстве Омского Прииртышья и положительной мотивации к сохранению национальных и региональных традици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Познакомить детей с объектами промышленно-гражданской, храмовой архитектуры Омского Прииртышья; театрами, музеями, биографиями художников и их произведениям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. Развивать познавательный интерес у дошкольников к художественной, театральной жизни Омской област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3. Воспитывать эмоционально-ценностное, патриотическое отношение к национальным и регио­нальным традиция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одерж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Художники Омского Прииртышья.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оль изобразительного искусства в жизни Омской области. Жанры изобразительного искусства и их развитие в культуре Омского региона. Особенности натюрморта, пейзажа, портрета, бытового, исторического, батального, анималистического жанров на примере творчества художников города Омска и Омской области, произведения которых наиболее ярко демонстрируют специфику жанров. Живописные и графические художественные техники (гуашь, акварель, масло, карандаш). Биографии художник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ланируемые результа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- ребенок проявляет интерес, инициативу к восприятию бытовой, театральной, художествен­ной культуры Омской област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- ребенок обладает развитым воображением, которое реализуется в разных видах деятельности: игре, изобразительной деятельности и конструировании и др.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- обладает представлениями о бытовой, театральной, художественной, физической культуре Омской област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- знаком с произведениями омских художников, с омскими спортсменам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- понимает разнообразные эмоциональные проявления в окружающем мире, в художественных образах, внутреннее состояние, сопереживает им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- дает эстетическую оценку произведениям музейного искусства, театральному спектаклю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- обладает установкой положительного отношения к бытовой, театральной, художественной культуре, к людям творческого труда, к спортсмена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20080" y="820080"/>
            <a:ext cx="765648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кскурсия в музей К.Белов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3371760" cy="4495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71975464"/>
          <p:cNvPicPr/>
          <p:nvPr/>
        </p:nvPicPr>
        <p:blipFill>
          <a:blip r:embed="rId2"/>
          <a:stretch/>
        </p:blipFill>
        <p:spPr>
          <a:xfrm>
            <a:off x="304920" y="175248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комство с музее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4114800" cy="2741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4495680" y="2895480"/>
            <a:ext cx="396252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.Белов  художник-пейзажис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4495680" cy="2995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4114800" y="3200400"/>
            <a:ext cx="42670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4419720" cy="2944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3657600" y="243828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" descr=""/>
          <p:cNvPicPr/>
          <p:nvPr/>
        </p:nvPicPr>
        <p:blipFill>
          <a:blip r:embed="rId3"/>
          <a:stretch/>
        </p:blipFill>
        <p:spPr>
          <a:xfrm>
            <a:off x="1060560" y="3352680"/>
            <a:ext cx="252072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043640" y="510120"/>
            <a:ext cx="75902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Автопортрет художни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4" descr="ÐÐ²ÑÐ¾Ð¿Ð¾ÑÑÑÐµÑ"/>
          <p:cNvPicPr/>
          <p:nvPr/>
        </p:nvPicPr>
        <p:blipFill>
          <a:blip r:embed="rId1"/>
          <a:stretch/>
        </p:blipFill>
        <p:spPr>
          <a:xfrm>
            <a:off x="2895480" y="1265400"/>
            <a:ext cx="387216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3T14:12:27Z</dcterms:created>
  <dc:creator>111</dc:creator>
  <dc:description/>
  <dc:language>en-US</dc:language>
  <cp:lastModifiedBy>user13</cp:lastModifiedBy>
  <dcterms:modified xsi:type="dcterms:W3CDTF">2019-10-12T07:20:1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