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82C-72D0-4D25-B605-B360C163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A0F-FB35-4DA7-AEA2-5AA8547F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A02-F859-414D-8C23-69681DE7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C8F-38D4-45D5-A05F-386D3253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9CF7-8B1D-4112-9ED6-EF2E8CB6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1BA8-86F5-474C-AA36-0BC9D1F7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26A5-0BF4-4517-B648-84D312CB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3476-B52D-492A-A636-96E4F48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BBD8-62F6-4C5D-B295-C0DE6A5D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2201-6BFF-426E-8CD4-A7720BFB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B9BB-ED46-4089-919A-1D7D6DB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B59-3D80-4A2C-BA2C-80DD6CA4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853F-8D21-4C54-BDFB-758C51A9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2710-3EE7-40F9-8A67-2291FDCE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EE69-D65F-4050-AA08-D337B1EC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A586-834B-42E8-ADCD-A2D7605C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F147-BCD7-49AF-9A3D-0EE7C0F2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DBD-B3ED-4C5F-A42B-73D81A4A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9F9-2FB3-40FF-97A3-8C470B05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A77-79D0-468D-B23B-6F93D1F6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40E-0A1B-4179-B7D7-4DCC6E6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922-F055-42CC-93D1-2C9E71EE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3D8-FDAF-47A1-802F-CDEE367C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2B7-F5EA-45A6-880B-192D3565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8f"/>
                </a:gs>
                <a:gs pos="50000">
                  <a:srgbClr val="000099"/>
                </a:gs>
                <a:gs pos="100000">
                  <a:srgbClr val="0000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2d2d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0e0e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0e0e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0e0e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2d2d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B770-8430-46D3-96D2-B2CD3EB3BD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8f"/>
                </a:gs>
                <a:gs pos="50000">
                  <a:srgbClr val="000099"/>
                </a:gs>
                <a:gs pos="100000">
                  <a:srgbClr val="0000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2d2d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0e0e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0e0e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0e0e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00a6"/>
                </a:gs>
                <a:gs pos="100000">
                  <a:srgbClr val="2d2d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CBC8-E5B4-42BD-ADD8-D6CA5EEDB4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&#1048;&#1074;&#1072;&#1085;&#1086;&#1074; &#1054;&#1058;&#1052;.ppt" TargetMode="External"/><Relationship Id="rId3" Type="http://schemas.openxmlformats.org/officeDocument/2006/relationships/hyperlink" Target="&#1048;&#1074;&#1072;&#1085;&#1086;&#1074; &#1054;&#1058;&#1052;.ppt" TargetMode="External"/><Relationship Id="rId4" Type="http://schemas.openxmlformats.org/officeDocument/2006/relationships/hyperlink" Target="&#1048;&#1074;&#1072;&#1085;&#1086;&#1074; &#1054;&#1058;&#1052;.ppt" TargetMode="External"/><Relationship Id="rId5" Type="http://schemas.openxmlformats.org/officeDocument/2006/relationships/hyperlink" Target="&#1048;&#1074;&#1072;&#1085;&#1086;&#1074; &#1054;&#1058;&#1052;.ppt" TargetMode="External"/><Relationship Id="rId6" Type="http://schemas.openxmlformats.org/officeDocument/2006/relationships/hyperlink" Target="&#1048;&#1074;&#1072;&#1085;&#1086;&#1074; &#1054;&#1058;&#1052;.ppt" TargetMode="External"/><Relationship Id="rId7" Type="http://schemas.openxmlformats.org/officeDocument/2006/relationships/hyperlink" Target="&#1048;&#1074;&#1072;&#1085;&#1086;&#1074; &#1054;&#1058;&#1052;.ppt" TargetMode="External"/><Relationship Id="rId8" Type="http://schemas.openxmlformats.org/officeDocument/2006/relationships/hyperlink" Target="&#1048;&#1074;&#1072;&#1085;&#1086;&#1074; &#1054;&#1058;&#1052;.ppt" TargetMode="External"/><Relationship Id="rId9" Type="http://schemas.openxmlformats.org/officeDocument/2006/relationships/hyperlink" Target="&#1048;&#1074;&#1072;&#1085;&#1086;&#1074; &#1054;&#1058;&#1052;.ppt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СЛОЖЕНИЕ СИЛ</a:t>
            </a:r>
            <a:endParaRPr b="1" lang="en-US" sz="6000" spc="-1" strike="noStrike">
              <a:solidFill>
                <a:srgbClr val="cc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ПЛАН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cc66"/>
                </a:solidFill>
                <a:uFillTx/>
                <a:latin typeface="Garamond"/>
                <a:hlinkClick r:id="rId2"/>
              </a:rPr>
              <a:t>Равнодействующая двух сил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25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cc66"/>
                </a:solidFill>
                <a:uFillTx/>
                <a:latin typeface="Garamond"/>
                <a:hlinkClick r:id="rId3"/>
              </a:rPr>
              <a:t>Сложение двух сил (правило параллелограмма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25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cc66"/>
                </a:solidFill>
                <a:uFillTx/>
                <a:latin typeface="Garamond"/>
                <a:hlinkClick r:id="rId4"/>
              </a:rPr>
              <a:t>Сложение </a:t>
            </a:r>
            <a:r>
              <a:rPr b="0" lang="ru-RU" sz="3300" spc="-1" strike="noStrike" u="sng">
                <a:solidFill>
                  <a:srgbClr val="ffcc66"/>
                </a:solidFill>
                <a:uFillTx/>
                <a:latin typeface="Garamond"/>
                <a:hlinkClick r:id="rId5"/>
              </a:rPr>
              <a:t>сонаправленных</a:t>
            </a:r>
            <a:r>
              <a:rPr b="0" lang="ru-RU" sz="3300" spc="-1" strike="noStrike" u="sng">
                <a:solidFill>
                  <a:srgbClr val="ffcc66"/>
                </a:solidFill>
                <a:uFillTx/>
                <a:latin typeface="Garamond"/>
                <a:hlinkClick r:id="rId6"/>
              </a:rPr>
              <a:t> сил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25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cc66"/>
                </a:solidFill>
                <a:uFillTx/>
                <a:latin typeface="Garamond"/>
                <a:hlinkClick r:id="rId7"/>
              </a:rPr>
              <a:t>Сложение противоположно</a:t>
            </a:r>
            <a:r>
              <a:rPr b="0" lang="en-US" sz="3300" spc="-1" strike="noStrike" u="sng">
                <a:solidFill>
                  <a:srgbClr val="ffcc66"/>
                </a:solidFill>
                <a:uFillTx/>
                <a:latin typeface="Garamond"/>
                <a:hlinkClick r:id="rId8"/>
              </a:rPr>
              <a:t> </a:t>
            </a:r>
            <a:r>
              <a:rPr b="0" lang="ru-RU" sz="3300" spc="-1" strike="noStrike" u="sng">
                <a:solidFill>
                  <a:srgbClr val="ffcc66"/>
                </a:solidFill>
                <a:uFillTx/>
                <a:latin typeface="Garamond"/>
                <a:hlinkClick r:id="rId9"/>
              </a:rPr>
              <a:t>направленных сил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Равнодействующая двух сил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это сила, которая заменяет действие всех сил, приложенных к нему, т. е. это сумма всех сил, приложенных к тел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284720" y="4149720"/>
            <a:ext cx="814320" cy="863640"/>
            <a:chOff x="4284720" y="4149720"/>
            <a:chExt cx="814320" cy="863640"/>
          </a:xfrm>
        </p:grpSpPr>
        <p:sp>
          <p:nvSpPr>
            <p:cNvPr id="119" name=""/>
            <p:cNvSpPr/>
            <p:nvPr/>
          </p:nvSpPr>
          <p:spPr>
            <a:xfrm>
              <a:off x="4284720" y="4438800"/>
              <a:ext cx="612720" cy="574560"/>
            </a:xfrm>
            <a:custGeom>
              <a:avLst/>
              <a:gdLst/>
              <a:ahLst/>
              <a:rect l="l" t="t" r="r" b="b"/>
              <a:pathLst>
                <a:path w="386" h="362">
                  <a:moveTo>
                    <a:pt x="0" y="0"/>
                  </a:moveTo>
                  <a:cubicBezTo>
                    <a:pt x="83" y="3"/>
                    <a:pt x="167" y="7"/>
                    <a:pt x="227" y="45"/>
                  </a:cubicBezTo>
                  <a:cubicBezTo>
                    <a:pt x="287" y="83"/>
                    <a:pt x="340" y="173"/>
                    <a:pt x="363" y="226"/>
                  </a:cubicBezTo>
                  <a:cubicBezTo>
                    <a:pt x="386" y="279"/>
                    <a:pt x="356" y="339"/>
                    <a:pt x="363" y="36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29440" y="451008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788000" y="4149720"/>
                  <a:ext cx="31104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 flipV="1">
            <a:off x="3924360" y="3716280"/>
            <a:ext cx="57636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544500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924360" y="4076280"/>
            <a:ext cx="3384360" cy="1297080"/>
            <a:chOff x="3924360" y="4076280"/>
            <a:chExt cx="3384360" cy="1297080"/>
          </a:xfrm>
        </p:grpSpPr>
        <p:sp>
          <p:nvSpPr>
            <p:cNvPr id="125" name=""/>
            <p:cNvSpPr/>
            <p:nvPr/>
          </p:nvSpPr>
          <p:spPr>
            <a:xfrm flipV="1">
              <a:off x="3924360" y="4076280"/>
              <a:ext cx="3384360" cy="1297080"/>
            </a:xfrm>
            <a:prstGeom prst="line">
              <a:avLst/>
            </a:prstGeom>
            <a:ln w="1080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508720" y="4149720"/>
                  <a:ext cx="5760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F</m:t>
                              </m:r>
                            </m:e>
                          </m:bar>
                        </m:e>
                        <m:sub>
                          <m:r>
                            <m:t xml:space="preserve">Σ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"/>
          <p:cNvSpPr/>
          <p:nvPr/>
        </p:nvSpPr>
        <p:spPr>
          <a:xfrm>
            <a:off x="4500720" y="3716280"/>
            <a:ext cx="280800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04000" y="4005000"/>
            <a:ext cx="50328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9600" y="57340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83960" y="3789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5300640"/>
            <a:ext cx="216000" cy="216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566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1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72360" y="5877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4" h="21600">
                <a:moveTo>
                  <a:pt x="7943" y="10800"/>
                </a:moveTo>
                <a:lnTo>
                  <a:pt x="18449" y="3794"/>
                </a:lnTo>
                <a:lnTo>
                  <a:pt x="18449" y="17806"/>
                </a:lnTo>
                <a:close/>
              </a:path>
              <a:path fill="darken" w="22884" h="21600">
                <a:moveTo>
                  <a:pt x="4436" y="3794"/>
                </a:moveTo>
                <a:lnTo>
                  <a:pt x="6098" y="3794"/>
                </a:lnTo>
                <a:lnTo>
                  <a:pt x="6098" y="17806"/>
                </a:lnTo>
                <a:lnTo>
                  <a:pt x="4436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Garamond"/>
              </a:rPr>
              <a:t>Сложение двух сил (правило параллелограмма)</a:t>
            </a:r>
            <a:endParaRPr b="1" lang="en-US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5877000"/>
            <a:ext cx="289080" cy="287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6093000"/>
            <a:ext cx="4465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763640" y="4149360"/>
            <a:ext cx="936720" cy="180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4149720"/>
            <a:ext cx="47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300720" y="4221000"/>
            <a:ext cx="1150920" cy="18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908000" y="4149360"/>
            <a:ext cx="561672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450864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9960" y="37162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616572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4520" y="357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2640" y="60930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равнодействующая двух сил, приложенных к одной точке, приложена в этой точке и равна диагонали параллелограмма, построенного на данных сил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1826640" y="47242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4360" y="566100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72360" y="5877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4" h="21600">
                <a:moveTo>
                  <a:pt x="7943" y="10800"/>
                </a:moveTo>
                <a:lnTo>
                  <a:pt x="18449" y="3794"/>
                </a:lnTo>
                <a:lnTo>
                  <a:pt x="18449" y="17806"/>
                </a:lnTo>
                <a:close/>
              </a:path>
              <a:path fill="darken" w="22884" h="21600">
                <a:moveTo>
                  <a:pt x="4436" y="3794"/>
                </a:moveTo>
                <a:lnTo>
                  <a:pt x="6098" y="3794"/>
                </a:lnTo>
                <a:lnTo>
                  <a:pt x="6098" y="17806"/>
                </a:lnTo>
                <a:lnTo>
                  <a:pt x="4436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Сложение сонаправленных сил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еличина равнодействующей двух сил, направленных по одной прямой в одну сторону, равна сумме величин (модулей) этих сил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 = F1 + F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00360" y="4005360"/>
            <a:ext cx="2087280" cy="433080"/>
            <a:chOff x="2700360" y="4005360"/>
            <a:chExt cx="2087280" cy="433080"/>
          </a:xfrm>
        </p:grpSpPr>
        <p:grpSp>
          <p:nvGrpSpPr>
            <p:cNvPr id="154" name=""/>
            <p:cNvGrpSpPr/>
            <p:nvPr/>
          </p:nvGrpSpPr>
          <p:grpSpPr>
            <a:xfrm>
              <a:off x="2700360" y="4005360"/>
              <a:ext cx="2087280" cy="433080"/>
              <a:chOff x="2700360" y="4005360"/>
              <a:chExt cx="2087280" cy="43308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2700360" y="4005360"/>
                <a:ext cx="2087280" cy="433080"/>
                <a:chOff x="2700360" y="4005360"/>
                <a:chExt cx="2087280" cy="4330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700360" y="4438440"/>
                  <a:ext cx="2087280" cy="0"/>
                </a:xfrm>
                <a:prstGeom prst="line">
                  <a:avLst/>
                </a:prstGeom>
                <a:ln w="7632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425040" y="4005360"/>
                  <a:ext cx="244800" cy="368280"/>
                </a:xfrm>
                <a:prstGeom prst="rect">
                  <a:avLst/>
                </a:prstGeom>
                <a:noFill/>
                <a:ln w="93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058920" y="4005360"/>
                  <a:ext cx="360000" cy="375840"/>
                </a:xfrm>
                <a:prstGeom prst="rect">
                  <a:avLst/>
                </a:prstGeom>
                <a:noFill/>
                <a:ln w="93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3997080" y="400536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3715200" y="4005360"/>
              <a:ext cx="345240" cy="36828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195640" y="4076640"/>
            <a:ext cx="503280" cy="504720"/>
            <a:chOff x="2195640" y="4076640"/>
            <a:chExt cx="503280" cy="504720"/>
          </a:xfrm>
        </p:grpSpPr>
        <p:sp>
          <p:nvSpPr>
            <p:cNvPr id="162" name=""/>
            <p:cNvSpPr/>
            <p:nvPr/>
          </p:nvSpPr>
          <p:spPr>
            <a:xfrm>
              <a:off x="2195640" y="4076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11640" y="4292640"/>
              <a:ext cx="287280" cy="2887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700360" y="4005360"/>
            <a:ext cx="1008000" cy="368280"/>
            <a:chOff x="2700360" y="4005360"/>
            <a:chExt cx="1008000" cy="368280"/>
          </a:xfrm>
        </p:grpSpPr>
        <p:sp>
          <p:nvSpPr>
            <p:cNvPr id="165" name=""/>
            <p:cNvSpPr/>
            <p:nvPr/>
          </p:nvSpPr>
          <p:spPr>
            <a:xfrm>
              <a:off x="2700360" y="4365360"/>
              <a:ext cx="100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17800" y="40053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00360" y="3860640"/>
            <a:ext cx="3311640" cy="685800"/>
            <a:chOff x="2700360" y="3860640"/>
            <a:chExt cx="3311640" cy="685800"/>
          </a:xfrm>
        </p:grpSpPr>
        <p:grpSp>
          <p:nvGrpSpPr>
            <p:cNvPr id="168" name=""/>
            <p:cNvGrpSpPr/>
            <p:nvPr/>
          </p:nvGrpSpPr>
          <p:grpSpPr>
            <a:xfrm>
              <a:off x="2700360" y="4149720"/>
              <a:ext cx="3311640" cy="396720"/>
              <a:chOff x="2700360" y="4149720"/>
              <a:chExt cx="3311640" cy="3967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700360" y="4149720"/>
                <a:ext cx="3095640" cy="396720"/>
                <a:chOff x="2700360" y="4149720"/>
                <a:chExt cx="3095640" cy="396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700360" y="4510080"/>
                  <a:ext cx="3095640" cy="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051160" y="4170240"/>
                  <a:ext cx="193680" cy="37620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795920" y="4149720"/>
                  <a:ext cx="345240" cy="3682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5653440" y="4149720"/>
                <a:ext cx="3585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5077080" y="3860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8172360" y="5877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4" h="21600">
                <a:moveTo>
                  <a:pt x="7943" y="10800"/>
                </a:moveTo>
                <a:lnTo>
                  <a:pt x="18449" y="3794"/>
                </a:lnTo>
                <a:lnTo>
                  <a:pt x="18449" y="17806"/>
                </a:lnTo>
                <a:close/>
              </a:path>
              <a:path fill="darken" w="22884" h="21600">
                <a:moveTo>
                  <a:pt x="4436" y="3794"/>
                </a:moveTo>
                <a:lnTo>
                  <a:pt x="6098" y="3794"/>
                </a:lnTo>
                <a:lnTo>
                  <a:pt x="6098" y="17806"/>
                </a:lnTo>
                <a:lnTo>
                  <a:pt x="4436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Garamond"/>
              </a:rPr>
              <a:t>Сложение противоположно направленных сил</a:t>
            </a:r>
            <a:br>
              <a:rPr sz="4000"/>
            </a:br>
            <a:endParaRPr b="1" lang="en-US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личина равнодействующих двух сил, направленных по одной прямой в противоположные стороны, равна разности величин (модулей) этих сил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 = F1 – F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276720" y="5084640"/>
            <a:ext cx="504360" cy="439920"/>
            <a:chOff x="3276720" y="5084640"/>
            <a:chExt cx="504360" cy="439920"/>
          </a:xfrm>
        </p:grpSpPr>
        <p:sp>
          <p:nvSpPr>
            <p:cNvPr id="179" name=""/>
            <p:cNvSpPr/>
            <p:nvPr/>
          </p:nvSpPr>
          <p:spPr>
            <a:xfrm>
              <a:off x="3492360" y="5084640"/>
              <a:ext cx="288720" cy="2872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6720" y="515628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780000" y="5013360"/>
            <a:ext cx="3075840" cy="592200"/>
            <a:chOff x="3780000" y="5013360"/>
            <a:chExt cx="3075840" cy="592200"/>
          </a:xfrm>
        </p:grpSpPr>
        <p:sp>
          <p:nvSpPr>
            <p:cNvPr id="182" name=""/>
            <p:cNvSpPr/>
            <p:nvPr/>
          </p:nvSpPr>
          <p:spPr>
            <a:xfrm>
              <a:off x="6522840" y="5013360"/>
              <a:ext cx="333000" cy="36828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780000" y="5229360"/>
              <a:ext cx="2808000" cy="376200"/>
              <a:chOff x="3780000" y="5229360"/>
              <a:chExt cx="2808000" cy="376200"/>
            </a:xfrm>
          </p:grpSpPr>
          <p:sp>
            <p:nvSpPr>
              <p:cNvPr id="184" name=""/>
              <p:cNvSpPr/>
              <p:nvPr/>
            </p:nvSpPr>
            <p:spPr>
              <a:xfrm>
                <a:off x="3780000" y="5229360"/>
                <a:ext cx="280800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59320" y="5229360"/>
                <a:ext cx="193320" cy="376200"/>
              </a:xfrm>
              <a:prstGeom prst="rect">
                <a:avLst/>
              </a:prstGeom>
              <a:noFill/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14480" y="5229360"/>
                <a:ext cx="447480" cy="368280"/>
              </a:xfrm>
              <a:prstGeom prst="rect">
                <a:avLst/>
              </a:prstGeom>
              <a:noFill/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197440" y="4869000"/>
            <a:ext cx="1294200" cy="583920"/>
            <a:chOff x="2197440" y="4869000"/>
            <a:chExt cx="1294200" cy="583920"/>
          </a:xfrm>
        </p:grpSpPr>
        <p:sp>
          <p:nvSpPr>
            <p:cNvPr id="188" name=""/>
            <p:cNvSpPr/>
            <p:nvPr/>
          </p:nvSpPr>
          <p:spPr>
            <a:xfrm flipH="1">
              <a:off x="2484000" y="5229360"/>
              <a:ext cx="1007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97440" y="5084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4720" y="48690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780000" y="4724280"/>
            <a:ext cx="1719720" cy="588960"/>
            <a:chOff x="3780000" y="4724280"/>
            <a:chExt cx="1719720" cy="588960"/>
          </a:xfrm>
        </p:grpSpPr>
        <p:sp>
          <p:nvSpPr>
            <p:cNvPr id="192" name=""/>
            <p:cNvSpPr/>
            <p:nvPr/>
          </p:nvSpPr>
          <p:spPr>
            <a:xfrm>
              <a:off x="3780000" y="5160960"/>
              <a:ext cx="1441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54480" y="4944960"/>
              <a:ext cx="3452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19920" y="4724280"/>
              <a:ext cx="4003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8172360" y="5877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4" h="21600">
                <a:moveTo>
                  <a:pt x="7943" y="10800"/>
                </a:moveTo>
                <a:lnTo>
                  <a:pt x="18449" y="3794"/>
                </a:lnTo>
                <a:lnTo>
                  <a:pt x="18449" y="17806"/>
                </a:lnTo>
                <a:close/>
              </a:path>
              <a:path fill="darken" w="22884" h="21600">
                <a:moveTo>
                  <a:pt x="4436" y="3794"/>
                </a:moveTo>
                <a:lnTo>
                  <a:pt x="6098" y="3794"/>
                </a:lnTo>
                <a:lnTo>
                  <a:pt x="6098" y="17806"/>
                </a:lnTo>
                <a:lnTo>
                  <a:pt x="4436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04:48:25Z</dcterms:created>
  <dc:creator>learn</dc:creator>
  <dc:description/>
  <dc:language>en-US</dc:language>
  <cp:lastModifiedBy>User</cp:lastModifiedBy>
  <dcterms:modified xsi:type="dcterms:W3CDTF">2007-12-20T09:08:23Z</dcterms:modified>
  <cp:revision>13</cp:revision>
  <dc:subject/>
  <dc:title>Слайд 1</dc:title>
</cp:coreProperties>
</file>