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gif" ContentType="image/gi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8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4.png" ContentType="image/png"/>
  <Override PartName="/ppt/media/image45.jpeg" ContentType="image/jpeg"/>
  <Override PartName="/ppt/media/image53.jpeg" ContentType="image/jpeg"/>
  <Override PartName="/ppt/media/image47.jpeg" ContentType="image/jpeg"/>
  <Override PartName="/ppt/media/image48.png" ContentType="image/png"/>
  <Override PartName="/ppt/media/image13.png" ContentType="image/png"/>
  <Override PartName="/ppt/media/image49.jpeg" ContentType="image/jpeg"/>
  <Override PartName="/ppt/media/image51.jpeg" ContentType="image/jpeg"/>
  <Override PartName="/ppt/media/image58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6.png" ContentType="image/png"/>
  <Override PartName="/ppt/media/image40.png" ContentType="image/png"/>
  <Override PartName="/ppt/media/image36.jpeg" ContentType="image/jpeg"/>
  <Override PartName="/ppt/media/image11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8428038" cy="1207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737-B007-4F88-993A-5412D643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803-FC2E-45C3-8076-C98BF97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A17-3BE5-4CBD-999F-C006F77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F67-DD1C-45CC-8246-2FEEA895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D5B-061B-49E5-89AC-E7656C59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CD02-FB32-461C-B890-F3ECDCC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3A1-648E-4205-BD1E-5355A5ED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0FF2-40E9-428B-86C9-B2EBBDEA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B186-7B90-4601-A2BB-982CD08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9A5-0F3D-43C7-90C7-BA2C14F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3995-76D4-4E6C-84C1-9CAFBEF0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B3E-AB70-417E-974C-4673A39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9D6-9C37-43CA-ACD8-29B159C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4D5D-64C4-493A-9EE7-38DB2C8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3571-F250-47B3-B483-670C7538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2DDE-BE16-4B52-9EBE-0648886F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1459-CEA3-44B9-8953-82327293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1E3D-B954-4C8A-983A-014D6653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9AD6-EFFB-423E-BC61-273A0BC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63D7-01F2-4884-A9FF-D1D17F3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EFA9-6D84-45F1-82B1-52CD5E8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4971-7681-4992-9456-6BF170D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206-82E5-4BC9-9D55-7D5D8274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BA32-2C89-4027-B34C-38EA38DD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1ADA-C628-41E5-AD81-6B603F3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987D-FC9E-404C-A645-4AE2D18C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CD65-3608-4805-B526-BC48316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F643-C7E3-42F2-B430-18A7C93D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0B62-24FC-4004-983C-248B9827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0FE9-712A-4352-8CB2-70611CC8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5AC5-BF62-4CA1-A0DE-08879BCD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A98E-91E9-423F-82E1-BE9B2235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A29A-5DF8-43A9-A121-E0AD9C7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9E0-86BD-4D77-B02E-098C3B9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CF87-E4F3-4126-83EF-B7FC37E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437F-A18F-4E50-BD28-37A196B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C0EE-DDFE-4272-A819-374B4F84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C7B5-66A6-48D3-BC1E-9DAB84E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A885-D750-4989-9724-C60C28D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FC79-DD2B-489F-9061-6202342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1A82-BB7F-4A5D-8022-AECCD6C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4903-2834-4BBC-BF8D-6A5E1F41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62B7-6280-495B-8629-49165B9D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A504-3036-4A93-96C5-D1E62424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0EA-D382-407A-B26F-BF156D9A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20B6-8C66-4CD6-B656-474C17AF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AB8A-AEA8-4DE8-ABF8-3D156FF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5A5C-E979-412B-8214-33450025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0E57-F970-41AB-A0B0-04DB3FD2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4353-95BE-4803-9335-5D27DC8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B7CD-4190-470B-BBB5-D5C3964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6ECD-EB90-4A5C-A91F-77D6697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3DA1-3CF3-475E-81FF-B8316FB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18B5-0D9A-4557-9A12-BBE6248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F201-79BC-41CC-B683-3C259436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CC8-1ED5-4DE7-93A6-53BA69C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199A-3E48-4F01-8C8B-1EF31529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9298-A372-4DCC-B05C-4EF7E7C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1130-53CC-4003-85C3-75770EE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BE53-3F5D-44E7-B265-66D0AB4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C29F-8A44-4D71-8047-B984146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1AFA-03E6-46F6-A428-BD51AAA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52C2-2E9E-4F48-9436-08B7DA44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C105-B1BA-4BF1-BDB5-19EED1E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86C67-0B07-4B70-816B-7FE0007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F331-8121-455F-B0BE-513CB06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2CC-75EE-47AC-AE61-F131EA2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71E1-A1AF-419F-BCDE-5569211E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4724-0CC4-4791-9759-A750776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641D-432C-4B53-BA04-B0A5ED9F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7347-F2A0-4FD7-ABD6-BE322532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AEA7-6725-4E9D-8F5D-C784A9F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8E51-EDAE-41E7-B890-38A8AAD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B8C4-533E-4141-8BF5-D9C3BD1A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7CBD-FB75-458B-9B3A-1D7C581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DEFB-6FF5-48D3-8179-B4E39A2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CDC5D-E788-4CBD-86BF-4CEA2F2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7F1-DC30-4B01-B37F-190E49C6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E3158-C0C4-4BF6-A6B9-39A4324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6544-6D9D-4C72-9D6E-585A5EF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4080-7773-4DC0-80AE-8BFA5ACF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8BC4-9DCF-4328-848E-13AA9EF5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0BC1-F1B3-4601-A341-1CC33094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B388-F052-4940-9BCF-9915C4BC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0700-D803-4A76-B1ED-B8D92805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7416B-BE6F-4E89-B656-B628460C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D535-C083-4188-B9AB-F7450885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F041-7917-4329-A67F-5EF94BE6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F15-5296-4295-9479-9900718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A38F-8176-47A1-90C1-32197A2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D5D2-3313-4E26-A3AF-15A709A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0D7D-5949-41F7-ACBB-48D460A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F11F2-500E-4B08-A97D-F2C6A10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6F81-D8AB-4729-B4DB-585FC48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40DFE-58A1-4E1C-AF56-1A0068D6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4CF2-E6F0-4786-897F-C13AB6A9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ED0F-B067-4628-BEBB-E4435FE107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1B76-DBE1-4E6F-B54C-71E4973CB0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B249-EF0F-4B92-A2A0-8E999100E3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2B7-2292-4390-91F4-31FEA958FA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DDA-6B73-4F46-BBD2-D038DF5C4A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8BF-6FF1-43BD-972F-BB0C382622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AF3A-D6A9-4499-880E-2C7A6FCE69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580E-F0AD-405C-9CC4-304A92453B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76440" y="469800"/>
            <a:ext cx="7785000" cy="6132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42560" y="928800"/>
            <a:ext cx="7815240" cy="328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НТР ТЯЖЕСТИ</a:t>
            </a: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ВНОВЕСИЕ</a:t>
            </a: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i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хническая механика</a:t>
            </a: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71"/>
          <p:cNvPicPr/>
          <p:nvPr/>
        </p:nvPicPr>
        <p:blipFill>
          <a:blip r:embed="rId1"/>
          <a:stretch/>
        </p:blipFill>
        <p:spPr>
          <a:xfrm>
            <a:off x="2214720" y="1143000"/>
            <a:ext cx="4786200" cy="3146400"/>
          </a:xfrm>
          <a:prstGeom prst="rect">
            <a:avLst/>
          </a:prstGeom>
          <a:ln w="0">
            <a:noFill/>
          </a:ln>
        </p:spPr>
      </p:pic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28760" y="38588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 ударе ногой в борьбе центр тяжести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смещен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тносительно точки опоры. В этом случае тело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тремится восстановить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положение равновесия, что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впадает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с направлением удар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идает дополнительную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силу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дару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72"/>
          <p:cNvPicPr/>
          <p:nvPr/>
        </p:nvPicPr>
        <p:blipFill>
          <a:blip r:embed="rId1"/>
          <a:stretch/>
        </p:blipFill>
        <p:spPr>
          <a:xfrm>
            <a:off x="2500200" y="1143000"/>
            <a:ext cx="3889440" cy="287964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428760" y="367164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и езде на велосипеде очень важно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охранять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равновес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обходимо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 при обычной езде, и при выполнении различных трюков на велосипед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апример, в триале. Вы должны научиться держать равновесие так, чтоб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не тратить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а это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ного с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 это возможно, если вы знаете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физические законы равновесия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5998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Неваляшка 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явилась в России  не так давно. Историки считают, что неваляшка пришла к нам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из Японии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  Эти завезённые в Россию  куклы 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али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праобразом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звестной игрушки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Ваньки-Встаньки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ые русские неваляшки, появившиеся на ярмарках в начале 19 века, назывались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"кувырканами",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они изображали  купцов или  клоунов. 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50"/>
          <p:cNvPicPr/>
          <p:nvPr/>
        </p:nvPicPr>
        <p:blipFill>
          <a:blip r:embed="rId2"/>
          <a:stretch/>
        </p:blipFill>
        <p:spPr>
          <a:xfrm>
            <a:off x="7164360" y="4724280"/>
            <a:ext cx="1528920" cy="2133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41"/>
          <p:cNvPicPr/>
          <p:nvPr/>
        </p:nvPicPr>
        <p:blipFill>
          <a:blip r:embed="rId3"/>
          <a:stretch/>
        </p:blipFill>
        <p:spPr>
          <a:xfrm>
            <a:off x="3276720" y="4724280"/>
            <a:ext cx="3671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104"/>
          <p:cNvPicPr/>
          <p:nvPr/>
        </p:nvPicPr>
        <p:blipFill>
          <a:blip r:embed="rId1"/>
          <a:stretch/>
        </p:blipFill>
        <p:spPr>
          <a:xfrm>
            <a:off x="324000" y="2924280"/>
            <a:ext cx="3743280" cy="345600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324000" y="12186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 неваляшки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нутреннее устройство таково, что создает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мещенный вниз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центр тяжест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6" name="Picture 11" descr="92"/>
          <p:cNvPicPr/>
          <p:nvPr/>
        </p:nvPicPr>
        <p:blipFill>
          <a:blip r:embed="rId3"/>
          <a:stretch/>
        </p:blipFill>
        <p:spPr>
          <a:xfrm>
            <a:off x="5940360" y="2997360"/>
            <a:ext cx="2735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уклы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   Японии – это  не только  развлечение, но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 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магические талисманы.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им из самых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популярных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любимых талисманов  у японцев вот уже 200 лет является  традиционная японская кукла-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«дарума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лицетворяющая   божка, приносящего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счасть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869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http://kalmykia.narod.ru/japan/daruma.GIF"/>
          <p:cNvPicPr/>
          <p:nvPr/>
        </p:nvPicPr>
        <p:blipFill>
          <a:blip r:embed="rId1"/>
          <a:stretch/>
        </p:blipFill>
        <p:spPr>
          <a:xfrm>
            <a:off x="5929200" y="3643200"/>
            <a:ext cx="2857680" cy="2971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57120" y="9284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Японцы верят  , что кукла приносит ребенку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удачу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  богатство, поэтому взрослые загадывают 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желания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 помощью  кукол "дарума" -  японских неваляшек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с не закрашенными глаза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Чем взрослее человек, тем крупнее игруш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сих пор в  Японии  существует  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ычай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гда начинаешь важное дело, обязательно купи этого «дарума»,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опрос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его о помощи и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закрась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му один глаз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2"/>
          <a:stretch/>
        </p:blipFill>
        <p:spPr>
          <a:xfrm>
            <a:off x="201600" y="-6480"/>
            <a:ext cx="8734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?  С помощью каких частей тела  «братья наши меньшие» сохраняют положение равновесия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?  Почему бутерброд все время падает маслом вниз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at"/>
          <p:cNvPicPr/>
          <p:nvPr/>
        </p:nvPicPr>
        <p:blipFill>
          <a:blip r:embed="rId2"/>
          <a:stretch/>
        </p:blipFill>
        <p:spPr>
          <a:xfrm>
            <a:off x="2268360" y="3716280"/>
            <a:ext cx="468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108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895640"/>
          </a:xfrm>
          <a:prstGeom prst="rect">
            <a:avLst/>
          </a:prstGeom>
          <a:ln w="0">
            <a:noFill/>
          </a:ln>
        </p:spPr>
      </p:pic>
      <p:pic>
        <p:nvPicPr>
          <p:cNvPr id="426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смотря на свой наклон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изанская башня не падает, т.к. отвесная линия, проведенная из центра тяжести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 выходит за предел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н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MP900402755"/>
          <p:cNvPicPr/>
          <p:nvPr/>
        </p:nvPicPr>
        <p:blipFill>
          <a:blip r:embed="rId2"/>
          <a:stretch/>
        </p:blipFill>
        <p:spPr>
          <a:xfrm>
            <a:off x="1214280" y="3357720"/>
            <a:ext cx="2357640" cy="3371760"/>
          </a:xfrm>
          <a:prstGeom prst="rect">
            <a:avLst/>
          </a:prstGeom>
          <a:ln w="0">
            <a:noFill/>
          </a:ln>
        </p:spPr>
      </p:pic>
      <p:cxnSp>
        <p:nvCxnSpPr>
          <p:cNvPr id="430" name="Прямая со стрелкой 9"/>
          <p:cNvCxnSpPr/>
          <p:nvPr/>
        </p:nvCxnSpPr>
        <p:spPr>
          <a:xfrm>
            <a:off x="2286000" y="4786200"/>
            <a:ext cx="72000" cy="1572480"/>
          </a:xfrm>
          <a:prstGeom prst="straightConnector1">
            <a:avLst/>
          </a:prstGeom>
          <a:ln w="34920">
            <a:solidFill>
              <a:srgbClr val="def5fa"/>
            </a:solidFill>
            <a:miter/>
            <a:tailEnd len="med" type="arrow" w="med"/>
          </a:ln>
        </p:spPr>
      </p:cxnSp>
      <p:pic>
        <p:nvPicPr>
          <p:cNvPr id="431" name="Picture 8" descr=""/>
          <p:cNvPicPr/>
          <p:nvPr/>
        </p:nvPicPr>
        <p:blipFill>
          <a:blip r:embed="rId3"/>
          <a:stretch/>
        </p:blipFill>
        <p:spPr>
          <a:xfrm>
            <a:off x="5214960" y="3071880"/>
            <a:ext cx="288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7" descr="http://t3.gstatic.com/images?q=tbn:ANd9GcR2-dBZipOl14wT3grP5f5z_P2lw5Bxa_NjqDlC1QxzJpddNDnM"/>
          <p:cNvPicPr/>
          <p:nvPr/>
        </p:nvPicPr>
        <p:blipFill>
          <a:blip r:embed="rId1"/>
          <a:stretch/>
        </p:blipFill>
        <p:spPr>
          <a:xfrm>
            <a:off x="7072200" y="1357200"/>
            <a:ext cx="1866960" cy="4977000"/>
          </a:xfrm>
          <a:prstGeom prst="rect">
            <a:avLst/>
          </a:prstGeom>
          <a:ln w="0">
            <a:noFill/>
          </a:ln>
        </p:spPr>
      </p:pic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5"/>
          <p:cNvSpPr/>
          <p:nvPr/>
        </p:nvSpPr>
        <p:spPr>
          <a:xfrm>
            <a:off x="63360" y="-568440"/>
            <a:ext cx="7146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5" name="Picture 17" descr="http://lifeglobe.net/media/entry/351/ostankinobuilding2_1.jpg"/>
          <p:cNvPicPr/>
          <p:nvPr/>
        </p:nvPicPr>
        <p:blipFill>
          <a:blip r:embed="rId3"/>
          <a:stretch/>
        </p:blipFill>
        <p:spPr>
          <a:xfrm>
            <a:off x="214200" y="3786120"/>
            <a:ext cx="3108600" cy="271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9" descr="http://t3.gstatic.com/images?q=tbn:ANd9GcT5MEDlVSmEWRQVcbRNZIFqnRT8Dy7WVHV_yfIfnABiY0oA1ZGH"/>
          <p:cNvPicPr/>
          <p:nvPr/>
        </p:nvPicPr>
        <p:blipFill>
          <a:blip r:embed="rId4"/>
          <a:stretch/>
        </p:blipFill>
        <p:spPr>
          <a:xfrm>
            <a:off x="2857680" y="2714760"/>
            <a:ext cx="2571480" cy="2725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5" descr="http://t2.gstatic.com/images?q=tbn:ANd9GcSuB-wO-56uXKn5Lr9YsqNiWnNW5qHZ3VTae-jrv3BIHBMhGYH8Tg"/>
          <p:cNvPicPr/>
          <p:nvPr/>
        </p:nvPicPr>
        <p:blipFill>
          <a:blip r:embed="rId5"/>
          <a:stretch/>
        </p:blipFill>
        <p:spPr>
          <a:xfrm>
            <a:off x="4643280" y="1428840"/>
            <a:ext cx="2495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ить знания, полученные при изучении данной темы, в повседневной жизн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олжить формировать умения обобщать  и делать выводы на основе эксперимен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.С какой целью цирковые артисты при хождении по канату держат в руках тяжелые шесты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2.Почему человек, несущий на спине тяжелый груз, наклоняется вперед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3.Почему нельзя встать со стула, если не наклонить корпус вперед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64"/>
          <p:cNvPicPr/>
          <p:nvPr/>
        </p:nvPicPr>
        <p:blipFill>
          <a:blip r:embed="rId2"/>
          <a:stretch/>
        </p:blipFill>
        <p:spPr>
          <a:xfrm>
            <a:off x="5940360" y="3933720"/>
            <a:ext cx="1871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4.Почему подъемный кран не опрокидывается в сторону поднимаемого груза? Почему без груза кран не опрокидывается в сторону противовеса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5.Почему у автомашин и велосипедов и т.п. тормоза лучше ставить на задние, а  не на передние колеса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6.Почему, грузовик  нагруженный сеном легче переворачивается, чем  тот же грузовик нагруженный снегом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72"/>
          <p:cNvPicPr/>
          <p:nvPr/>
        </p:nvPicPr>
        <p:blipFill>
          <a:blip r:embed="rId2"/>
          <a:stretch/>
        </p:blipFill>
        <p:spPr>
          <a:xfrm>
            <a:off x="5580000" y="4508640"/>
            <a:ext cx="3167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85840" y="1357200"/>
            <a:ext cx="8858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ределите коэффициент трения скольжения дерева о материал, покрывающий рабочий стол? ЗАПРЕЩЕНО наклонять стол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(  Оборудование: даны только две деревянные линейки, транспортир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File0025"/>
          <p:cNvPicPr/>
          <p:nvPr/>
        </p:nvPicPr>
        <p:blipFill>
          <a:blip r:embed="rId2"/>
          <a:stretch/>
        </p:blipFill>
        <p:spPr>
          <a:xfrm>
            <a:off x="642960" y="3357720"/>
            <a:ext cx="7993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File0024"/>
          <p:cNvPicPr/>
          <p:nvPr/>
        </p:nvPicPr>
        <p:blipFill>
          <a:blip r:embed="rId1"/>
          <a:stretch/>
        </p:blipFill>
        <p:spPr>
          <a:xfrm>
            <a:off x="6100920" y="2643120"/>
            <a:ext cx="3043080" cy="37861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"/>
          <p:cNvSpPr/>
          <p:nvPr/>
        </p:nvSpPr>
        <p:spPr>
          <a:xfrm>
            <a:off x="611280" y="1197000"/>
            <a:ext cx="76327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811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пределите силу, которую нужно приложить перпендикулярно бруску, чтобы его один конец поднять на высоту 2 см.,4 см, 6см, 8 см.Сравните теоретические расчеты с экспериментальными д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811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борудование: деревянный брусок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инамометр, линей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93"/>
          <p:cNvPicPr/>
          <p:nvPr/>
        </p:nvPicPr>
        <p:blipFill>
          <a:blip r:embed="rId1"/>
          <a:stretch/>
        </p:blipFill>
        <p:spPr>
          <a:xfrm>
            <a:off x="2987640" y="3716280"/>
            <a:ext cx="2808360" cy="246528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468360" y="1700280"/>
            <a:ext cx="70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пределите центр тяжести плоской картонной фигуры произвольной фор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борудование: картонная фигура, иголка, нитка, груз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4"/>
          <p:cNvSpPr/>
          <p:nvPr/>
        </p:nvSpPr>
        <p:spPr>
          <a:xfrm>
            <a:off x="468360" y="1773360"/>
            <a:ext cx="792144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пределите  теоретически и экспериментально силы  давления бревна на плечи, если груз повесить ближе к одному из несущи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борудование: Рычаг, два динамометра ,линейка, набор груз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5" name="Picture 5" descr="File0023"/>
          <p:cNvPicPr/>
          <p:nvPr/>
        </p:nvPicPr>
        <p:blipFill>
          <a:blip r:embed="rId2"/>
          <a:stretch/>
        </p:blipFill>
        <p:spPr>
          <a:xfrm>
            <a:off x="611280" y="3933720"/>
            <a:ext cx="806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.  С помощью каких частей тела  «братья наши меньшие» сохраняют положение равновесия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2. Почему бутерброд все время падает маслом вниз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3. Изготовьте проект по данной теме( модель неваляшки, перевертыш и т.д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4.Докажите, что центр тяжести треугольника лежит на пересечении медиан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Центром тяжести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аждого тела является некоторая расположенная внутри него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точка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такая, что если за неё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мысленно подвесить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тело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то оно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остается в покое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и сохраняет первоначальное положение."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Архим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93"/>
          <p:cNvPicPr/>
          <p:nvPr/>
        </p:nvPicPr>
        <p:blipFill>
          <a:blip r:embed="rId2"/>
          <a:stretch/>
        </p:blipFill>
        <p:spPr>
          <a:xfrm>
            <a:off x="826920" y="4437000"/>
            <a:ext cx="1543320" cy="15811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556000" y="423828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тяжести те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находиться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 тела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ак, например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ора («бублик»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8" name="Picture 5" descr="C:\Documents and Settings\hiv\Мои документы\Новая папка (2)\Класс!ная физика  Наша фотогалерея.files\95.jpg"/>
          <p:cNvPicPr/>
          <p:nvPr/>
        </p:nvPicPr>
        <p:blipFill>
          <a:blip r:embed="rId3"/>
          <a:stretch/>
        </p:blipFill>
        <p:spPr>
          <a:xfrm>
            <a:off x="6804000" y="5229360"/>
            <a:ext cx="1390680" cy="12096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0" y="432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75"/>
          <p:cNvPicPr/>
          <p:nvPr/>
        </p:nvPicPr>
        <p:blipFill>
          <a:blip r:embed="rId1"/>
          <a:stretch/>
        </p:blipFill>
        <p:spPr>
          <a:xfrm>
            <a:off x="250920" y="3068640"/>
            <a:ext cx="4321080" cy="31687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539640" y="1172880"/>
            <a:ext cx="809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Человек - это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"тело на опоре"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Центр тяжести человека расположен в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нижней части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живота, т.к. вес ног составляет около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оловины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еса тел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3" name="Picture 6" descr="76"/>
          <p:cNvPicPr/>
          <p:nvPr/>
        </p:nvPicPr>
        <p:blipFill>
          <a:blip r:embed="rId3"/>
          <a:stretch/>
        </p:blipFill>
        <p:spPr>
          <a:xfrm>
            <a:off x="4788000" y="3068640"/>
            <a:ext cx="43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75"/>
          <p:cNvPicPr/>
          <p:nvPr/>
        </p:nvPicPr>
        <p:blipFill>
          <a:blip r:embed="rId2"/>
          <a:stretch/>
        </p:blipFill>
        <p:spPr>
          <a:xfrm>
            <a:off x="611280" y="1774800"/>
            <a:ext cx="2808360" cy="1955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76"/>
          <p:cNvPicPr/>
          <p:nvPr/>
        </p:nvPicPr>
        <p:blipFill>
          <a:blip r:embed="rId3"/>
          <a:stretch/>
        </p:blipFill>
        <p:spPr>
          <a:xfrm>
            <a:off x="4859280" y="1700280"/>
            <a:ext cx="3097440" cy="2030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74"/>
          <p:cNvPicPr/>
          <p:nvPr/>
        </p:nvPicPr>
        <p:blipFill>
          <a:blip r:embed="rId4"/>
          <a:stretch/>
        </p:blipFill>
        <p:spPr>
          <a:xfrm>
            <a:off x="1619280" y="4292640"/>
            <a:ext cx="1657440" cy="210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73"/>
          <p:cNvPicPr/>
          <p:nvPr/>
        </p:nvPicPr>
        <p:blipFill>
          <a:blip r:embed="rId5"/>
          <a:stretch/>
        </p:blipFill>
        <p:spPr>
          <a:xfrm>
            <a:off x="5003640" y="4456080"/>
            <a:ext cx="31687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осмотрите на примеры и мысленно проведите вертикаль через центр тяжести человека к плоскости, на которую он опирается. Лежит ли проекция центра тяжести в площади опоры человека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67"/>
          <p:cNvPicPr/>
          <p:nvPr/>
        </p:nvPicPr>
        <p:blipFill>
          <a:blip r:embed="rId1"/>
          <a:stretch/>
        </p:blipFill>
        <p:spPr>
          <a:xfrm>
            <a:off x="250920" y="1197000"/>
            <a:ext cx="2449440" cy="352728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63"/>
          <p:cNvPicPr/>
          <p:nvPr/>
        </p:nvPicPr>
        <p:blipFill>
          <a:blip r:embed="rId3"/>
          <a:stretch/>
        </p:blipFill>
        <p:spPr>
          <a:xfrm>
            <a:off x="6732720" y="836640"/>
            <a:ext cx="1838160" cy="40323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250920" y="486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  <a:ea typeface="Cambria Math"/>
              </a:rPr>
              <a:t>Проекция центра тяжести лежит в площади, ограниченной опорой, и равновесие сохраняется без труд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69"/>
          <p:cNvPicPr/>
          <p:nvPr/>
        </p:nvPicPr>
        <p:blipFill>
          <a:blip r:embed="rId1"/>
          <a:stretch/>
        </p:blipFill>
        <p:spPr>
          <a:xfrm>
            <a:off x="684360" y="3068640"/>
            <a:ext cx="2592360" cy="33130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70"/>
          <p:cNvPicPr/>
          <p:nvPr/>
        </p:nvPicPr>
        <p:blipFill>
          <a:blip r:embed="rId3"/>
          <a:stretch/>
        </p:blipFill>
        <p:spPr>
          <a:xfrm>
            <a:off x="5003640" y="306864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324000" y="148356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величени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площади опоры за счет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ополнительной опоры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(одной или двух палок)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помогает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хран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стойчивость и равновесие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66"/>
          <p:cNvPicPr/>
          <p:nvPr/>
        </p:nvPicPr>
        <p:blipFill>
          <a:blip r:embed="rId1"/>
          <a:stretch/>
        </p:blipFill>
        <p:spPr>
          <a:xfrm>
            <a:off x="324000" y="1413000"/>
            <a:ext cx="3240000" cy="345600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60"/>
          <p:cNvPicPr/>
          <p:nvPr/>
        </p:nvPicPr>
        <p:blipFill>
          <a:blip r:embed="rId3"/>
          <a:stretch/>
        </p:blipFill>
        <p:spPr>
          <a:xfrm>
            <a:off x="5724360" y="1413000"/>
            <a:ext cx="2808360" cy="3384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574560" y="464508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Центр тяжести находится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в сторон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от точек опор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езультате челове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теряет равновесие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адает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2:27:06Z</dcterms:created>
  <dc:creator>hiv</dc:creator>
  <dc:description/>
  <dc:language>en-US</dc:language>
  <cp:lastModifiedBy>Ольга</cp:lastModifiedBy>
  <dcterms:modified xsi:type="dcterms:W3CDTF">2019-10-12T17:24:22Z</dcterms:modified>
  <cp:revision>38</cp:revision>
  <dc:subject/>
  <dc:title>Решение задач по теме: «Статика». Проект урока подготовила: учитель I категории:  Харькова И.В.</dc:title>
</cp:coreProperties>
</file>