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4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7937640" y="6251400"/>
            <a:ext cx="196848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1" name="AutoShape 3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7280" y="219240"/>
            <a:ext cx="9578880" cy="677376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US" sz="5400" spc="-1" strike="noStrike">
                <a:solidFill>
                  <a:srgbClr val="ff9966"/>
                </a:solidFill>
                <a:latin typeface="Arial"/>
              </a:rPr>
              <a:t>Русские народные игры.</a:t>
            </a:r>
            <a:br>
              <a:rPr sz="5400"/>
            </a:br>
            <a:r>
              <a:rPr b="1" i="1" lang="en-US" sz="3200" spc="-1" strike="noStrike">
                <a:solidFill>
                  <a:srgbClr val="ff9966"/>
                </a:solidFill>
                <a:latin typeface="Arial"/>
              </a:rPr>
              <a:t>С</a:t>
            </a:r>
            <a:r>
              <a:rPr b="1" i="1" lang="ru-RU" sz="3200" spc="-1" strike="noStrike">
                <a:solidFill>
                  <a:srgbClr val="ff9966"/>
                </a:solidFill>
                <a:latin typeface="Arial"/>
              </a:rPr>
              <a:t>таршая</a:t>
            </a:r>
            <a:r>
              <a:rPr b="1" i="1" lang="en-US" sz="3200" spc="-1" strike="noStrike">
                <a:solidFill>
                  <a:srgbClr val="ff9966"/>
                </a:solidFill>
                <a:latin typeface="Arial"/>
              </a:rPr>
              <a:t> группа № 9 “Пчелки”</a:t>
            </a:r>
            <a:br>
              <a:rPr sz="3200"/>
            </a:br>
            <a:r>
              <a:rPr b="1" i="1" lang="en-US" sz="3200" spc="-1" strike="noStrike">
                <a:solidFill>
                  <a:srgbClr val="ff9966"/>
                </a:solidFill>
                <a:latin typeface="Arial"/>
              </a:rPr>
              <a:t>ГБОУ </a:t>
            </a:r>
            <a:r>
              <a:rPr b="1" i="1" lang="ru-RU" sz="3200" spc="-1" strike="noStrike">
                <a:solidFill>
                  <a:srgbClr val="ff9966"/>
                </a:solidFill>
                <a:latin typeface="Arial"/>
              </a:rPr>
              <a:t>«Гимназия</a:t>
            </a:r>
            <a:r>
              <a:rPr b="1" i="1" lang="en-US" sz="3200" spc="-1" strike="noStrike">
                <a:solidFill>
                  <a:srgbClr val="ff9966"/>
                </a:solidFill>
                <a:latin typeface="Arial"/>
              </a:rPr>
              <a:t> № 1</a:t>
            </a:r>
            <a:r>
              <a:rPr b="1" i="1" lang="ru-RU" sz="3200" spc="-1" strike="noStrike">
                <a:solidFill>
                  <a:srgbClr val="ff9966"/>
                </a:solidFill>
                <a:latin typeface="Arial"/>
              </a:rPr>
              <a:t>048 Новокосино»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5400"/>
            </a:br>
            <a:br>
              <a:rPr sz="5400"/>
            </a:br>
            <a:br>
              <a:rPr sz="4000"/>
            </a:br>
            <a:br>
              <a:rPr sz="4000"/>
            </a:br>
            <a:endParaRPr b="1" i="1" lang="en-US" sz="32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89000" y="312480"/>
            <a:ext cx="8199360" cy="6675480"/>
          </a:xfrm>
          <a:prstGeom prst="rect">
            <a:avLst/>
          </a:prstGeom>
          <a:noFill/>
          <a:ln w="0">
            <a:noFill/>
          </a:ln>
        </p:spPr>
        <p:txBody>
          <a:bodyPr lIns="0" rIns="0" tIns="34200" bIns="0" anchor="ctr">
            <a:noAutofit/>
          </a:bodyPr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300" spc="-1" strike="noStrike">
              <a:solidFill>
                <a:srgbClr val="e6e6e6"/>
              </a:solidFill>
              <a:latin typeface="Times New Roman"/>
            </a:endParaRPr>
          </a:p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873000" y="2266920"/>
            <a:ext cx="8404200" cy="48243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3200" spc="-1" strike="noStrike">
                <a:solidFill>
                  <a:srgbClr val="ff9966"/>
                </a:solidFill>
                <a:latin typeface="Arial"/>
              </a:rPr>
              <a:t>Гуси – лебеди.</a:t>
            </a:r>
            <a:br>
              <a:rPr sz="32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Хозяин выпускает гусей в поле погулять,зеленой травки пощипать.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792000" y="1655640"/>
            <a:ext cx="8712360" cy="53755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1240" y="215640"/>
            <a:ext cx="8609040" cy="3127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Между хозяином и гусями идет перекличка:</a:t>
            </a:r>
            <a:br>
              <a:rPr sz="24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-Гуси,гуси!               </a:t>
            </a:r>
            <a:br>
              <a:rPr sz="24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-Га, га, га.</a:t>
            </a:r>
            <a:br>
              <a:rPr sz="24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-Есть хотите ?</a:t>
            </a:r>
            <a:br>
              <a:rPr sz="24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-Да, да, да.</a:t>
            </a:r>
            <a:br>
              <a:rPr sz="24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-Ну, летите !</a:t>
            </a:r>
            <a:br>
              <a:rPr sz="24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-Нет, нет, нет. Серый волк под горой не пускает нас домой.</a:t>
            </a:r>
            <a:br>
              <a:rPr sz="24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-Ну ,летите , как хотите, только крылья берегите !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2232000" y="3456000"/>
            <a:ext cx="5832360" cy="39592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Волк пытается их поймать.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576360" y="1152360"/>
            <a:ext cx="8999280" cy="64375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Последний оставшийся гусь, самый ловкий и быстрый.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800280" y="1390680"/>
            <a:ext cx="8624880" cy="59529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3200" spc="-1" strike="noStrike">
                <a:solidFill>
                  <a:srgbClr val="ff9966"/>
                </a:solidFill>
                <a:latin typeface="Arial"/>
              </a:rPr>
              <a:t>Лягушки в болоте.</a:t>
            </a:r>
            <a:endParaRPr b="1" i="1" lang="en-US" sz="32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741240" y="1295280"/>
            <a:ext cx="8834400" cy="62946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Вот с намокнувшей гнилушки</a:t>
            </a:r>
            <a:br>
              <a:rPr sz="24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В воду прыгают лягушки.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41240" y="1368360"/>
            <a:ext cx="8609040" cy="60483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Стали квакать из воды:</a:t>
            </a:r>
            <a:br>
              <a:rPr sz="24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“ Ква – ке -ке, ква -ке -ке,</a:t>
            </a:r>
            <a:br>
              <a:rPr sz="24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Будет дождик на реке”.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720720" y="1544760"/>
            <a:ext cx="8629560" cy="58705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Лягушки прыгают с кочки в болото. Журавль ловит тех лягушек, которые находятся на кочке.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741240" y="1295280"/>
            <a:ext cx="8834400" cy="61912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1240" y="-9360"/>
            <a:ext cx="860904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3200" spc="-1" strike="noStrike">
                <a:solidFill>
                  <a:srgbClr val="ff9966"/>
                </a:solidFill>
                <a:latin typeface="Arial"/>
              </a:rPr>
              <a:t>КРАСКИ.</a:t>
            </a:r>
            <a:br>
              <a:rPr sz="32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Покупатель пришел в магазин : “ Тук – тук!”</a:t>
            </a:r>
            <a:br>
              <a:rPr sz="24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Продавец : “ Кто там ?”</a:t>
            </a:r>
            <a:br>
              <a:rPr sz="24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- “ Это я, Лидочка “.     -  “ Зачем пришла ?”</a:t>
            </a:r>
            <a:br>
              <a:rPr sz="24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- “ За краской “.    - “ За какой ?”       -”За красной  “.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936720" y="1836720"/>
            <a:ext cx="8413560" cy="55069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Если такая краска есть, продавец говорит,сколько она стоит и покупатель столько раз ударяет его по ладони.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576360" y="1440000"/>
            <a:ext cx="9072360" cy="59036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Зазывалка: Приглашаем детвору на веселую игру.</a:t>
            </a:r>
            <a:br>
              <a:rPr sz="24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А кого не примем за уши поднимем.</a:t>
            </a:r>
            <a:br>
              <a:rPr sz="24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Уши будут красные , до того прекрасные.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936720" y="1544760"/>
            <a:ext cx="8496360" cy="56545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Краска ” убегает, а покупатель ее догоняет. Если названной краски нет, продавец говорит: “ Скачи по красной дорожке на одной ножке .”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647640" y="1440000"/>
            <a:ext cx="8928000" cy="59752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1240" y="165240"/>
            <a:ext cx="8609040" cy="149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3200" spc="-1" strike="noStrike">
                <a:solidFill>
                  <a:srgbClr val="ff9966"/>
                </a:solidFill>
                <a:latin typeface="Arial"/>
              </a:rPr>
              <a:t>АЛЕНУШКА И ИВАНУШКА.</a:t>
            </a:r>
            <a:br>
              <a:rPr sz="32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Игроки встают в круг и берутся за руки. Выбираются Аленушка и Иванушка, им завязывают глаза. Они находятся внутри круга.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868320" y="1662120"/>
            <a:ext cx="8475840" cy="56815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Иванушка должен поймать Аленушку.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647640" y="1224000"/>
            <a:ext cx="8856720" cy="61196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Иванушка зовет : “ Аленушка ! “  Та обязательно должна откликаться : “ Я здесь, Иванушка !”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657360" y="1295280"/>
            <a:ext cx="8764560" cy="59756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1240" y="165240"/>
            <a:ext cx="8609040" cy="149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3200" spc="-1" strike="noStrike">
                <a:solidFill>
                  <a:srgbClr val="ff9966"/>
                </a:solidFill>
                <a:latin typeface="Arial"/>
              </a:rPr>
              <a:t>              </a:t>
            </a:r>
            <a:r>
              <a:rPr b="1" i="1" lang="en-US" sz="3200" spc="-1" strike="noStrike">
                <a:solidFill>
                  <a:srgbClr val="ff9966"/>
                </a:solidFill>
                <a:latin typeface="Arial"/>
              </a:rPr>
              <a:t>МОРОЗ КРАСНЫЙ НОС.</a:t>
            </a:r>
            <a:br>
              <a:rPr sz="32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Водящий : Я – Мороз Красный Нос.</a:t>
            </a:r>
            <a:br>
              <a:rPr sz="24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                  Кто из вас решится</a:t>
            </a:r>
            <a:br>
              <a:rPr sz="24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                  В путь – дороженьку пустится ?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746280" y="1728720"/>
            <a:ext cx="8466120" cy="56167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Играющие : Не боимся мы угроз</a:t>
            </a:r>
            <a:br>
              <a:rPr sz="24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                      И не страшен нам мороз.</a:t>
            </a:r>
            <a:br>
              <a:rPr sz="24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Дети перебегают через площадку.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652320" y="1544760"/>
            <a:ext cx="8847360" cy="57988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Мороз старается их заморозить ( коснуться рукой).</a:t>
            </a:r>
            <a:br>
              <a:rPr sz="24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Замороженные останавливаются на том месте,где</a:t>
            </a:r>
            <a:br>
              <a:rPr sz="24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их настиг Мороз, и стоят до окончания перебежки.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582480" y="1544760"/>
            <a:ext cx="8987040" cy="57988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Мир детства не может быть без игры. Игра в жизни ребенка – это минуты радости, забавы, соревнования, она ведет ребенка по жизни.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592200" y="1544760"/>
            <a:ext cx="8896320" cy="57276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Считалочка группы “ Пчелки”: </a:t>
            </a:r>
            <a:br>
              <a:rPr sz="24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Пчелки в поле полетели, зажужжали, загудели.</a:t>
            </a:r>
            <a:br>
              <a:rPr sz="24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Сели пчелы на цветы. Мы играем – водишь ты.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750960" y="1511280"/>
            <a:ext cx="8959680" cy="60469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3200" spc="-1" strike="noStrike">
                <a:solidFill>
                  <a:srgbClr val="ff9966"/>
                </a:solidFill>
                <a:latin typeface="Arial"/>
              </a:rPr>
              <a:t>Пчелки и ласточка.</a:t>
            </a:r>
            <a:br>
              <a:rPr sz="32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Пчелки летают,нектар собирают!</a:t>
            </a:r>
            <a:br>
              <a:rPr sz="24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Зум,зум,зум! Зум,зум,зум!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741240" y="1544760"/>
            <a:ext cx="8618760" cy="59436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Игроки – пчелы летают по поляне.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431640" y="1368360"/>
            <a:ext cx="9215640" cy="61912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Ласточка сидит в своем гнезде , слушает их песенку и говорит: “ Ласточка встанет , пчелку поймает “.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606600" y="1349280"/>
            <a:ext cx="8928000" cy="6120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1240" y="423720"/>
            <a:ext cx="8609040" cy="32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3200" spc="-1" strike="noStrike">
                <a:solidFill>
                  <a:srgbClr val="ff9966"/>
                </a:solidFill>
                <a:latin typeface="Arial"/>
              </a:rPr>
              <a:t>У медведя во бору.</a:t>
            </a:r>
            <a:br>
              <a:rPr sz="32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Дети выходят из дома со словами:</a:t>
            </a:r>
            <a:br>
              <a:rPr sz="24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У медведя во бору грибы, ягоды беру.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2400"/>
            </a:br>
            <a:br>
              <a:rPr sz="3200"/>
            </a:br>
            <a:br>
              <a:rPr sz="3200"/>
            </a:b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936720" y="1800360"/>
            <a:ext cx="8280360" cy="51987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А медведь не спит </a:t>
            </a:r>
            <a:br>
              <a:rPr sz="24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И на нас рычит.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741240" y="1368360"/>
            <a:ext cx="8609040" cy="56642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Медведь выбегает из берлоги и старается поймать кого – либо из детей.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576360" y="1368360"/>
            <a:ext cx="8772480" cy="56642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6T10:23:02Z</dcterms:created>
  <dc:creator>Sergey Volkov</dc:creator>
  <dc:description>Предложение пути развития и альтернатив, рекомендации по использованию той или другой стратегии</dc:description>
  <dc:language>en-US</dc:language>
  <cp:lastModifiedBy>home</cp:lastModifiedBy>
  <dcterms:modified xsi:type="dcterms:W3CDTF">2019-10-12T14:06:44Z</dcterms:modified>
  <cp:revision>77</cp:revision>
  <dc:subject/>
  <dc:title>Предложение стратегии</dc:title>
</cp:coreProperties>
</file>