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0A4-D8CA-401F-8DA1-00087216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E8E-F903-47B9-BF5D-ED3EE61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6D2-D546-4BD1-A7B8-CCB88B99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00C-9A91-4948-9A01-F2C5A3A0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B37-E40E-491A-B934-4DBC0F0E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03E-4F22-46C9-8DAA-CE8ADBE2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4E4-F194-456C-997F-1C690DFE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AC9-961A-4714-A999-35B7C003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689-8D2B-43E5-B76F-664545F7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34F-6753-402B-BB60-10FC106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A96-4CBF-44E6-A49A-3122AAD2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372-9B4A-40ED-834E-3534650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40CE-867F-4F03-A5CF-9FEFED8207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ФГОС"/>
          <p:cNvPicPr/>
          <p:nvPr/>
        </p:nvPicPr>
        <p:blipFill>
          <a:blip r:embed="rId1"/>
          <a:stretch/>
        </p:blipFill>
        <p:spPr>
          <a:xfrm>
            <a:off x="8688240" y="0"/>
            <a:ext cx="455760" cy="620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24000" y="685440"/>
            <a:ext cx="835344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мысловое чт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такое качество чтения, при котором достигается понимание информационной, смысловой и идейной сторон произведения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 смыслового чтения - максимально точно и полно понять содержание текста, уловить все детали и практически осмыслить извлеченную информацию. Когда ребенок владеет смысловым чтением, то у него развива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н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чь и, как следующая важная ступень развития, реч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исьменн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95280" y="4021200"/>
            <a:ext cx="8353440" cy="24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цессе обучения смысловому чтению младшие школьники должны научиться текст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им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нализир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равни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оизменя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енерир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оздавать тексты под свои цели и задачи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50920" y="1699560"/>
            <a:ext cx="532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ика чт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Литературное чтение_4 класс_РТ_блок_Страница_01"/>
          <p:cNvPicPr/>
          <p:nvPr/>
        </p:nvPicPr>
        <p:blipFill>
          <a:blip r:embed="rId1"/>
          <a:srcRect l="10470" t="52663" r="11439" b="5089"/>
          <a:stretch/>
        </p:blipFill>
        <p:spPr>
          <a:xfrm>
            <a:off x="5651640" y="1700280"/>
            <a:ext cx="3313080" cy="2560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82692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50920" y="1695240"/>
            <a:ext cx="5327640" cy="283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ика чте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пособ ч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Темп (скорость) ч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сознанность ч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Выразительность ч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Литературное чтение_4 класс_РТ_блок_Страница_01"/>
          <p:cNvPicPr/>
          <p:nvPr/>
        </p:nvPicPr>
        <p:blipFill>
          <a:blip r:embed="rId1"/>
          <a:srcRect l="10478" t="52663" r="11440" b="5084"/>
          <a:stretch/>
        </p:blipFill>
        <p:spPr>
          <a:xfrm>
            <a:off x="5508720" y="1695600"/>
            <a:ext cx="3095640" cy="239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250920" y="1556640"/>
            <a:ext cx="3816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пособ чт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71640" y="2344680"/>
            <a:ext cx="3744720" cy="18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л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 с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г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ыми слов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826920" cy="557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79200" y="1352160"/>
            <a:ext cx="56898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Темп (скорость) чт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2204280"/>
            <a:ext cx="87854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слов в минуту может прочитать уче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79280" y="2962080"/>
            <a:ext cx="8785440" cy="2226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ГОС НОО: ориентировочный темп для выпускника 4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-120 слов в мину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ГОТОВО"/>
          <p:cNvPicPr/>
          <p:nvPr/>
        </p:nvPicPr>
        <p:blipFill>
          <a:blip r:embed="rId1"/>
          <a:stretch/>
        </p:blipFill>
        <p:spPr>
          <a:xfrm>
            <a:off x="0" y="0"/>
            <a:ext cx="826920" cy="557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79200" y="1352160"/>
            <a:ext cx="56898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Темп (скорость) чт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340000" y="2222640"/>
            <a:ext cx="4464000" cy="41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-30 слов в мину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-60 слов в мину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-90 слов в мину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-120 слов в мину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ГОТОВО"/>
          <p:cNvPicPr/>
          <p:nvPr/>
        </p:nvPicPr>
        <p:blipFill>
          <a:blip r:embed="rId1"/>
          <a:stretch/>
        </p:blipFill>
        <p:spPr>
          <a:xfrm>
            <a:off x="0" y="0"/>
            <a:ext cx="826920" cy="557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792000"/>
            <a:ext cx="8785440" cy="573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текстам для оценки скорости чтения (про себя) позволяющий понимать смысл прочита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ксты должн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иметь воспитательную / образовательную цен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читывать интересы,  и возрастные особенности младших школь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оответствовать определенному объёму, т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класс: 60-80 слов,      2 класс: 100-200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 класс: 200-300 слов; 4 класс: 300-400 с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иметь ярко выраженный сюж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быть незнакомым учащим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корость чт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азовый уровень: текст прочитан про себя со скоростью 100-120 слов в мину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ышенный уровень: текст прочитан про себя со скоростью более 120 слов в мину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ГОТОВО"/>
          <p:cNvPicPr/>
          <p:nvPr/>
        </p:nvPicPr>
        <p:blipFill>
          <a:blip r:embed="rId1"/>
          <a:stretch/>
        </p:blipFill>
        <p:spPr>
          <a:xfrm>
            <a:off x="0" y="0"/>
            <a:ext cx="826920" cy="557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50920" y="764640"/>
            <a:ext cx="65260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ыразительность чт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50920" y="1557720"/>
            <a:ext cx="8224920" cy="1845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колько хорошо, ученик при чтении умеет передавать интонацией настроение текста, соблюдать знаки препинания, соблюдать логические ударения, правильно ставить ударение в словах при произношен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ГОТОВО"/>
          <p:cNvPicPr/>
          <p:nvPr/>
        </p:nvPicPr>
        <p:blipFill>
          <a:blip r:embed="rId1"/>
          <a:stretch/>
        </p:blipFill>
        <p:spPr>
          <a:xfrm>
            <a:off x="0" y="0"/>
            <a:ext cx="826920" cy="557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179280" y="764640"/>
            <a:ext cx="6526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ыразительность чт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24000" y="1559160"/>
            <a:ext cx="8224560" cy="446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и проверке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выразительности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чтения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етям дается знакомый художественный текст и время на подготовку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ексты обязательно должны быть понятны для детей данного возраста (нельзя при проверке выразительности чтения в 1 классе, брать тексты из учебника для 4 класса)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спользуем различные поэтические и прозаические тексты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е забываем про выразительное чтение текста с диалогом по роля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ГОТОВО"/>
          <p:cNvPicPr/>
          <p:nvPr/>
        </p:nvPicPr>
        <p:blipFill>
          <a:blip r:embed="rId1"/>
          <a:stretch/>
        </p:blipFill>
        <p:spPr>
          <a:xfrm>
            <a:off x="0" y="0"/>
            <a:ext cx="826920" cy="557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ГОТОВО"/>
          <p:cNvPicPr/>
          <p:nvPr/>
        </p:nvPicPr>
        <p:blipFill>
          <a:blip r:embed="rId1"/>
          <a:stretch/>
        </p:blipFill>
        <p:spPr>
          <a:xfrm>
            <a:off x="0" y="0"/>
            <a:ext cx="133200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179280" y="1305000"/>
            <a:ext cx="871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та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Москва, Угличская ул., д. 12 корп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йт издательства: www.planeta-knig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ог издательства: catalog.planeta-knig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лефон: +7 (495) 988-72-83 (доб. 309, 3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E-mail: planeta@planeta-kniga.ru, info@planeta-knig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ет магазин: www.roslit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3" descr="ФГОС"/>
          <p:cNvPicPr/>
          <p:nvPr/>
        </p:nvPicPr>
        <p:blipFill>
          <a:blip r:embed="rId1"/>
          <a:stretch/>
        </p:blipFill>
        <p:spPr>
          <a:xfrm>
            <a:off x="8688240" y="0"/>
            <a:ext cx="455760" cy="62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12680" y="790200"/>
            <a:ext cx="2736720" cy="311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смотров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тение — вид смыслового чтения, при котором происходит поиск конкретной информации или фак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Информация_3_Страница_006"/>
          <p:cNvPicPr/>
          <p:nvPr/>
        </p:nvPicPr>
        <p:blipFill>
          <a:blip r:embed="rId3"/>
          <a:stretch/>
        </p:blipFill>
        <p:spPr>
          <a:xfrm>
            <a:off x="2916360" y="765000"/>
            <a:ext cx="604836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3" descr="ФГОС"/>
          <p:cNvPicPr/>
          <p:nvPr/>
        </p:nvPicPr>
        <p:blipFill>
          <a:blip r:embed="rId1"/>
          <a:stretch/>
        </p:blipFill>
        <p:spPr>
          <a:xfrm>
            <a:off x="8688240" y="0"/>
            <a:ext cx="455760" cy="62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24000" y="906480"/>
            <a:ext cx="2808000" cy="2775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знакомитель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тение — вид, с помощью которого в тексте определяется главный смысл, ключевая информац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7" descr="Информация_3_Страница_014"/>
          <p:cNvPicPr/>
          <p:nvPr/>
        </p:nvPicPr>
        <p:blipFill>
          <a:blip r:embed="rId3"/>
          <a:stretch/>
        </p:blipFill>
        <p:spPr>
          <a:xfrm>
            <a:off x="4284720" y="692280"/>
            <a:ext cx="448128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3" descr="ФГОС"/>
          <p:cNvPicPr/>
          <p:nvPr/>
        </p:nvPicPr>
        <p:blipFill>
          <a:blip r:embed="rId1"/>
          <a:stretch/>
        </p:blipFill>
        <p:spPr>
          <a:xfrm>
            <a:off x="8688240" y="0"/>
            <a:ext cx="455760" cy="620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9280" y="690120"/>
            <a:ext cx="3097440" cy="4451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учающе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вид смыслового чтения, при котором, в зависимости от цели, происходит поиск полной и точной информации и дальнейшая ее интерпретация. Из всего написанного выделяется главное, а второстепенное опуска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8" descr="Информация_3_Страница_018"/>
          <p:cNvPicPr/>
          <p:nvPr/>
        </p:nvPicPr>
        <p:blipFill>
          <a:blip r:embed="rId3"/>
          <a:stretch/>
        </p:blipFill>
        <p:spPr>
          <a:xfrm>
            <a:off x="3708360" y="692280"/>
            <a:ext cx="48402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3" descr="ФГОС"/>
          <p:cNvPicPr/>
          <p:nvPr/>
        </p:nvPicPr>
        <p:blipFill>
          <a:blip r:embed="rId1"/>
          <a:stretch/>
        </p:blipFill>
        <p:spPr>
          <a:xfrm>
            <a:off x="8688240" y="0"/>
            <a:ext cx="45576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90360" y="789840"/>
            <a:ext cx="2808360" cy="5121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учающе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вид смыслового чтения, при котором, в зависимости от цели, происходит поиск полной и точной информации и дальнейшая ее интерпретация. Из всего написанного выделяется главное, а второстепенное опуска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В мире информации_МАКЕТ В ПЕЧАТЬ_1 класс_тетрадь_Страница_1"/>
          <p:cNvPicPr/>
          <p:nvPr/>
        </p:nvPicPr>
        <p:blipFill>
          <a:blip r:embed="rId3"/>
          <a:srcRect l="0" t="0" r="0" b="27574"/>
          <a:stretch/>
        </p:blipFill>
        <p:spPr>
          <a:xfrm>
            <a:off x="3016080" y="765000"/>
            <a:ext cx="606744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3" descr="ФГОС"/>
          <p:cNvPicPr/>
          <p:nvPr/>
        </p:nvPicPr>
        <p:blipFill>
          <a:blip r:embed="rId1"/>
          <a:stretch/>
        </p:blipFill>
        <p:spPr>
          <a:xfrm>
            <a:off x="8688240" y="0"/>
            <a:ext cx="455760" cy="62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79280" y="690120"/>
            <a:ext cx="3097440" cy="4451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учающе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вид смыслового чтения, при котором, в зависимости от цели, происходит поиск полной и точной информации и дальнейшая ее интерпретация. Из всего написанного выделяется главное, а второстепенное опуска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В мире информации_МАКЕТ В ПЕЧАТЬ_1 класс_тетрадь_Страница_1"/>
          <p:cNvPicPr/>
          <p:nvPr/>
        </p:nvPicPr>
        <p:blipFill>
          <a:blip r:embed="rId3"/>
          <a:srcRect l="0" t="0" r="0" b="91817"/>
          <a:stretch/>
        </p:blipFill>
        <p:spPr>
          <a:xfrm>
            <a:off x="3564000" y="692280"/>
            <a:ext cx="4843440" cy="50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В мире информации_МАКЕТ В ПЕЧАТЬ_1 класс_тетрадь_Страница_1"/>
          <p:cNvPicPr/>
          <p:nvPr/>
        </p:nvPicPr>
        <p:blipFill>
          <a:blip r:embed="rId4"/>
          <a:srcRect l="0" t="72431" r="0" b="0"/>
          <a:stretch/>
        </p:blipFill>
        <p:spPr>
          <a:xfrm>
            <a:off x="3564000" y="1197000"/>
            <a:ext cx="4843440" cy="170028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3419640" y="692280"/>
            <a:ext cx="5579640" cy="2952360"/>
            <a:chOff x="3419640" y="692280"/>
            <a:chExt cx="5579640" cy="2952360"/>
          </a:xfrm>
        </p:grpSpPr>
        <p:pic>
          <p:nvPicPr>
            <p:cNvPr id="73" name="Picture 8" descr="В мире информации_МАКЕТ В ПЕЧАТЬ_1 класс_тетрадь_Страница_1"/>
            <p:cNvPicPr/>
            <p:nvPr/>
          </p:nvPicPr>
          <p:blipFill>
            <a:blip r:embed="rId5"/>
            <a:srcRect l="0" t="0" r="0" b="91817"/>
            <a:stretch/>
          </p:blipFill>
          <p:spPr>
            <a:xfrm>
              <a:off x="3419640" y="692280"/>
              <a:ext cx="5579640" cy="67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9" descr="В мире информации_МАКЕТ В ПЕЧАТЬ_1 класс_тетрадь_Страница_1"/>
            <p:cNvPicPr/>
            <p:nvPr/>
          </p:nvPicPr>
          <p:blipFill>
            <a:blip r:embed="rId6"/>
            <a:srcRect l="0" t="72431" r="0" b="0"/>
            <a:stretch/>
          </p:blipFill>
          <p:spPr>
            <a:xfrm>
              <a:off x="3419640" y="1368000"/>
              <a:ext cx="5579640" cy="22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3" descr="ФГОС"/>
          <p:cNvPicPr/>
          <p:nvPr/>
        </p:nvPicPr>
        <p:blipFill>
          <a:blip r:embed="rId1"/>
          <a:stretch/>
        </p:blipFill>
        <p:spPr>
          <a:xfrm>
            <a:off x="8688240" y="0"/>
            <a:ext cx="455760" cy="62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79280" y="763200"/>
            <a:ext cx="3313080" cy="3110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флексив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самое вдумчивое чтение. Во время такого процесса читающий предвосхищает будущие события, прочитав заголовок или по ходу чтения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8" descr="Информация_3_Страница_024"/>
          <p:cNvPicPr/>
          <p:nvPr/>
        </p:nvPicPr>
        <p:blipFill>
          <a:blip r:embed="rId3"/>
          <a:stretch/>
        </p:blipFill>
        <p:spPr>
          <a:xfrm>
            <a:off x="3884760" y="698400"/>
            <a:ext cx="4591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3" descr="ФГОС"/>
          <p:cNvPicPr/>
          <p:nvPr/>
        </p:nvPicPr>
        <p:blipFill>
          <a:blip r:embed="rId1"/>
          <a:stretch/>
        </p:blipFill>
        <p:spPr>
          <a:xfrm>
            <a:off x="8688240" y="0"/>
            <a:ext cx="455760" cy="620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ГОТОВО"/>
          <p:cNvPicPr/>
          <p:nvPr/>
        </p:nvPicPr>
        <p:blipFill>
          <a:blip r:embed="rId2"/>
          <a:stretch/>
        </p:blipFill>
        <p:spPr>
          <a:xfrm>
            <a:off x="0" y="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8000" y="740520"/>
            <a:ext cx="9036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Для обучения смысловому чтению используются следующие методы и приемы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уме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нализир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д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ис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юче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лов в задании и умени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читывать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инструкц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поставленные вопросы (и письменные, и устные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бытий в текст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ание прост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вод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 прочт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образование прочитанного текст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аблиц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поста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люстративного материала с текстовой информаци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ясн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зличных ситуаций с помощью прочитанного текс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, опираясь на прочитанный текст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казы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ою точку зрения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оверг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кие-либо утвержд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хождение нужной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различных источниках: словарях, справочниках, энциклопедиях и т.д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ГОТОВО"/>
          <p:cNvPicPr/>
          <p:nvPr/>
        </p:nvPicPr>
        <p:blipFill>
          <a:blip r:embed="rId1"/>
          <a:stretch/>
        </p:blipFill>
        <p:spPr>
          <a:xfrm>
            <a:off x="0" y="0"/>
            <a:ext cx="826920" cy="557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1116000" y="71280"/>
            <a:ext cx="748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мыслов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39640" y="784440"/>
            <a:ext cx="8207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у по формированию умений и навыков смыслового чтения необходимо проводить в системе, усложняя приемы и способы чтения и обработки информации от класса к классу. Какие основные этапы нельзя пропускать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0920" y="2469240"/>
            <a:ext cx="4027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бота с незнакомыми слов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7040" y="3345480"/>
            <a:ext cx="40276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бота с ключевыми слов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7040" y="4253400"/>
            <a:ext cx="40276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бота со словами-образ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50920" y="5172480"/>
            <a:ext cx="4027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бота с многозначными слов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50920" y="6004440"/>
            <a:ext cx="4027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бота с фразеологизм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467240" y="2373480"/>
            <a:ext cx="45356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сказ по предложен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530600" y="4341600"/>
            <a:ext cx="4535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алог с автором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494240" y="3253320"/>
            <a:ext cx="45356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е читательского воображ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4494240" y="5424840"/>
            <a:ext cx="45356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хника чт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0:00:54Z</dcterms:created>
  <dc:creator>1</dc:creator>
  <dc:description/>
  <dc:language>en-US</dc:language>
  <cp:lastModifiedBy>user</cp:lastModifiedBy>
  <dcterms:modified xsi:type="dcterms:W3CDTF">2019-10-12T10:24:29Z</dcterms:modified>
  <cp:revision>442</cp:revision>
  <dc:subject/>
  <dc:title>Издательство «Глобус»</dc:title>
</cp:coreProperties>
</file>