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C36-B2B6-4DB9-8229-591368D8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C7F-D4C9-4CC9-89C8-348C2C17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A9C-0634-43DE-AE4B-A213BCE0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C1F-8B26-4011-8264-8DA34DB4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E09-E55D-41B4-AB02-91BFDD57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8DB-C359-4889-B43E-5F5E1B7E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DAC-BA8B-4018-B434-A9DB4C54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B14-C470-485E-97B8-1101FB98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46C-42E9-4302-877C-138DBDBB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A9B-801E-4765-BC75-F05D6BF8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86F-F089-4CB9-8DF7-7887DD69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CFB-6099-4EA6-968B-BD427C26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08C7-7F9D-48A0-A9CF-86083574A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ru.wikisource.org/w/index.php?title=&#1069;&#1057;&#1041;&#1045;/09/%20&#1058;&#1072;&#1073;&#1083;&#1080;&#1094;&#1099;_&#1076;&#1083;&#1103;_&#1087;&#1077;&#1088;&#1077;&#1074;&#1086;&#1076;&#1072;_&#1084;&#1077;&#1090;&#1088;&#1080;&#1095;&#1077;&#1089;&#1082;&#1080;&#1093;_(&#1076;&#1077;&#1089;&#1103;&#1090;&#1080;&#1095;&#1085;&#1099;&#1093;)_&#1084;&#1077;&#1088;_&#1074;_&#1088;&#1091;&#1089;&#1089;&#1082;&#1080;&#1077;_&#1080;_&#1088;&#1091;&#1089;&#1089;&#1082;&#1080;&#1093;_&#8212;_&#1074;_&#1084;&#1077;&#1090;&#1088;&#1080;&#1095;&#1077;&#1089;&#1082;&#1080;&#1077;&amp;oldid=1876604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11160"/>
            <a:ext cx="8229600" cy="207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Ильина Полина, ученица 6 класса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ятников Владимир, ученик 5 класса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уководитель Васильева О.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Коробовская СОШ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033560" y="1600200"/>
            <a:ext cx="7315200" cy="14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ринные ме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803680" y="3271680"/>
            <a:ext cx="335592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личи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803680" y="600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geo"/>
          <p:cNvPicPr/>
          <p:nvPr/>
        </p:nvPicPr>
        <p:blipFill>
          <a:blip r:embed="rId1"/>
          <a:stretch/>
        </p:blipFill>
        <p:spPr>
          <a:xfrm>
            <a:off x="457200" y="1392120"/>
            <a:ext cx="8410680" cy="5286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а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1600" y="1600200"/>
            <a:ext cx="6054840" cy="22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476520" y="2178000"/>
            <a:ext cx="470160" cy="5526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 rot="19762200">
            <a:off x="2062080" y="5872320"/>
            <a:ext cx="706680" cy="355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3287520" y="2612880"/>
            <a:ext cx="252360" cy="1684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2425320" y="5546880"/>
            <a:ext cx="466920" cy="4269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2868480" y="4035600"/>
            <a:ext cx="252720" cy="13302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3121200" y="3375000"/>
            <a:ext cx="0" cy="5176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3121200" y="2892600"/>
            <a:ext cx="102960" cy="3682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 flipH="1" flipV="1">
            <a:off x="1950840" y="5497200"/>
            <a:ext cx="206280" cy="374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696429_BIG_0_0"/>
          <p:cNvPicPr/>
          <p:nvPr/>
        </p:nvPicPr>
        <p:blipFill>
          <a:blip r:embed="rId2"/>
          <a:stretch/>
        </p:blipFill>
        <p:spPr>
          <a:xfrm>
            <a:off x="2425680" y="54000"/>
            <a:ext cx="3525840" cy="5818320"/>
          </a:xfrm>
          <a:prstGeom prst="rect">
            <a:avLst/>
          </a:prstGeom>
          <a:ln w="0">
            <a:noFill/>
          </a:ln>
        </p:spPr>
      </p:pic>
      <p:sp>
        <p:nvSpPr>
          <p:cNvPr id="91" name="Line 14"/>
          <p:cNvSpPr/>
          <p:nvPr/>
        </p:nvSpPr>
        <p:spPr>
          <a:xfrm flipV="1">
            <a:off x="1951200" y="5365440"/>
            <a:ext cx="680760" cy="1206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2768760" y="5328720"/>
            <a:ext cx="704520" cy="4932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3705120" y="5339880"/>
            <a:ext cx="493920" cy="4932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4842000" y="5329080"/>
            <a:ext cx="420480" cy="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5762520" y="5365800"/>
            <a:ext cx="422280" cy="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6400800" y="5378400"/>
            <a:ext cx="650880" cy="666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7194600" y="5497560"/>
            <a:ext cx="745920" cy="1364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>
            <a:off x="8109000" y="5649840"/>
            <a:ext cx="409680" cy="525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 flipV="1">
            <a:off x="457200" y="5565600"/>
            <a:ext cx="604800" cy="136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4199040" y="1249200"/>
            <a:ext cx="4487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.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ая длина Магелланова пролива всего триста семьдесят шесть м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 flipV="1">
            <a:off x="1298520" y="5478480"/>
            <a:ext cx="422280" cy="68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817560" y="520524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Тольку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рвая карта-карта Южной Амери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у карту составил автор Жюль Вер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рихами указан путь движения экспедиции по Южной Америке: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Чили, Анды, Патагония, Пампасы, Арген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eg_ru1_full"/>
          <p:cNvPicPr/>
          <p:nvPr/>
        </p:nvPicPr>
        <p:blipFill>
          <a:blip r:embed="rId1"/>
          <a:stretch/>
        </p:blipFill>
        <p:spPr>
          <a:xfrm>
            <a:off x="1023840" y="1600200"/>
            <a:ext cx="766296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торая карта – карта Южной Австрали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риховкой показан путь экспедиции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через Австрал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 восточному побережью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по 37 паралл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1119-eg_ru2_full"/>
          <p:cNvPicPr/>
          <p:nvPr/>
        </p:nvPicPr>
        <p:blipFill>
          <a:blip r:embed="rId1"/>
          <a:stretch/>
        </p:blipFill>
        <p:spPr>
          <a:xfrm>
            <a:off x="1028880" y="1600200"/>
            <a:ext cx="708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ретья карта- ка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вижения экспедиции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 37 параллели через Новую Зеланд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тров Табор- здесь найден и спасен капитан Гарри Гранд. Экспедиция пересекла три океана: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Тихий, Атлантический и Инди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g_ru-3_full"/>
          <p:cNvPicPr/>
          <p:nvPr/>
        </p:nvPicPr>
        <p:blipFill>
          <a:blip r:embed="rId1"/>
          <a:stretch/>
        </p:blipFill>
        <p:spPr>
          <a:xfrm>
            <a:off x="457200" y="1503360"/>
            <a:ext cx="7837560" cy="4967280"/>
          </a:xfrm>
          <a:prstGeom prst="rect">
            <a:avLst/>
          </a:prstGeom>
          <a:ln w="0">
            <a:noFill/>
          </a:ln>
        </p:spPr>
      </p:pic>
      <p:sp>
        <p:nvSpPr>
          <p:cNvPr id="109" name="Oval 5"/>
          <p:cNvSpPr/>
          <p:nvPr/>
        </p:nvSpPr>
        <p:spPr>
          <a:xfrm>
            <a:off x="6353280" y="3260880"/>
            <a:ext cx="914400" cy="9144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52360"/>
            <a:ext cx="80643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74 </a:t>
            </a:r>
            <a:br>
              <a:rPr sz="14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чная длина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Магелланова проли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сего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триста семьдесят шесть миль.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Задача для исследов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22440" y="1608120"/>
          <a:ext cx="8229600" cy="4110120"/>
        </p:xfrm>
        <a:graphic>
          <a:graphicData uri="http://schemas.openxmlformats.org/drawingml/2006/table">
            <a:tbl>
              <a:tblPr/>
              <a:tblGrid>
                <a:gridCol w="330120"/>
                <a:gridCol w="326880"/>
                <a:gridCol w="330120"/>
                <a:gridCol w="328680"/>
                <a:gridCol w="330120"/>
                <a:gridCol w="330480"/>
                <a:gridCol w="326880"/>
                <a:gridCol w="330120"/>
                <a:gridCol w="328680"/>
                <a:gridCol w="330120"/>
                <a:gridCol w="330480"/>
                <a:gridCol w="326880"/>
                <a:gridCol w="330120"/>
                <a:gridCol w="328680"/>
                <a:gridCol w="328680"/>
                <a:gridCol w="330120"/>
                <a:gridCol w="328680"/>
                <a:gridCol w="330120"/>
                <a:gridCol w="327240"/>
                <a:gridCol w="330120"/>
                <a:gridCol w="330120"/>
                <a:gridCol w="328680"/>
                <a:gridCol w="330120"/>
                <a:gridCol w="326880"/>
                <a:gridCol w="330480"/>
              </a:tblGrid>
              <a:tr h="2302560">
                <a:tc rowSpan="2"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я (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ий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ий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гер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циан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ь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ланд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ландская н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ипет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ан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лондон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орская американ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орская англий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ская международ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аполитан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ц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веж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угаль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ус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м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ед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5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6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,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1,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3,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,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7,5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2,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,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,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572,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96,7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96,7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,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,2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9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45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7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6,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2,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,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7,8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,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11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127"/>
          <p:cNvSpPr/>
          <p:nvPr/>
        </p:nvSpPr>
        <p:spPr>
          <a:xfrm>
            <a:off x="816120" y="5967360"/>
            <a:ext cx="67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Магелланова пролива – 575 км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едения из интерне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. 237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уже два дня, как непрерывн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адает баро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настоящий момент он стоит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 двадцати девяти дюймах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5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 дюйм = 2, 5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,54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длина в дюймах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длина в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 2,5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 = 73,6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ормальная высота ртутного столба – 7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.2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полночь ветер стал крепчать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скорость его достигла 36 футов в секу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· 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где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длина в футах, соответствующая длина в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·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6 = 1094,4см, значит скорость была приближенно равна 11 м в секу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6528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. 225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– под темной застывшей лавы били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горяч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клю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Температу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которых источников была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очень высо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жон Манглс погрузил в один из них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термометр Фаренгей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 он показал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то семьдесят граду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вода градусов Фаренгейта в градусы Цельсия используют форму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°C = 5/9 (°F – 3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°C = 5/9 (170 – 32) = 5/9  ·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7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≈ 8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°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1440" y="38988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1440" y="38988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1440" y="38988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440" y="348696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.488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бширном пространстве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двадцать квадратных ми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было видеть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севозможные проявления подземных си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в. мили (географические) в кв. километр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(1 кв. миля = 55,06299 кв. км)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лощадь участ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= 55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·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20 = 1100 кв. к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.514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раз на 37 параллели значился клочок земли под названием ри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 ария – Тереза. Этот скалистый. Затерянный в Тихом океане островок расположен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 трех с половиной тысячах мил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 американского побережья и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 тысяче пятистах миля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 Новой Зеланд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P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=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1,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853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·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m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, где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m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– расстояние в морских мил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1,85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500 = 6485,5 (км)-от американского побереж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1,85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1500 =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779,5 (км) – от Новой Зеллан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вычислим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длину кругосветного путеше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ое совершила экспедиция по спасению капитана Гра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578400" y="2199960"/>
            <a:ext cx="540360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= 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πR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диус земли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ношение длины окружности к диаметру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≈ 3,1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текст при наведении"/>
          <p:cNvPicPr/>
          <p:nvPr/>
        </p:nvPicPr>
        <p:blipFill>
          <a:blip r:embed="rId1"/>
          <a:stretch/>
        </p:blipFill>
        <p:spPr>
          <a:xfrm>
            <a:off x="876240" y="1741320"/>
            <a:ext cx="2552760" cy="25322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3"/>
          <p:cNvSpPr/>
          <p:nvPr/>
        </p:nvSpPr>
        <p:spPr>
          <a:xfrm>
            <a:off x="1461960" y="471492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экватора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40 07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37 параллели меньше экв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MG_20160127_091823"/>
          <p:cNvPicPr/>
          <p:nvPr/>
        </p:nvPicPr>
        <p:blipFill>
          <a:blip r:embed="rId1"/>
          <a:stretch/>
        </p:blipFill>
        <p:spPr>
          <a:xfrm>
            <a:off x="457200" y="1263600"/>
            <a:ext cx="3789360" cy="2841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IMG_20160127_093305"/>
          <p:cNvPicPr/>
          <p:nvPr/>
        </p:nvPicPr>
        <p:blipFill>
          <a:blip r:embed="rId2"/>
          <a:stretch/>
        </p:blipFill>
        <p:spPr>
          <a:xfrm>
            <a:off x="4905360" y="1263600"/>
            <a:ext cx="3781440" cy="2836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457200" y="4446360"/>
            <a:ext cx="84344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штаб глобуса равен 1: 50 000 000, значит в 1см на глобу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 км на  поверхности земного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 = 63см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31 500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ина кругосветного путешествия экспедиции по спасению капитана Гарри Гранта приближенно равна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31 500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грешность измерения составила 70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e20b09d75e9d6c4e009cd524f9ae751a"/>
          <p:cNvPicPr/>
          <p:nvPr/>
        </p:nvPicPr>
        <p:blipFill>
          <a:blip r:embed="rId1"/>
          <a:stretch/>
        </p:blipFill>
        <p:spPr>
          <a:xfrm>
            <a:off x="2190600" y="299880"/>
            <a:ext cx="39704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_20160322_180410"/>
          <p:cNvPicPr/>
          <p:nvPr/>
        </p:nvPicPr>
        <p:blipFill>
          <a:blip r:embed="rId1"/>
          <a:stretch/>
        </p:blipFill>
        <p:spPr>
          <a:xfrm>
            <a:off x="509760" y="714240"/>
            <a:ext cx="1476360" cy="20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_20160322_180427"/>
          <p:cNvPicPr/>
          <p:nvPr/>
        </p:nvPicPr>
        <p:blipFill>
          <a:blip r:embed="rId2"/>
          <a:stretch/>
        </p:blipFill>
        <p:spPr>
          <a:xfrm>
            <a:off x="2170080" y="714240"/>
            <a:ext cx="1563840" cy="20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_20160322_180442"/>
          <p:cNvPicPr/>
          <p:nvPr/>
        </p:nvPicPr>
        <p:blipFill>
          <a:blip r:embed="rId3"/>
          <a:stretch/>
        </p:blipFill>
        <p:spPr>
          <a:xfrm>
            <a:off x="4068720" y="714240"/>
            <a:ext cx="1465200" cy="2086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_20160322_180501"/>
          <p:cNvPicPr/>
          <p:nvPr/>
        </p:nvPicPr>
        <p:blipFill>
          <a:blip r:embed="rId4"/>
          <a:stretch/>
        </p:blipFill>
        <p:spPr>
          <a:xfrm>
            <a:off x="5972040" y="635040"/>
            <a:ext cx="1509840" cy="2165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_20160322_180529"/>
          <p:cNvPicPr/>
          <p:nvPr/>
        </p:nvPicPr>
        <p:blipFill>
          <a:blip r:embed="rId5"/>
          <a:stretch/>
        </p:blipFill>
        <p:spPr>
          <a:xfrm>
            <a:off x="662040" y="3481560"/>
            <a:ext cx="2367000" cy="171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_20160322_180554"/>
          <p:cNvPicPr/>
          <p:nvPr/>
        </p:nvPicPr>
        <p:blipFill>
          <a:blip r:embed="rId6"/>
          <a:stretch/>
        </p:blipFill>
        <p:spPr>
          <a:xfrm>
            <a:off x="3179880" y="3505320"/>
            <a:ext cx="2354040" cy="16952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IMG_20160322_080732"/>
          <p:cNvPicPr/>
          <p:nvPr/>
        </p:nvPicPr>
        <p:blipFill>
          <a:blip r:embed="rId7"/>
          <a:stretch/>
        </p:blipFill>
        <p:spPr>
          <a:xfrm>
            <a:off x="5972040" y="3211560"/>
            <a:ext cx="1509840" cy="198900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2680" y="-29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и иллюстрации к ром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решила свою проблему: перевела старинные меры величин в соврем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няла , что математика  - великая наука, она связана с другими науками: географией, биологией, физикой и даже с литера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я очень много узнал нового. Величины в разных странах бывают разными, например, фут, миля. Узнал о писателе Жюль Верне, который писал книги о путешественниках и путешествиях. Эти книги как учебники географии. Я обязательно прочту такие книги, это же так 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«Старинные меры величин» актуальна, даже на экзаменах она нам пригодится, т.к. есть задания на перевод велич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юль Верн «Дети капитана Гран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дательский центр «ТЕРРА», Москва 1994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Я.Виленкин, В.И. Жохов, А. С. Чесноков, С.И. Шварцбурд Учебник Математика 6 класс Изд. «Мнемнзина» 2014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М.Домогацких, Н.И. Алексеев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 География 6 класс   Изд. ООО «Русское слово»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ru.wikisource.org/w/index.php?title=ЭСБЕ/09/ Таблицы_для_перевода_метрических_(десятичных)_мер_в_русские_и_русских_—_в_метрические&amp;oldid=187660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е восприятие текста, в котором встречаются непривычные старинные единицы изме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сти старинные меры величин в сов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старинные меры велич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формулы перевода из старинных мер в совреме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ть расчетные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ть карту и вычислить длину кругосветного путеше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диции по спасению капитана Гра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ман «Дети капитана Гранта» впервые печатался в юношеском «Журнале воспитания и развлечения» с 1866 г. до 1868г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усском языке книга появилась в конце 1868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55e832adb1552"/>
          <p:cNvPicPr/>
          <p:nvPr/>
        </p:nvPicPr>
        <p:blipFill>
          <a:blip r:embed="rId1"/>
          <a:stretch/>
        </p:blipFill>
        <p:spPr>
          <a:xfrm>
            <a:off x="1106640" y="1600200"/>
            <a:ext cx="6413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надежде на спас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04"/>
          <p:cNvPicPr/>
          <p:nvPr/>
        </p:nvPicPr>
        <p:blipFill>
          <a:blip r:embed="rId1"/>
          <a:stretch/>
        </p:blipFill>
        <p:spPr>
          <a:xfrm>
            <a:off x="719280" y="1600200"/>
            <a:ext cx="770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а «Дункана» поймала акулу, рыб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ло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ыба проглотила бутылку с запиской. Отрывки текста романа будем считать задачей.  В каждой задаче будем переводить старинные меры величин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времен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Deti-kapitana-Granta-1"/>
          <p:cNvPicPr/>
          <p:nvPr/>
        </p:nvPicPr>
        <p:blipFill>
          <a:blip r:embed="rId1"/>
          <a:stretch/>
        </p:blipFill>
        <p:spPr>
          <a:xfrm>
            <a:off x="6051600" y="1805040"/>
            <a:ext cx="26352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57200" y="2630880"/>
            <a:ext cx="545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жорливая акула, хотя и находилась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яр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ятнадца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«Дункана», почуяла приманку и стала быстро догонять ях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1 яр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ен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0,91 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 ярд = 15 х 0,91 = 13,65 (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. 27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ула еще дышала. Она была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есяти футо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лины и весила больше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шестисот фунто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Это обычные размеры и  вес для этой пород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Задача для исследов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50760" y="1417680"/>
          <a:ext cx="7736040" cy="3530520"/>
        </p:xfrm>
        <a:graphic>
          <a:graphicData uri="http://schemas.openxmlformats.org/drawingml/2006/table">
            <a:tbl>
              <a:tblPr/>
              <a:tblGrid>
                <a:gridCol w="863640"/>
                <a:gridCol w="403200"/>
                <a:gridCol w="452520"/>
                <a:gridCol w="407880"/>
                <a:gridCol w="451080"/>
                <a:gridCol w="517320"/>
                <a:gridCol w="514440"/>
                <a:gridCol w="515880"/>
                <a:gridCol w="514440"/>
                <a:gridCol w="517680"/>
                <a:gridCol w="515880"/>
                <a:gridCol w="514440"/>
                <a:gridCol w="515880"/>
                <a:gridCol w="515880"/>
                <a:gridCol w="515880"/>
              </a:tblGrid>
              <a:tr h="22086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енти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циа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ский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лья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дез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ксо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ейцар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ксо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вар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де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ьгий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0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0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176"/>
          <p:cNvSpPr/>
          <p:nvPr/>
        </p:nvSpPr>
        <p:spPr>
          <a:xfrm>
            <a:off x="1239840" y="5210280"/>
            <a:ext cx="6172200" cy="141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лина акулы 3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им массу акулы :       1 фунт = 409 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= 409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n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, где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n –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длина в фу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0 х 409 = 245400(г) =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245 кг 40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Акула весила 245 кг 40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и доку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_20160127_230043"/>
          <p:cNvPicPr/>
          <p:nvPr/>
        </p:nvPicPr>
        <p:blipFill>
          <a:blip r:embed="rId1"/>
          <a:stretch/>
        </p:blipFill>
        <p:spPr>
          <a:xfrm>
            <a:off x="1816200" y="3814920"/>
            <a:ext cx="5141880" cy="2536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_20160127_230129"/>
          <p:cNvPicPr/>
          <p:nvPr/>
        </p:nvPicPr>
        <p:blipFill>
          <a:blip r:embed="rId2"/>
          <a:stretch/>
        </p:blipFill>
        <p:spPr>
          <a:xfrm>
            <a:off x="4849920" y="1600200"/>
            <a:ext cx="4125960" cy="2019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_20160127_230112"/>
          <p:cNvPicPr/>
          <p:nvPr/>
        </p:nvPicPr>
        <p:blipFill>
          <a:blip r:embed="rId3"/>
          <a:stretch/>
        </p:blipFill>
        <p:spPr>
          <a:xfrm>
            <a:off x="193680" y="1600200"/>
            <a:ext cx="4367160" cy="2019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5"/>
          <p:cNvSpPr/>
          <p:nvPr/>
        </p:nvSpPr>
        <p:spPr>
          <a:xfrm>
            <a:off x="2322360" y="5583240"/>
            <a:ext cx="1276560" cy="542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определить положение точек на земной поверхности, на ней условно проводят линии – параллели и меридианы, которые образу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истему географических коорди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008"/>
          <p:cNvPicPr/>
          <p:nvPr/>
        </p:nvPicPr>
        <p:blipFill>
          <a:blip r:embed="rId1"/>
          <a:stretch/>
        </p:blipFill>
        <p:spPr>
          <a:xfrm>
            <a:off x="442800" y="1563840"/>
            <a:ext cx="3436920" cy="3068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82520" y="4698000"/>
            <a:ext cx="44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истема плоских прямоугольных координ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http://ok-t.ru/studopediaru/baza7/1445235781062.files/image006.jpg"/>
          <p:cNvPicPr/>
          <p:nvPr/>
        </p:nvPicPr>
        <p:blipFill>
          <a:blip r:embed="rId2"/>
          <a:stretch/>
        </p:blipFill>
        <p:spPr>
          <a:xfrm>
            <a:off x="4092480" y="1479600"/>
            <a:ext cx="3840120" cy="3610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0"/>
          <p:cNvSpPr/>
          <p:nvPr/>
        </p:nvSpPr>
        <p:spPr>
          <a:xfrm>
            <a:off x="4770360" y="5092920"/>
            <a:ext cx="316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истема географических координ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6316560" y="1563840"/>
            <a:ext cx="397080" cy="52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622920" y="12952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ериди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7015320" y="2428560"/>
            <a:ext cx="44424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7369560" y="217332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ар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4002120" y="1295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кв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 flipH="1" flipV="1">
            <a:off x="4355640" y="1662120"/>
            <a:ext cx="652680" cy="170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1014840" y="527220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5562720" y="574992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16:14:40Z</dcterms:created>
  <dc:creator>Admin</dc:creator>
  <dc:description/>
  <dc:language>en-US</dc:language>
  <cp:lastModifiedBy>Admin</cp:lastModifiedBy>
  <dcterms:modified xsi:type="dcterms:W3CDTF">2019-10-12T18:17:45Z</dcterms:modified>
  <cp:revision>99</cp:revision>
  <dc:subject/>
  <dc:title>Исследовательская работа</dc:title>
</cp:coreProperties>
</file>