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167-6A23-409B-9487-6E57F567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599-ADEC-45FB-9538-532F5ACC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1D7-78DE-4DD7-9D71-CE4CB816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497-14E3-4331-9D34-9D53C706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F23-30D8-4E7A-B955-0B355EAE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383-CDA9-408D-81A9-222B0C04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730-4574-4884-AD05-C28627DE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6CD-3CF5-40E1-8B16-DEB3F5F9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552-5D4C-4D36-9629-F8BDE1A7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B86-5BF6-40EF-9FE2-DCE9CFF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02F-1DC4-4418-A1CD-60114545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191-7456-4D29-A1D2-26B7C1EA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C855-59C9-4CB3-858D-68DC32CB3D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ЖЕНЩИНА-МАТЬ</a:t>
            </a:r>
            <a:br>
              <a:rPr sz="6000"/>
            </a:b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В ИСКУССТВЕ</a:t>
            </a:r>
            <a:br>
              <a:rPr sz="6000"/>
            </a:b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20-ГО ВЕК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2 у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4316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. КУЛЬТ ЖЕНЩИНЫ-МАТЕ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ПЕРВОБЫТНОМ ИСКУССТ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 ТИПЫ ИЗОБРАЖЕНИЯ БОГОРОДИЦ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. ИДЕАЛ МАТЕРИН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ПОХИ ВОЗРОЖ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. В ЧЁМ ОСОБ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ОПЛОЩЕНИЯ ОБР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ЕНЩИНЫ-МАТЕРИ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СКУССТВЕ 20-ГО ВЕ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404280"/>
            <a:ext cx="44956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. ЧТО ТАК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«ПАЛЕОЛИТИЧЕСКИЕ ВЕНЕР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 ДРЕВНЕРУССКАЯ ИКОНОПИ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. ИДЕАЛ МАТЕРИНСТ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20- ВЕ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. В ЧЁМ ОСОБ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ОПЛОЩЕНИЯ ОБР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ЕНЩИНЫ-МАТЕРИ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СКУССТВЕ 20-ГО ВЕ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4825800" cy="6121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0" y="476280"/>
            <a:ext cx="403848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.С. ПЕТРОВ-ВОДК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878-193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«МАТЬ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799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«БОГОМАТЕРЬ УМИЛЕНИЕ ЗЛЫХ СЕРДЕЦ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61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«ПЕТРОГРАДСКАЯ МАДОНН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55640" y="1500120"/>
            <a:ext cx="76327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824360" cy="6048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.А. ДЕЙН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899-196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«МАТЬ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640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316400" cy="6121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0" y="476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.М. ТОИД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6408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09:40:27Z</dcterms:created>
  <dc:creator>PackardBeell</dc:creator>
  <dc:description/>
  <dc:language>en-US</dc:language>
  <cp:lastModifiedBy>ADM</cp:lastModifiedBy>
  <dcterms:modified xsi:type="dcterms:W3CDTF">2014-03-01T07:27:46Z</dcterms:modified>
  <cp:revision>5</cp:revision>
  <dc:subject/>
  <dc:title>ЖЕНЩИНА-МАТЬ В ИСКУССТВЕ 20-ГО ВЕКА</dc:title>
</cp:coreProperties>
</file>