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FD5-4ECF-4CF4-95DD-55E360194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CC58-CAE8-4B38-99CB-8372355A9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7D8-01F2-454F-B1FB-D61F5892B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ACF-0CC6-4BD3-8222-AAF8D778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E1B-5498-4445-B3F8-F0D3EDA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1CE-1803-4A9F-8DAD-BD615A01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986-DC6A-4692-9916-62669A76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2F2-CECF-4B44-860B-A6544C7A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8246-ED46-4AD2-BF38-939A2E6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C5D-86BE-4AEF-A10F-6568DC0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F740-FBDE-49B4-A94F-7E8FA88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F45-D3E1-45B6-B777-A4E7291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C46-025D-40EF-8EB2-4AE170F4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2D16-C3D4-48D4-969A-6215A66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57A-63D0-4A33-BA44-06CDF134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3BC2-7463-433E-BB46-6FB924A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7BDF-8BD8-4E7C-929F-77C3121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7F2A-62A9-4B3F-A33C-2815628B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BB8-C812-49CE-92C6-9421E6AC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47C-3D48-473F-AC50-EC57A1A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534E-89EA-4ED2-ABFE-2B048C23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064D-44A7-48A4-B49A-945889C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4C48-267D-43C2-8E16-1FB96C5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FB62-50A1-4883-939B-A42EDBD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7574-CAE7-419F-A302-D90F2687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B3C-32C2-4156-8C2A-82890393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C1E7-C0C5-4D9E-83BC-89166D8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78B1-4B17-42BD-ACE8-902621B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E8AD-E221-4967-92F6-60DB28D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4171-D620-47C1-BCA2-6EA5DF8D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3C7E-4E15-4578-B167-3927EB2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04E6-8E44-4EFC-8071-A4B3EA7E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1196-CA74-4C87-A487-37538F3E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EE5-B14A-40F1-8759-97A1A55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9B7-F769-4965-830C-F846D7D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2B0-0E10-4F4E-82AA-30CEDE4B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0F9-767A-4A7D-B320-909B3B8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0CC-4C75-4480-9430-96933EB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391-EC29-4003-84EB-BD3AAD9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FFF-F115-4BDC-955C-B4281ECE2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59D0-F715-4FDE-A466-598E1B9E7B4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34E8-04D7-417B-A0C5-F7C2EA67C19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 МЛАДШИХ ШКОЛЬНИКОВ НА УРОКАХ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04920" y="304920"/>
            <a:ext cx="85341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САМАР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ПОС.ПРОСВЕТ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ГО РАЙОНА ВОЛЖСК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4343400" y="6019920"/>
            <a:ext cx="4572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бакаева М.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79451723_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6"/>
          <p:cNvSpPr/>
          <p:nvPr/>
        </p:nvSpPr>
        <p:spPr>
          <a:xfrm>
            <a:off x="228600" y="152280"/>
            <a:ext cx="441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def"/>
                </a:solidFill>
                <a:latin typeface="Verdana"/>
              </a:rPr>
              <a:t>Стандарт ФГОС 2 поколения ставит новые цели перед образованием и требует от выпускника начальной школы не только владения системой знаний умений и навыков, но и воспитание человека любознательного, с интересом познающего мир, который умеет учиться и владеет навыком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 rot="1096200">
            <a:off x="4621320" y="3236760"/>
            <a:ext cx="4149720" cy="3048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00a3f51df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152280" y="37339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зультаты исследований подтвердили, что наиболее интересным предм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учебной программе начального общего образования оказался «ОКРУЖАЮЩИЙ МИ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44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8600" y="304920"/>
            <a:ext cx="86868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ГРА - эффективное средство  развития познавательной актив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гр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снижают психические и физические нагру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заряжают учащихся положительными эмо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способствуют созданию зоны ближайшего развития и создают фундамент  для восприятия н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4454640" cy="2895480"/>
          </a:xfrm>
          <a:prstGeom prst="rect">
            <a:avLst/>
          </a:prstGeom>
          <a:ln w="57240">
            <a:solidFill>
              <a:srgbClr val="ffff00"/>
            </a:solidFill>
            <a:prstDash val="sysDot"/>
            <a:miter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-2286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В рамках предметных недель проводятся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лекци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игры и викторин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конкурсы рисунков, наглядных пособий, плакатов и стенгазе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391200" cy="224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ВПК\Pictures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304920" y="2057400"/>
            <a:ext cx="88390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 должен дать ребенку необходимую направленность мысли и тем самым создать внутренние условия для усвоения нового материала, обеспечить возможность управления со сторон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 должен быть человеком любознательным, интересующимся, активным и не стыдиться учиться вмест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304920" y="45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каждого учителя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ть формы, мет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ёмы и способы работы та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детям было интересно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ПК</dc:creator>
  <dc:description/>
  <dc:language>en-US</dc:language>
  <cp:lastModifiedBy>RePack by SPecialiST</cp:lastModifiedBy>
  <dcterms:modified xsi:type="dcterms:W3CDTF">2019-10-13T13:19:39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