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2FF-9611-40E1-86BE-F0F46A7C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68B-8DBE-4ED4-B2E9-D825FD4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B27-363D-4A07-9AC7-FFCF45A7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967-BE0C-463E-AC1C-C37E15C8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5556-F966-4C50-949E-0F86B66E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A256-6E91-493C-A5A5-D72C762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BB28-24BB-43BE-8CBD-9B0B7F10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494-1663-4CB8-8281-75059A4A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FBF9-D7DF-4912-A5B6-357A6651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9A8B-661F-4F44-8D1E-C3B693A1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AB92-B05B-4ECD-8CB8-D78D4FE6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079-0A77-45A4-B2F8-D7808503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9EDF-EE83-4E9A-AE90-C87A36B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D1F7-88B5-49B0-9F75-9D215A08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DC07-8128-4AFB-AC00-BA1B2C4C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2897-5286-447E-8A8D-9E381554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86FF-3CD6-441E-BCDB-4A177EB2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618-D220-4CEA-A7F6-F13F7E3D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BF7-98A6-49C2-8470-6700E319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513-4DC1-442C-8299-796DB9A0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6FE-3C68-422F-990A-5D8502E8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808-6C29-4E2D-B6CA-635AF372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0FC-9412-4BE2-86D8-35680A43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FFE-B919-4783-BB7A-29F808BD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63BD-930B-4F20-B797-5BDF5AD538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BD4B-1CBF-4EAD-8CA2-DBF6317825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ДАПТАЦИЯ ПЯТИКЛАССНИКОВ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ые виды деятельности человек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ериод «детство – юность»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888159_normal"/>
          <p:cNvPicPr/>
          <p:nvPr/>
        </p:nvPicPr>
        <p:blipFill>
          <a:blip r:embed="rId1"/>
          <a:stretch/>
        </p:blipFill>
        <p:spPr>
          <a:xfrm>
            <a:off x="3851280" y="1125360"/>
            <a:ext cx="1700280" cy="2016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84360" y="170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кольник: ИГ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84360" y="3357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ладший школьник: уч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8" descr="2146004"/>
          <p:cNvPicPr/>
          <p:nvPr/>
        </p:nvPicPr>
        <p:blipFill>
          <a:blip r:embed="rId2"/>
          <a:stretch/>
        </p:blipFill>
        <p:spPr>
          <a:xfrm>
            <a:off x="5724360" y="2205000"/>
            <a:ext cx="1932120" cy="2292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755640" y="494172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росток: отношения со сверстниками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утверж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0" descr="KidsFunDays"/>
          <p:cNvPicPr/>
          <p:nvPr/>
        </p:nvPicPr>
        <p:blipFill>
          <a:blip r:embed="rId3"/>
          <a:stretch/>
        </p:blipFill>
        <p:spPr>
          <a:xfrm>
            <a:off x="4643280" y="4724280"/>
            <a:ext cx="32403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ризнаки успешной адаптации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влетворенность ребенка процессом обучен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бенок легко справляется с программой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влетворенность межличностными отношениями – с одноклассниками и учител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ризнаки дезадаптации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я выполнять домашние задан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лобы на те или иные события, связанные со школо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покойный со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сти утреннего пробуждения, вялость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ые жалобы на плохое самочувств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51444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1" lang="en-US" sz="2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3" name="Picture 5" descr="2408517_3c6c1fa7"/>
          <p:cNvPicPr/>
          <p:nvPr/>
        </p:nvPicPr>
        <p:blipFill>
          <a:blip r:embed="rId1"/>
          <a:stretch/>
        </p:blipFill>
        <p:spPr>
          <a:xfrm>
            <a:off x="2816280" y="2924280"/>
            <a:ext cx="3090960" cy="23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611280" y="141300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изменение условий обуч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012000" y="1844640"/>
            <a:ext cx="2952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 КЛАСС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НОГО учителей-предмет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НОГО кабине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НОГО разных требова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ново завоевать авторитет 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НОГИХ учите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68360" y="2492280"/>
            <a:ext cx="21589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чальная школ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ДИН основной уч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ДИН кабин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ДИН классный коллекти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ДНИ треб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оевать авторитет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ДНОГО учи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Памятка для родителей пятиклассни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будите ребёнка спокойно, не торопите(умение рассчитать время – ваша задача, а ребёнок должен видеть вашу улыбку и слышать ласковый голо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е провожайте ребёнка в школу словами " смотри не балуйся" и т.д., дайте напутствие в форме "постарайся сегодня….",  " я верю, что у тебя получится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е фиксируйте внимание на оценке " почему 4, а не 5", разберите с ребёнком, что не получилось и по какой причине ( забыл, недоучил, не понял 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сравнивайте его с товарищами, братьями, сёстр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Памятка для родителей пятиклассни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е ограничивайте свой интерес обычным вопросом " как прошёл день", каждую неделю выбирайте время, свободное от домашних дел, и беседуйте с ребёнком о школ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ыслушивайте своего ребёнка, любые предъявления подростками своих взглядов, мнений принимайте  очень бережно, без оценок, с уваж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формируйте положительное отношение к школе отсутствием критики по отношению к педагогам, не подрывайте авторитет  других значимых  для ребёнка людей (друзей, одноклассник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Памятка для родителей пятиклассни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чаще хвалите ребёнка, но так, чтобы он знал, за ч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удьте последовательны в воспитании, не запрещайте без всяких причин того, что разрешали раньш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оверяйте ребёнк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омогите ему найти дело по душ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остарайтесь поддерживать спокойную, стабильную атмосферу в доме; если вас что-то беспокоит в поведении ребёнка , поговорите об этом с классным руководител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0T10:38:12Z</dcterms:created>
  <dc:creator>Samsung</dc:creator>
  <dc:description/>
  <dc:language>en-US</dc:language>
  <cp:lastModifiedBy>мама</cp:lastModifiedBy>
  <dcterms:modified xsi:type="dcterms:W3CDTF">2014-09-30T14:25:58Z</dcterms:modified>
  <cp:revision>6</cp:revision>
  <dc:subject/>
  <dc:title>Родительское собрание</dc:title>
</cp:coreProperties>
</file>