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ru-RU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5A454E-D606-4134-B421-8912BA2C7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CF32BF-BEEC-460D-A77C-B28E893ACC41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AE0272-C419-49EF-BECD-1F58E57349A7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211D-DCBE-4BFE-A839-C3B83669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022-5A66-41D1-A247-FA720054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EF6-85A7-42F9-97DC-1C549641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C8EA-A70D-40A2-B40F-51A6B166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8283-883F-48F1-A657-1982D6F0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3255-2EE4-4675-A0D6-580D76D8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7EF5-F3AE-49C9-9D70-9320D3E0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FF6D-9032-4886-8F71-06740555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A1D3-3353-4DDB-AC75-9FC1EE7A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F3AD-40CB-4A94-804D-F601128F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2676-2739-40D1-B81F-1725B181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B238-D31B-4B4D-8D5E-4D3DF354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2963-CD57-4583-ACC3-CC3F32DC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6E76-5A62-4980-A431-5CEB4DFD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E0CA-7DED-4E80-8437-8A68D80F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050B-7FA6-4253-B53E-817B7A6D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9897-2538-4AB1-AA09-E02EA6C9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962-CCE1-4FAE-B93E-59C99508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C4E-201C-4163-A50E-A54C6C04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D22-7D02-4118-A1B7-8EC799DC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ABB-B936-4BE3-8C92-FDA428AC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3903-93FB-479B-9A6F-6238CA76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5CB-5A2A-47C2-BD77-CB8148B1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5639-62FD-4C52-8F10-323C872A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F4210C-2CD7-4A65-B782-0452CD4709F9}" type="slidenum">
              <a:rPr b="0" lang="ru-RU" sz="1200" spc="-1" strike="noStrike">
                <a:solidFill>
                  <a:srgbClr val="d1ea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13B7EF-83E4-4847-A514-DB9E9BC9B773}" type="slidenum">
              <a:rPr b="0" lang="ru-RU" sz="1200" spc="-1" strike="noStrike">
                <a:solidFill>
                  <a:srgbClr val="03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0" name="Picture 2" descr="C:\Users\пользователь\Desktop\wpapers_ru_Баскетбольный-мяч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1" name="Прямоугольник 5"/>
          <p:cNvSpPr/>
          <p:nvPr/>
        </p:nvSpPr>
        <p:spPr>
          <a:xfrm>
            <a:off x="631800" y="2277000"/>
            <a:ext cx="7761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9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onstantia"/>
              </a:rPr>
              <a:t>БАСКЕТБО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8" name="Picture 2" descr="C:\Users\пользователь\Desktop\x_1ce0a55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9" name="Прямоугольник 4"/>
          <p:cNvSpPr/>
          <p:nvPr/>
        </p:nvSpPr>
        <p:spPr>
          <a:xfrm>
            <a:off x="294840" y="4653000"/>
            <a:ext cx="61779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b2d15c"/>
                </a:solidFill>
                <a:latin typeface="Constantia"/>
              </a:rPr>
              <a:t>3. Правила иг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2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3" name="Прямоугольник 4"/>
          <p:cNvSpPr/>
          <p:nvPr/>
        </p:nvSpPr>
        <p:spPr>
          <a:xfrm>
            <a:off x="971640" y="907920"/>
            <a:ext cx="77036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гра проходит на прямоугольной площадке длиной 28 м и шириной 15 м (раньше ее размеры составляли, соответственно, 26×14 м) специальным мяч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C:\Users\пользователь\Desktop\1302780549_12693774730358.jpg"/>
          <p:cNvPicPr/>
          <p:nvPr/>
        </p:nvPicPr>
        <p:blipFill>
          <a:blip r:embed="rId2"/>
          <a:stretch/>
        </p:blipFill>
        <p:spPr>
          <a:xfrm>
            <a:off x="2714760" y="2857320"/>
            <a:ext cx="5770080" cy="3715920"/>
          </a:xfrm>
          <a:prstGeom prst="rect">
            <a:avLst/>
          </a:prstGeom>
          <a:ln w="9525">
            <a:noFill/>
          </a:ln>
        </p:spPr>
      </p:pic>
    </p:spTree>
  </p:cSld>
  <p:transition advTm="8000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7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2" descr="C:\Users\пользователь\Desktop\basket.JPG"/>
          <p:cNvPicPr/>
          <p:nvPr/>
        </p:nvPicPr>
        <p:blipFill>
          <a:blip r:embed="rId2"/>
          <a:stretch/>
        </p:blipFill>
        <p:spPr>
          <a:xfrm>
            <a:off x="571320" y="549360"/>
            <a:ext cx="8143560" cy="5074920"/>
          </a:xfrm>
          <a:prstGeom prst="rect">
            <a:avLst/>
          </a:prstGeom>
          <a:ln w="9525">
            <a:noFill/>
          </a:ln>
        </p:spPr>
      </p:pic>
      <p:sp>
        <p:nvSpPr>
          <p:cNvPr id="149" name="TextBox 6"/>
          <p:cNvSpPr/>
          <p:nvPr/>
        </p:nvSpPr>
        <p:spPr>
          <a:xfrm>
            <a:off x="642960" y="5929200"/>
            <a:ext cx="3285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Баскетбольная площ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2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53" name="Прямоугольник 4"/>
          <p:cNvSpPr/>
          <p:nvPr/>
        </p:nvSpPr>
        <p:spPr>
          <a:xfrm>
            <a:off x="3203640" y="476280"/>
            <a:ext cx="5400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асса мяча 567–650 грамм, окружность 749–780 мм (в играх мужских команд; в играх женских команд используются мячи меньших размеров, и еще меньше – в матчах по мини-баскетбол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Users\пользователь\Desktop\i.jpg"/>
          <p:cNvPicPr/>
          <p:nvPr/>
        </p:nvPicPr>
        <p:blipFill>
          <a:blip r:embed="rId2"/>
          <a:stretch/>
        </p:blipFill>
        <p:spPr>
          <a:xfrm>
            <a:off x="611280" y="836640"/>
            <a:ext cx="2226960" cy="2226960"/>
          </a:xfrm>
          <a:prstGeom prst="rect">
            <a:avLst/>
          </a:prstGeom>
          <a:ln w="9525">
            <a:noFill/>
          </a:ln>
        </p:spPr>
      </p:pic>
      <p:sp>
        <p:nvSpPr>
          <p:cNvPr id="155" name="Прямоугольник 6"/>
          <p:cNvSpPr/>
          <p:nvPr/>
        </p:nvSpPr>
        <p:spPr>
          <a:xfrm>
            <a:off x="468360" y="4005360"/>
            <a:ext cx="8135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Баскетбольные мячи бывают двух типов: предназначенные для игры только в помещениях (indoor) и универсальные, т.е. пригодные для использования и в помещениях, и на улице (indoor/outdoo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642960" y="3286080"/>
            <a:ext cx="2214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скетбольный мя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9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60" name="Прямоугольник 4"/>
          <p:cNvSpPr/>
          <p:nvPr/>
        </p:nvSpPr>
        <p:spPr>
          <a:xfrm>
            <a:off x="684360" y="3716280"/>
            <a:ext cx="7919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орзина (металлическое кольцо диаметром 45 см с натянутой на нем сеткой без дна) крепится на высоте 3,05 м на щите, установленном на стойке параллельно лицевым линиям площа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C:\Users\пользователь\Desktop\regles8.gif"/>
          <p:cNvPicPr/>
          <p:nvPr/>
        </p:nvPicPr>
        <p:blipFill>
          <a:blip r:embed="rId2"/>
          <a:stretch/>
        </p:blipFill>
        <p:spPr>
          <a:xfrm>
            <a:off x="1285920" y="428760"/>
            <a:ext cx="5857560" cy="3326760"/>
          </a:xfrm>
          <a:prstGeom prst="rect">
            <a:avLst/>
          </a:prstGeom>
          <a:ln w="9525">
            <a:noFill/>
          </a:ln>
        </p:spPr>
      </p:pic>
    </p:spTree>
  </p:cSld>
  <p:transition advTm="15000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4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65" name="Прямоугольник 5"/>
          <p:cNvSpPr/>
          <p:nvPr/>
        </p:nvSpPr>
        <p:spPr>
          <a:xfrm>
            <a:off x="428760" y="1268280"/>
            <a:ext cx="831960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баскетбол играют две команды, обычно по двенадцать человек, от каждой из которых на площадке одновременно присутствует пять игр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Цель каждой команды в баскетболе — забросить мяч в корзину соперника и помешать другой команде овладеть мячом и забросить его в корзину своей кома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8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69" name="Прямоугольник 5"/>
          <p:cNvSpPr/>
          <p:nvPr/>
        </p:nvSpPr>
        <p:spPr>
          <a:xfrm>
            <a:off x="684360" y="1052640"/>
            <a:ext cx="791964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ячом играют только ру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Бежать с мячом, не ударяя им в пол, преднамеренно бить по нему ногой, блокировать любой частью ноги или бить по нему кулаком является нарушен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лучайное же соприкосновение или касание мяча стопой или ногой не является наруш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2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73" name="Прямоугольник 5"/>
          <p:cNvSpPr/>
          <p:nvPr/>
        </p:nvSpPr>
        <p:spPr>
          <a:xfrm>
            <a:off x="684360" y="692280"/>
            <a:ext cx="806400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бедителем в баскетболе становится команда, которая по окончании игрового времени набрала большее количество очков. При равном счёте по окончании основного времени матча назначается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 ОВЕРТАЙМ -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бычно пять минут дополнительного времени, в случае, если и по его окончании счёт будет равен, назначается второй, третий овертайм и т. д., до тех пор, пока не будет выявлен победитель мат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77" name="Прямоугольник 4"/>
          <p:cNvSpPr/>
          <p:nvPr/>
        </p:nvSpPr>
        <p:spPr>
          <a:xfrm>
            <a:off x="611280" y="836640"/>
            <a:ext cx="828180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а одно попадание мяча в кольцо может быть засчитано разное количество оч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1 очко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 — бросок со штрафной ли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2 очка 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— бросок со средней или близкой дистанции (ближе трёхочковой лин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3 очка 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— бросок из-за трёхочковой линии на расстоянии 6м 75см (7м 24 см в Национальной баскетбольной ассоци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81" name="Picture 2" descr="C:\Users\пользователь\Desktop\zony_dvukh_i_trjokh-broskov.jpg"/>
          <p:cNvPicPr/>
          <p:nvPr/>
        </p:nvPicPr>
        <p:blipFill>
          <a:blip r:embed="rId2"/>
          <a:stretch/>
        </p:blipFill>
        <p:spPr>
          <a:xfrm>
            <a:off x="324000" y="907920"/>
            <a:ext cx="8459280" cy="4919400"/>
          </a:xfrm>
          <a:prstGeom prst="rect">
            <a:avLst/>
          </a:prstGeom>
          <a:ln w="9525">
            <a:noFill/>
          </a:ln>
        </p:spPr>
      </p:pic>
    </p:spTree>
  </p:cSld>
  <p:transition advTm="10000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3" name="Picture 2" descr="C:\Users\пользователь\Desktop\x_1ce0a55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-199080" y="4869000"/>
            <a:ext cx="6613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b2d15c"/>
                </a:solidFill>
                <a:latin typeface="Constantia"/>
              </a:rPr>
              <a:t>1. Сущность иг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85" name="Прямоугольник 4"/>
          <p:cNvSpPr/>
          <p:nvPr/>
        </p:nvSpPr>
        <p:spPr>
          <a:xfrm>
            <a:off x="539640" y="620640"/>
            <a:ext cx="813564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гра официально начинается спорным броском в центральном круге, когда мяч правильно отбит одним из спорящих. Матч состоит из четырёх периодов по десять минут с перерывами по две мину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одолжительность перерыва между второй и третьей четвертями игры — пятнадцать минут. После большого перерыва команды должны поменяться корзи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89" name="Прямоугольник 4"/>
          <p:cNvSpPr/>
          <p:nvPr/>
        </p:nvSpPr>
        <p:spPr>
          <a:xfrm>
            <a:off x="324000" y="260280"/>
            <a:ext cx="849600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Изменения в правилах ФИБА с СЕЗОНА 2010/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адиус трехочковой дуги увеличивается с 6,25 до 6,75 м. На флангах полукруг "обрезан" дистанция в углах составит 6,60 м. Габариты площадки остались прежн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. Форма трехсекундной зоны изменяется с трапеции на прямоуголь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5"/>
          <p:cNvSpPr/>
          <p:nvPr/>
        </p:nvSpPr>
        <p:spPr>
          <a:xfrm>
            <a:off x="324000" y="5013360"/>
            <a:ext cx="8496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. Под кольцами появляется полукруг радиусом 1,25 м, внутри которого не фиксируются фолы в на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94" name="Picture 2" descr="C:\Users\пользователь\Desktop\basketballcourt.jpg"/>
          <p:cNvPicPr/>
          <p:nvPr/>
        </p:nvPicPr>
        <p:blipFill>
          <a:blip r:embed="rId2"/>
          <a:stretch/>
        </p:blipFill>
        <p:spPr>
          <a:xfrm>
            <a:off x="468360" y="189000"/>
            <a:ext cx="8351640" cy="6424200"/>
          </a:xfrm>
          <a:prstGeom prst="rect">
            <a:avLst/>
          </a:prstGeom>
          <a:ln w="9525">
            <a:noFill/>
          </a:ln>
        </p:spPr>
      </p:pic>
    </p:spTree>
  </p:cSld>
  <p:transition advTm="16000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98" name="Прямоугольник 4"/>
          <p:cNvSpPr/>
          <p:nvPr/>
        </p:nvSpPr>
        <p:spPr>
          <a:xfrm>
            <a:off x="395280" y="549360"/>
            <a:ext cx="820872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. В последние две минуты матча вбрасывание после тайм-аутов будет проводиться  с отметок расположенных в 8,325 м от лицевой ли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5. Если атака команды прервана фолом, который не наказывается штрафными, или в результате игры ногой и с начала владения мячом прошло более 10 секунд, то на повторную атаку даются не полные 24 секунды, как раньше, а только 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02" name="Прямоугольник 4"/>
          <p:cNvSpPr/>
          <p:nvPr/>
        </p:nvSpPr>
        <p:spPr>
          <a:xfrm>
            <a:off x="468360" y="750960"/>
            <a:ext cx="828000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6. Впервые в правилах ФИБА оговаривается минимальное время, за которое игрок может поймать пас из аута и выполнить "традиционный" бросок с игры, - 0,3 секу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Если времени на табло остается меньше, то единственный законный способ забить - "волейбольное" добивание или бросок сверху в одном прыж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06" name="Прямоугольник 4"/>
          <p:cNvSpPr/>
          <p:nvPr/>
        </p:nvSpPr>
        <p:spPr>
          <a:xfrm>
            <a:off x="324000" y="404640"/>
            <a:ext cx="84243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7. Судьям разрешается просматривать видео-повторы на последних секундах периодов для определения не только того, успел игрок забить мяч или нет, но и для оценки "стоимости" броска - двух- или трехочк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8. Когда команду снимают с турнира за два технических поражения, все результаты ранее проведенных ею матчей аннулируются. Раньше эти результаты оставались в си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Picture 2" descr="C:\Users\пользователь\Desktop\x_1ce0a55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10" name="Прямоугольник 4"/>
          <p:cNvSpPr/>
          <p:nvPr/>
        </p:nvSpPr>
        <p:spPr>
          <a:xfrm>
            <a:off x="117000" y="4797000"/>
            <a:ext cx="8043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b2d15c"/>
                </a:solidFill>
                <a:latin typeface="Constantia"/>
              </a:rPr>
              <a:t>4. Нарушения прави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14" name="Прямоугольник 4"/>
          <p:cNvSpPr/>
          <p:nvPr/>
        </p:nvSpPr>
        <p:spPr>
          <a:xfrm>
            <a:off x="468360" y="1052640"/>
            <a:ext cx="820692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Любое нарушение правил в баскетболе влечет за собой потерю владения мячом. И переход владения к команде сопер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яч вводится в игру передачей из аута. На это действие отводится 5 секунд.  Аут это любая точка за пределами площадки. Линия аута (края площадки) это часть ау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18" name="Прямоугольник 4"/>
          <p:cNvSpPr/>
          <p:nvPr/>
        </p:nvSpPr>
        <p:spPr>
          <a:xfrm>
            <a:off x="539640" y="476280"/>
            <a:ext cx="813564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Виды наруш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Аут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 мяч ударился о пол за игровой площадкой ( в ауте 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робежка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— игрок, контролирующий мяч сделал более 2-х шагов с мячом в руках или оторвал «опорную» ( осевую ) ногу до того как сделал удар мячом о п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ронос мяча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 рука под мячом во время 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22" name="Прямоугольник 4"/>
          <p:cNvSpPr/>
          <p:nvPr/>
        </p:nvSpPr>
        <p:spPr>
          <a:xfrm>
            <a:off x="468360" y="363600"/>
            <a:ext cx="8280000" cy="78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Двойное ведение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 можно только один раз начать и закончить ведение, далее можно лишь совершить бросок или сделать передачу партнеру. При повторном начале ведения фиксируется нарушение пра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равило трех секунд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  игрок команды нападения не может находится в 3-х секундной зоне более трех секунд. ( Отмечена иным цветом, поэтому часто называется краска - pain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равило восьми секунд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 команде нападения отводится восемь секунд для того, что бы перевести мяч через центральную ли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7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1332000" y="981000"/>
            <a:ext cx="583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40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900000" y="1268280"/>
            <a:ext cx="755928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БАСКЕТБОЛ 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(от англ. «basket» – корзина и «ball» – мяч), командная спортивная игра, цель которой – забросить руками мяч в кольцо (корзину) соперника, прикрепленное к щиту.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падание может принести команде от одного до трех очков. В матче побеждает команда, набравшая большее число оч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5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26" name="Прямоугольник 4"/>
          <p:cNvSpPr/>
          <p:nvPr/>
        </p:nvSpPr>
        <p:spPr>
          <a:xfrm>
            <a:off x="395280" y="404640"/>
            <a:ext cx="84243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равило двадцати четырех секунд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 команде нападения дается 24 секунды для совершения броска, если за 24 секунды броска не последовало или после броска мяч так и не коснулся корзины соперника. Владение мячом приостанавливается и мяч вводится из аута другой коман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равило пяти секунд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 мяч не может находится в руках одного из игроков более пяти секунд. В американских правилах, правило звучит как 5 секунд спиной к коль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684360" y="1413000"/>
            <a:ext cx="7703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равило зоны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 если мяч находившийся в зоне нападения пересек центральную линию и ударился о пол в зоне защиты, то фиксируется нарушение правила з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3" name="Picture 2" descr="C:\Users\пользователь\Desktop\x_1ce0a55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34" name="Прямоугольник 4"/>
          <p:cNvSpPr/>
          <p:nvPr/>
        </p:nvSpPr>
        <p:spPr>
          <a:xfrm>
            <a:off x="-652680" y="5157360"/>
            <a:ext cx="10696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b2d15c"/>
                </a:solidFill>
                <a:latin typeface="Constantia"/>
              </a:rPr>
              <a:t>5. Персональные наруш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38" name="Прямоугольник 4"/>
          <p:cNvSpPr/>
          <p:nvPr/>
        </p:nvSpPr>
        <p:spPr>
          <a:xfrm>
            <a:off x="611280" y="765000"/>
            <a:ext cx="820872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грая в баскетбол игрокам запрещается наносить удары руками, ногами. Запрещено толкать игроков команды соперников или пытаться задержать их за форму или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грая в защите игрок должен находится на линии между мячом и кольцом. Мешая броску противника нельзя касаться рук или корпуса соперника. Наилучшее положение рук - две руки вертикально ввер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1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42" name="Прямоугольник 4"/>
          <p:cNvSpPr/>
          <p:nvPr/>
        </p:nvSpPr>
        <p:spPr>
          <a:xfrm>
            <a:off x="324000" y="692280"/>
            <a:ext cx="835164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ерсональный фол — это нарушение правил, игроком защиты  или нападения. Как правило фолы совершаются при попытке завладеть мячом, попытке помешать броску, передаче мяча или когда игрок старается помешать передвижению сопер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дин игрок может получить пять фолов в течении одной игры ( одного матча ). Получив свое пятое персональное замечание игрок обязан покинуть площад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5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46" name="Прямоугольник 4"/>
          <p:cNvSpPr/>
          <p:nvPr/>
        </p:nvSpPr>
        <p:spPr>
          <a:xfrm>
            <a:off x="539640" y="795240"/>
            <a:ext cx="828000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уществуют также технические фолы. Это нарушения правил поведения на площадке во время игры. Их могут получать как игроки так и тренеры. За два технических фола тренера удаляют из з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оманде на каждую четверть отводится по четыре фола, начиная с пятого каждый фол соперника, кроме фолов в нападении, наказывается пробитем двух штрафных бросков. Или трех если фол был совершен при попытке трех очкового бро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9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50" name="Прямоугольник 4"/>
          <p:cNvSpPr/>
          <p:nvPr/>
        </p:nvSpPr>
        <p:spPr>
          <a:xfrm>
            <a:off x="468360" y="907920"/>
            <a:ext cx="8135640" cy="60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Штрафной бросок производится с линии на вершине трех секундной зоне. Игроки команд располагаются определенным образом и не имеют права сходить со своих мест до того момента когда мяч коснется кольца. Если мяч после штрафного броска не касается душки кольца ( эир бол - airball ), то команда соперника получает владение мячом и вводит мяч из ау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Picture 2" descr="C:\Users\пользователь\Desktop\x_1ce0a55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4"/>
          <p:cNvSpPr/>
          <p:nvPr/>
        </p:nvSpPr>
        <p:spPr>
          <a:xfrm>
            <a:off x="-568800" y="4797000"/>
            <a:ext cx="9826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b2d15c"/>
                </a:solidFill>
                <a:latin typeface="Constantia"/>
              </a:rPr>
              <a:t>6. Техника и тактика иг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57" name="Прямоугольник 4"/>
          <p:cNvSpPr/>
          <p:nvPr/>
        </p:nvSpPr>
        <p:spPr>
          <a:xfrm>
            <a:off x="324000" y="333360"/>
            <a:ext cx="813564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овременном баскетболе различают следующие игровые амплуа: разыгрывающий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щитник; атакующий защитник, легкий и тяжелый форварды, а также центровой (или центрфорвар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5"/>
          <p:cNvSpPr/>
          <p:nvPr/>
        </p:nvSpPr>
        <p:spPr>
          <a:xfrm>
            <a:off x="468360" y="1989000"/>
            <a:ext cx="828000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ыгрывающего защитника также называют «плеймейкером» (англ. «playmaker» – букв. «тот, кто делает игру») или «дирижером». Разыгрывающие больше других игроков владеют мячом и ведут игру всей команды. От них требуется прекрасное видение площадки, филигранный дриблинг и тонкая игра в пас. Атакующие защитники не только начинают атаку своей команды, но нередко и завершают ее дальними бросками. Форварды обычно атакуют с краев площадки, а центровые – с близкого расстояния. Центрфорварды, как правило, самые рослые игроки в команде, их основная функция – борьба под своим и чужим щи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62" name="Прямоугольник 4"/>
          <p:cNvSpPr/>
          <p:nvPr/>
        </p:nvSpPr>
        <p:spPr>
          <a:xfrm>
            <a:off x="468360" y="620640"/>
            <a:ext cx="8206920" cy="69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настоящее время в баскетболе чрезвычайно ценятся мастера-универсалы, которые при необходимости могут сыграть не только на своей позиции. Очень важно и такое понятие, как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«командный игрок».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иверженность командной игре легендарного центрового Билла Рассела позволила ему 11 раз привести к победе в чемпионате НБА клуб «Бостон селтикс». Его вечный соперник Уилт Чемберлен («Филадельфия уорриорз») не уступал в классе Расселу, но предпочитал играть «на себя», а не «на команду», и в итоге лишь однажды стал чемпионом Н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2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3" name="Прямоугольник 5"/>
          <p:cNvSpPr/>
          <p:nvPr/>
        </p:nvSpPr>
        <p:spPr>
          <a:xfrm>
            <a:off x="826920" y="1557360"/>
            <a:ext cx="7632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 настоящее время баскетбол – один из самых популярных видов спор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Число официально зарегистрированных игроков во всем мире превышает 200 миллионов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newsflash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66" name="Прямоугольник 4"/>
          <p:cNvSpPr/>
          <p:nvPr/>
        </p:nvSpPr>
        <p:spPr>
          <a:xfrm>
            <a:off x="539640" y="907920"/>
            <a:ext cx="835308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спех команды определяется не только индивидуальным мастерством игроков, но и верно выбранной тактикой. Классический пример – финал олимпийского турнира 1972. Понимая, что его подопечные уступают баскетболистам США по своим игровым кондициям и физическим данным, главный тренер сборной СССР Владимир Кондрашин построил игру от обороны, навязал сопернику «свой баскетбол», что в итоге принесло успех советской коман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70" name="Прямоугольник 4"/>
          <p:cNvSpPr/>
          <p:nvPr/>
        </p:nvSpPr>
        <p:spPr>
          <a:xfrm>
            <a:off x="468360" y="907920"/>
            <a:ext cx="8280000" cy="64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баскетболе различают зонную и личную (персональную) защиту. В первом случае каждый из игроков опекает любого соперника, находящегося в отведенном ему участке (зоне) площадки. При персональной защите каждый баскетболист опекает «своего» игрока. Чрезвычайно эффективен так называемый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 прессинг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активный вид обороны, при котором соперников опекают не только в непосредственной близости от своего щита, но и на дальних подступах к нему, иногда – по всей площадке. Цель прессинга – помешать сопернику спокойно разыграть мяч и провести ата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3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74" name="Прямоугольник 4"/>
          <p:cNvSpPr/>
          <p:nvPr/>
        </p:nvSpPr>
        <p:spPr>
          <a:xfrm>
            <a:off x="324000" y="333360"/>
            <a:ext cx="8424360" cy="71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дивидуальное мастерство игрока складывается из многих компон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Дриблинг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т.е. ведение мяча, в том числе и без визуального контроля, что позволяет игроку мгновенно оценивать меняющуюся ситуацию на площад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личные 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финты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вводящие соперника в заблуждение: обманное движение мячом, руками, ногами, всем телом, поворотом головы, взглядом и про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Игра в пас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обенно ценится так называемый скрытый пас – передача мяча, не глядя на партнера, которому он адресован. Еще один прием из арсенала мастеров баскетбола – пас из-за спины (держа мяч за спиной, игрок перебрасывает его партнеру через голову)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78" name="Прямоугольник 4"/>
          <p:cNvSpPr/>
          <p:nvPr/>
        </p:nvSpPr>
        <p:spPr>
          <a:xfrm>
            <a:off x="684360" y="981000"/>
            <a:ext cx="7848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Броск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в баскетболе осуществляются как с места, так и в движ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уществует немало их разновидностей: бросок в прыжке, бросок «крюком» (рука игрока, стоящего боком к корзине соперника, движется по воображаемой дуге), бросок в корзину сверху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ряду с техникой владения мячом в баскетболе чрезвычайно важно умение правильно играть без мя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1" name="Picture 2" descr="C:\Users\пользователь\Desktop\x_1ce0a55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82" name="Прямоугольник 4"/>
          <p:cNvSpPr/>
          <p:nvPr/>
        </p:nvSpPr>
        <p:spPr>
          <a:xfrm>
            <a:off x="130680" y="5229360"/>
            <a:ext cx="78789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b2d15c"/>
                </a:solidFill>
                <a:latin typeface="Constantia"/>
              </a:rPr>
              <a:t>7. Звезды баскетбо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ircl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86" name="Прямоугольник 4"/>
          <p:cNvSpPr/>
          <p:nvPr/>
        </p:nvSpPr>
        <p:spPr>
          <a:xfrm>
            <a:off x="539640" y="549360"/>
            <a:ext cx="8208720" cy="69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аскетбол входит в программу  Олимпийских игр с 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936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года. Регулярные  чемпионаты мира по баскетболу среди мужчин проводятся с 1950 года,  среди женщин — с 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953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года, а  чемпионаты Европы — с 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935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Европе проводятся международные клубные соревнования Евролига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ULEB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 Кубок Европы УЛЕБ, Кубок  Выз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ибольшего развития игра достигла в США: чемпионат Национальной баскетбольной ассоциации (НБА) более 50 лет является сильнейшим национальным клубным турниром в мире. Баскетбол считается национальным видом спорта в Ли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9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90" name="Прямоугольник 4"/>
          <p:cNvSpPr/>
          <p:nvPr/>
        </p:nvSpPr>
        <p:spPr>
          <a:xfrm>
            <a:off x="468360" y="5084640"/>
            <a:ext cx="4174920" cy="1186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айкл Джордан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 легенда американского баскетбола, является одним из самых титулованных баскетболистов Америки и ми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ямоугольник 6"/>
          <p:cNvSpPr/>
          <p:nvPr/>
        </p:nvSpPr>
        <p:spPr>
          <a:xfrm>
            <a:off x="5148360" y="5084640"/>
            <a:ext cx="3779640" cy="1186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рина Осипова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– российская спортсменка, баскетболистка, член национальной сборной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C:\Users\пользователь\Desktop\osipova_20.jpg"/>
          <p:cNvPicPr/>
          <p:nvPr/>
        </p:nvPicPr>
        <p:blipFill>
          <a:blip r:embed="rId2"/>
          <a:stretch/>
        </p:blipFill>
        <p:spPr>
          <a:xfrm>
            <a:off x="5580000" y="549360"/>
            <a:ext cx="3024000" cy="3947760"/>
          </a:xfrm>
          <a:prstGeom prst="rect">
            <a:avLst/>
          </a:prstGeom>
          <a:ln w="9525">
            <a:noFill/>
          </a:ln>
        </p:spPr>
      </p:pic>
      <p:pic>
        <p:nvPicPr>
          <p:cNvPr id="293" name="Picture 5" descr="C:\Users\пользователь\Desktop\937672285.jpg"/>
          <p:cNvPicPr/>
          <p:nvPr/>
        </p:nvPicPr>
        <p:blipFill>
          <a:blip r:embed="rId3"/>
          <a:stretch/>
        </p:blipFill>
        <p:spPr>
          <a:xfrm>
            <a:off x="900000" y="476280"/>
            <a:ext cx="3171600" cy="3965040"/>
          </a:xfrm>
          <a:prstGeom prst="rect">
            <a:avLst/>
          </a:prstGeom>
          <a:ln w="9525">
            <a:noFill/>
          </a:ln>
        </p:spPr>
      </p:pic>
    </p:spTree>
  </p:cSld>
  <p:transition advTm="10000"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6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97" name="Прямоугольник 5"/>
          <p:cNvSpPr/>
          <p:nvPr/>
        </p:nvSpPr>
        <p:spPr>
          <a:xfrm>
            <a:off x="755640" y="5300640"/>
            <a:ext cx="3384360" cy="9126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би Брайант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 выдающийся американский баскетболист, атакующий защит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оугольник 7"/>
          <p:cNvSpPr/>
          <p:nvPr/>
        </p:nvSpPr>
        <p:spPr>
          <a:xfrm>
            <a:off x="5003640" y="5300640"/>
            <a:ext cx="3600000" cy="9126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котти  Пипен -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является одним из 50 Великих Баскетболистов НБА за всю истор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4" descr="C:\Users\пользователь\Desktop\Scottie-Pippen.jpg"/>
          <p:cNvPicPr/>
          <p:nvPr/>
        </p:nvPicPr>
        <p:blipFill>
          <a:blip r:embed="rId2"/>
          <a:stretch/>
        </p:blipFill>
        <p:spPr>
          <a:xfrm>
            <a:off x="4859280" y="1268280"/>
            <a:ext cx="4082760" cy="3096720"/>
          </a:xfrm>
          <a:prstGeom prst="rect">
            <a:avLst/>
          </a:prstGeom>
          <a:ln w="9525">
            <a:noFill/>
          </a:ln>
        </p:spPr>
      </p:pic>
      <p:pic>
        <p:nvPicPr>
          <p:cNvPr id="300" name="Picture 5" descr="C:\Users\пользователь\Desktop\x_4fea391b.jpg"/>
          <p:cNvPicPr/>
          <p:nvPr/>
        </p:nvPicPr>
        <p:blipFill>
          <a:blip r:embed="rId3"/>
          <a:stretch/>
        </p:blipFill>
        <p:spPr>
          <a:xfrm>
            <a:off x="755640" y="549360"/>
            <a:ext cx="3096720" cy="4319280"/>
          </a:xfrm>
          <a:prstGeom prst="rect">
            <a:avLst/>
          </a:prstGeom>
          <a:ln w="9525">
            <a:noFill/>
          </a:ln>
        </p:spPr>
      </p:pic>
    </p:spTree>
  </p:cSld>
  <p:transition advTm="10000"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3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04" name="Прямоугольник 4"/>
          <p:cNvSpPr/>
          <p:nvPr/>
        </p:nvSpPr>
        <p:spPr>
          <a:xfrm>
            <a:off x="755640" y="5084640"/>
            <a:ext cx="3654000" cy="9126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лона Корстин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 российская баскетболистка, игрок национальной сборной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3" descr="C:\Users\пользователь\Desktop\23296373.jpg"/>
          <p:cNvPicPr/>
          <p:nvPr/>
        </p:nvPicPr>
        <p:blipFill>
          <a:blip r:embed="rId2"/>
          <a:stretch/>
        </p:blipFill>
        <p:spPr>
          <a:xfrm>
            <a:off x="971640" y="476280"/>
            <a:ext cx="3263400" cy="4330440"/>
          </a:xfrm>
          <a:prstGeom prst="rect">
            <a:avLst/>
          </a:prstGeom>
          <a:ln w="9525">
            <a:noFill/>
          </a:ln>
        </p:spPr>
      </p:pic>
      <p:sp>
        <p:nvSpPr>
          <p:cNvPr id="306" name="Прямоугольник 7"/>
          <p:cNvSpPr/>
          <p:nvPr/>
        </p:nvSpPr>
        <p:spPr>
          <a:xfrm>
            <a:off x="4859280" y="5157720"/>
            <a:ext cx="3727080" cy="9126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ветлана Абросимова -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является одной из талантливейших российских баскетболис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4" descr="C:\Users\пользователь\Desktop\abrosimova_1.jpg"/>
          <p:cNvPicPr/>
          <p:nvPr/>
        </p:nvPicPr>
        <p:blipFill>
          <a:blip r:embed="rId3"/>
          <a:stretch/>
        </p:blipFill>
        <p:spPr>
          <a:xfrm>
            <a:off x="5148360" y="549360"/>
            <a:ext cx="3303360" cy="4000320"/>
          </a:xfrm>
          <a:prstGeom prst="rect">
            <a:avLst/>
          </a:prstGeom>
          <a:ln w="9525">
            <a:noFill/>
          </a:ln>
        </p:spPr>
      </p:pic>
    </p:spTree>
  </p:cSld>
  <p:transition advTm="10000"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9" name="Содержимое 3" descr="мяч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"/>
          <p:cNvSpPr/>
          <p:nvPr/>
        </p:nvSpPr>
        <p:spPr>
          <a:xfrm>
            <a:off x="928800" y="2357280"/>
            <a:ext cx="6857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6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611280" y="620640"/>
            <a:ext cx="806400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егулярные занятия баскетболом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овершенствуют координацию движе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тренируют органы дыхания и кровообращ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азвивают мускулатур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крепляют нервную систе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о многих странах мира занятия по баскетболу включены в программу физподготовки учащихся средних школ и высших учебных заве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0" name="Picture 2" descr="C:\Users\пользователь\Desktop\x_1ce0a55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1" name="Прямоугольник 4"/>
          <p:cNvSpPr/>
          <p:nvPr/>
        </p:nvSpPr>
        <p:spPr>
          <a:xfrm>
            <a:off x="-400320" y="5157360"/>
            <a:ext cx="9364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b2d15c"/>
                </a:solidFill>
                <a:latin typeface="Constantia"/>
              </a:rPr>
              <a:t>2. Из истории баскетбо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4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5" name="Прямоугольник 4"/>
          <p:cNvSpPr/>
          <p:nvPr/>
        </p:nvSpPr>
        <p:spPr>
          <a:xfrm>
            <a:off x="539640" y="476280"/>
            <a:ext cx="410328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числе непосредственных предшественников баскетбола нередко называют распространенную в 19 в. в некоторых странах детскую игру «утка на скале», с которой был хорошо знаком Джеймс Нейсмит (1861–1939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Users\пользователь\Desktop\naismith.jpeg"/>
          <p:cNvPicPr/>
          <p:nvPr/>
        </p:nvPicPr>
        <p:blipFill>
          <a:blip r:embed="rId2"/>
          <a:stretch/>
        </p:blipFill>
        <p:spPr>
          <a:xfrm>
            <a:off x="4572000" y="476280"/>
            <a:ext cx="4263840" cy="5327280"/>
          </a:xfrm>
          <a:prstGeom prst="rect">
            <a:avLst/>
          </a:prstGeom>
          <a:ln w="9525">
            <a:noFill/>
          </a:ln>
        </p:spPr>
      </p:pic>
      <p:sp>
        <p:nvSpPr>
          <p:cNvPr id="127" name="TextBox 6"/>
          <p:cNvSpPr/>
          <p:nvPr/>
        </p:nvSpPr>
        <p:spPr>
          <a:xfrm>
            <a:off x="5508720" y="6093000"/>
            <a:ext cx="2663640" cy="3639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жеймс Нейсми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1000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0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1" name="Прямоугольник 4"/>
          <p:cNvSpPr/>
          <p:nvPr/>
        </p:nvSpPr>
        <p:spPr>
          <a:xfrm>
            <a:off x="539640" y="1557360"/>
            <a:ext cx="828000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дбрасывая небольшой камень, играющий должен был поразить им вершину другого, более крупного по размеру, кам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менно в момент игры в «утку на скале» в голове юного Джеймса зародилась в общих чертах «концепция баскетбол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4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395280" y="404640"/>
            <a:ext cx="835308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ейсмит заметил, что студентам зимние занятия гимнастикой в зале кажутся слишком однообразными, и решил занять их какой-нибудь новой подвижной игрой на ловкость и координацию, которую можно было бы проводить в закрытом помещении – причем относительно небольшом по своим размерам. В разных концах спортивного зала к балкону, опоясывавшему его по периметру, прикрепили две корзины из-под фруктов. Студентам надо было попасть мячом в корзину. Так родился баскетб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split dir="out" orient="horz"/>
  </p:transition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768</TotalTime>
  <Application>LibreOffice/7.4.7.2$Linux_X86_64 LibreOffice_project/40$Build-2</Application>
  <AppVersion>15.0000</AppVersion>
  <Words>1612</Words>
  <Paragraphs>12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5:58:16Z</dcterms:created>
  <dc:creator>Роман Данилов</dc:creator>
  <dc:description/>
  <dc:language>en-US</dc:language>
  <cp:lastModifiedBy>Dns</cp:lastModifiedBy>
  <dcterms:modified xsi:type="dcterms:W3CDTF">2019-10-10T23:53:47Z</dcterms:modified>
  <cp:revision>9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Экран (4:3)</vt:lpwstr>
  </property>
  <property fmtid="{D5CDD505-2E9C-101B-9397-08002B2CF9AE}" pid="4" name="Slides">
    <vt:r8>49</vt:r8>
  </property>
</Properties>
</file>