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3B67B-F187-45D0-BC95-ED0CDE2A3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A8C600-752E-4392-BAA5-F675D0AD268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98B8A-A71B-43C1-B579-EB9F4648078C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C35-0798-4538-A87C-1062F8FD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104-9812-46FA-9422-2E9600A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A85-33E2-4C73-8F1D-4089C3B8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777-39B5-4392-82CA-39AA2C47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CA93-FA4B-4181-8BE1-FAE6F79D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904-4B2C-4409-A917-39D1C1D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B15-F038-4BA1-9398-E17723C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4694-00CA-4444-BB79-27E9F317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2318-08B9-463E-93E9-07D1718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7B4-F1CF-4D4B-A829-BD82E004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068-B155-4476-B8EF-712E760A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EEA-4481-43E1-9C68-0F1FEAAD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62ED-3E3E-41DC-A388-9BAD8718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18D-1387-450B-ADCA-3585AFC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F5D-C73E-4F1E-8E6F-72C5A1E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144B-335C-4EF8-9FB1-9505F554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4CAE-4FFC-4969-8689-307C054B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63E-50E3-40D9-87CF-748EFB36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8F1-9CBE-4528-90E7-28044B6B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BA5-C82E-43D5-8520-FDE0D435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ECA-05F2-42B5-B235-D8E5F70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60B-2DAE-46D7-9970-2158EB3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447-3A48-400E-9A55-3DB2BF3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90D-40F2-4CAB-A647-B163E4C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D8836-B19B-4658-8B39-8D12CE20FDCC}" type="slidenum">
              <a:rPr b="0" lang="ru-RU" sz="1200" spc="-1" strike="noStrike">
                <a:solidFill>
                  <a:srgbClr val="d1ea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CCD91-67B2-4F5C-B18B-2917E50330F6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Picture 2" descr="C:\Users\пользователь\Desktop\wpapers_ru_Баскетбольный-мяч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631800" y="2277000"/>
            <a:ext cx="7761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onstantia"/>
              </a:rPr>
              <a:t>БАСКЕТБ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294840" y="4653000"/>
            <a:ext cx="6177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3. Правил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971640" y="907920"/>
            <a:ext cx="7703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 проходит на прямоугольной площадке длиной 28 м и шириной 15 м (раньше ее размеры составляли, соответственно, 26×14 м) специальным мя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пользователь\Desktop\1302780549_12693774730358.jpg"/>
          <p:cNvPicPr/>
          <p:nvPr/>
        </p:nvPicPr>
        <p:blipFill>
          <a:blip r:embed="rId2"/>
          <a:stretch/>
        </p:blipFill>
        <p:spPr>
          <a:xfrm>
            <a:off x="2714760" y="2857320"/>
            <a:ext cx="5770080" cy="3715920"/>
          </a:xfrm>
          <a:prstGeom prst="rect">
            <a:avLst/>
          </a:prstGeom>
          <a:ln w="9525">
            <a:noFill/>
          </a:ln>
        </p:spPr>
      </p:pic>
    </p:spTree>
  </p:cSld>
  <p:transition advTm="8000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" descr="C:\Users\пользователь\Desktop\basket.JPG"/>
          <p:cNvPicPr/>
          <p:nvPr/>
        </p:nvPicPr>
        <p:blipFill>
          <a:blip r:embed="rId2"/>
          <a:stretch/>
        </p:blipFill>
        <p:spPr>
          <a:xfrm>
            <a:off x="571320" y="549360"/>
            <a:ext cx="8143560" cy="507492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6"/>
          <p:cNvSpPr/>
          <p:nvPr/>
        </p:nvSpPr>
        <p:spPr>
          <a:xfrm>
            <a:off x="642960" y="5929200"/>
            <a:ext cx="3285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аскетбольная 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3203640" y="476280"/>
            <a:ext cx="5400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асса мяча 567–650 грамм, окружность 749–780 мм (в играх мужских команд; в играх женских команд используются мячи меньших размеров, и еще меньше – в матчах по мини-баскетбол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пользователь\Desktop\i.jpg"/>
          <p:cNvPicPr/>
          <p:nvPr/>
        </p:nvPicPr>
        <p:blipFill>
          <a:blip r:embed="rId2"/>
          <a:stretch/>
        </p:blipFill>
        <p:spPr>
          <a:xfrm>
            <a:off x="611280" y="836640"/>
            <a:ext cx="2226960" cy="2226960"/>
          </a:xfrm>
          <a:prstGeom prst="rect">
            <a:avLst/>
          </a:prstGeom>
          <a:ln w="9525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468360" y="4005360"/>
            <a:ext cx="8135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аскетбольные мячи бывают двух типов: предназначенные для игры только в помещениях (indoor) и универсальные, т.е. пригодные для использования и в помещениях, и на улице (indoor/outdo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642960" y="3286080"/>
            <a:ext cx="221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кетбольный мя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684360" y="3716280"/>
            <a:ext cx="7919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рзина (металлическое кольцо диаметром 45 см с натянутой на нем сеткой без дна) крепится на высоте 3,05 м на щите, установленном на стойке параллельно лицевым линиям площ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пользователь\Desktop\regles8.gif"/>
          <p:cNvPicPr/>
          <p:nvPr/>
        </p:nvPicPr>
        <p:blipFill>
          <a:blip r:embed="rId2"/>
          <a:stretch/>
        </p:blipFill>
        <p:spPr>
          <a:xfrm>
            <a:off x="1285920" y="428760"/>
            <a:ext cx="5857560" cy="3326760"/>
          </a:xfrm>
          <a:prstGeom prst="rect">
            <a:avLst/>
          </a:prstGeom>
          <a:ln w="9525">
            <a:noFill/>
          </a:ln>
        </p:spPr>
      </p:pic>
    </p:spTree>
  </p:cSld>
  <p:transition advTm="15000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428760" y="1268280"/>
            <a:ext cx="83196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баскетбол играют две команды, обычно по двенадцать человек, от каждой из которых на площадке одновременно присутствует пять иг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Цель каждой команды в баскетболе — забросить мяч в корзину соперника и помешать другой команде овладеть мячом и забросить его в корзину своей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8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684360" y="1052640"/>
            <a:ext cx="7919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ячом играют только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ежать с мячом, не ударяя им в пол, преднамеренно бить по нему ногой, блокировать любой частью ноги или бить по нему кулаком является наруш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лучайное же соприкосновение или касание мяча стопой или ногой не является нару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684360" y="692280"/>
            <a:ext cx="806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бедителем в баскетболе становится команда, которая по окончании игрового времени набрала большее количество очков. При равном счёте по окончании основного времени матча назначается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 ОВЕРТАЙМ -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ычно пять минут дополнительного времени, в случае, если и по его окончании счёт будет равен, назначается второй, третий овертайм и т. д., до тех пор, пока не будет выявлен победитель мат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611280" y="836640"/>
            <a:ext cx="82818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 одно попадание мяча в кольцо может быть засчитано разное количество оч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1 очко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— бросок со штрафной л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2 очка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бросок со средней или близкой дистанции (ближе трёхочковой ли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3 очка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бросок из-за трёхочковой линии на расстоянии 6м 75см (7м 24 см в Национальной баскетбольной ассоци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" descr="C:\Users\пользователь\Desktop\zony_dvukh_i_trjokh-broskov.jpg"/>
          <p:cNvPicPr/>
          <p:nvPr/>
        </p:nvPicPr>
        <p:blipFill>
          <a:blip r:embed="rId2"/>
          <a:stretch/>
        </p:blipFill>
        <p:spPr>
          <a:xfrm>
            <a:off x="324000" y="907920"/>
            <a:ext cx="8459280" cy="4919400"/>
          </a:xfrm>
          <a:prstGeom prst="rect">
            <a:avLst/>
          </a:prstGeom>
          <a:ln w="9525">
            <a:noFill/>
          </a:ln>
        </p:spPr>
      </p:pic>
    </p:spTree>
  </p:cSld>
  <p:transition advTm="10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3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-199080" y="4869000"/>
            <a:ext cx="661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1. Сущность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539640" y="620640"/>
            <a:ext cx="813564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 официально начинается спорным броском в центральном круге, когда мяч правильно отбит одним из спорящих. Матч состоит из четырёх периодов по десять минут с перерывами по две мин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должительность перерыва между второй и третьей четвертями игры — пятнадцать минут. После большого перерыва команды должны поменяться корз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324000" y="260280"/>
            <a:ext cx="8496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Изменения в правилах ФИБА с СЕЗОНА 2010/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диус трехочковой дуги увеличивается с 6,25 до 6,75 м. На флангах полукруг "обрезан" дистанция в углах составит 6,60 м. Габариты площадки остались преж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Форма трехсекундной зоны изменяется с трапеции на прямо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324000" y="5013360"/>
            <a:ext cx="8496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Под кольцами появляется полукруг радиусом 1,25 м, внутри которого не фиксируются фолы в 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2" descr="C:\Users\пользователь\Desktop\basketballcourt.jpg"/>
          <p:cNvPicPr/>
          <p:nvPr/>
        </p:nvPicPr>
        <p:blipFill>
          <a:blip r:embed="rId2"/>
          <a:stretch/>
        </p:blipFill>
        <p:spPr>
          <a:xfrm>
            <a:off x="468360" y="189000"/>
            <a:ext cx="8351640" cy="6424200"/>
          </a:xfrm>
          <a:prstGeom prst="rect">
            <a:avLst/>
          </a:prstGeom>
          <a:ln w="9525">
            <a:noFill/>
          </a:ln>
        </p:spPr>
      </p:pic>
    </p:spTree>
  </p:cSld>
  <p:transition advTm="16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395280" y="549360"/>
            <a:ext cx="82087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В последние две минуты матча вбрасывание после тайм-аутов будет проводиться  с отметок расположенных в 8,325 м от лицев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Если атака команды прервана фолом, который не наказывается штрафными, или в результате игры ногой и с начала владения мячом прошло более 10 секунд, то на повторную атаку даются не полные 24 секунды, как раньше, а только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468360" y="750960"/>
            <a:ext cx="82800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 Впервые в правилах ФИБА оговаривается минимальное время, за которое игрок может поймать пас из аута и выполнить "традиционный" бросок с игры, - 0,3 секу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времени на табло остается меньше, то единственный законный способ забить - "волейбольное" добивание или бросок сверху в одном пры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324000" y="404640"/>
            <a:ext cx="8424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. Судьям разрешается просматривать видео-повторы на последних секундах периодов для определения не только того, успел игрок забить мяч или нет, но и для оценки "стоимости" броска - двух- или трехоч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. Когда команду снимают с турнира за два технических поражения, все результаты ранее проведенных ею матчей аннулируются. Раньше эти результаты оставались в си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117000" y="4797000"/>
            <a:ext cx="8043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4. Нарушения прав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468360" y="1052640"/>
            <a:ext cx="820692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юбое нарушение правил в баскетболе влечет за собой потерю владения мячом. И переход владения к команде сопер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яч вводится в игру передачей из аута. На это действие отводится 5 секунд.  Аут это любая точка за пределами площадки. Линия аута (края площадки) это часть а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539640" y="476280"/>
            <a:ext cx="813564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иды наруш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Аут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яч ударился о пол за игровой площадкой ( в ауте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обежк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игрок, контролирующий мяч сделал более 2-х шагов с мячом в руках или оторвал «опорную» ( осевую ) ногу до того как сделал удар мячом о 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онос мяч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рука под мячом во время 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468360" y="363600"/>
            <a:ext cx="8280000" cy="78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Двойное ведение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ожно только один раз начать и закончить ведение, далее можно лишь совершить бросок или сделать передачу партнеру. При повторном начале ведения фиксируется нарушение пр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трех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  игрок команды нападения не может находится в 3-х секундной зоне более трех секунд. ( Отмечена иным цветом, поэтому часто называется краска - pai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восьми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команде нападения отводится восемь секунд для того, что бы перевести мяч через центральную ли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1332000" y="981000"/>
            <a:ext cx="58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40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900000" y="1268280"/>
            <a:ext cx="75592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БАСКЕТБОЛ 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(от англ. «basket» – корзина и «ball» – мяч), командная спортивная игра, цель которой – забросить руками мяч в кольцо (корзину) соперника, прикрепленное к щиту.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падание может принести команде от одного до трех очков. В матче побеждает команда, набравшая большее число о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395280" y="404640"/>
            <a:ext cx="8424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двадцати четырех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команде нападения дается 24 секунды для совершения броска, если за 24 секунды броска не последовало или после броска мяч так и не коснулся корзины соперника. Владение мячом приостанавливается и мяч вводится из аута другой коман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пяти секунд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мяч не может находится в руках одного из игроков более пяти секунд. В американских правилах, правило звучит как 5 секунд спиной к коль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684360" y="1413000"/>
            <a:ext cx="77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авило зон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если мяч находившийся в зоне нападения пересек центральную линию и ударился о пол в зоне защиты, то фиксируется нарушение правила з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-652680" y="5157360"/>
            <a:ext cx="10696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5. Персональные наруш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611280" y="765000"/>
            <a:ext cx="82087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я в баскетбол игрокам запрещается наносить удары руками, ногами. Запрещено толкать игроков команды соперников или пытаться задержать их за форму ил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грая в защите игрок должен находится на линии между мячом и кольцом. Мешая броску противника нельзя касаться рук или корпуса соперника. Наилучшее положение рук - две руки вертикально ввер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24000" y="692280"/>
            <a:ext cx="8351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сональный фол — это нарушение правил, игроком защиты  или нападения. Как правило фолы совершаются при попытке завладеть мячом, попытке помешать броску, передаче мяча или когда игрок старается помешать передвижению 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дин игрок может получить пять фолов в течении одной игры ( одного матча ). Получив свое пятое персональное замечание игрок обязан покинуть площа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539640" y="795240"/>
            <a:ext cx="82800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ют также технические фолы. Это нарушения правил поведения на площадке во время игры. Их могут получать как игроки так и тренеры. За два технических фола тренера удаляют из з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манде на каждую четверть отводится по четыре фола, начиная с пятого каждый фол соперника, кроме фолов в нападении, наказывается пробитем двух штрафных бросков. Или трех если фол был совершен при попытке трех очкового бро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468360" y="907920"/>
            <a:ext cx="81356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трафной бросок производится с линии на вершине трех секундной зоне. Игроки команд располагаются определенным образом и не имеют права сходить со своих мест до того момента когда мяч коснется кольца. Если мяч после штрафного броска не касается душки кольца ( эир бол - airball ), то команда соперника получает владение мячом и вводит мяч из а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-568800" y="4797000"/>
            <a:ext cx="982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6. Техника и тактик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57" name="Прямоугольник 4"/>
          <p:cNvSpPr/>
          <p:nvPr/>
        </p:nvSpPr>
        <p:spPr>
          <a:xfrm>
            <a:off x="324000" y="333360"/>
            <a:ext cx="8135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временном баскетболе различают следующие игровые амплуа: разыгрывающий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щитник; атакующий защитник, легкий и тяжелый форварды, а также центровой (или центрфорвар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468360" y="1989000"/>
            <a:ext cx="82800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ыгрывающего защитника также называют «плеймейкером» (англ. «playmaker» – букв. «тот, кто делает игру») или «дирижером». Разыгрывающие больше других игроков владеют мячом и ведут игру всей команды. От них требуется прекрасное видение площадки, филигранный дриблинг и тонкая игра в пас. Атакующие защитники не только начинают атаку своей команды, но нередко и завершают ее дальними бросками. Форварды обычно атакуют с краев площадки, а центровые – с близкого расстояния. Центрфорварды, как правило, самые рослые игроки в команде, их основная функция – борьба под своим и чужим щ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468360" y="620640"/>
            <a:ext cx="820692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стоящее время в баскетболе чрезвычайно ценятся мастера-универсалы, которые при необходимости могут сыграть не только на своей позиции. Очень важно и такое понятие,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«командный игрок»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верженность командной игре легендарного центрового Билла Рассела позволила ему 11 раз привести к победе в чемпионате НБА клуб «Бостон селтикс». Его вечный соперник Уилт Чемберлен («Филадельфия уорриорз») не уступал в классе Расселу, но предпочитал играть «на себя», а не «на команду», и в итоге лишь однажды стал чемпионом Н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826920" y="1557360"/>
            <a:ext cx="7632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настоящее время баскетбол – один из самых популярных видов 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о официально зарегистрированных игроков во всем мире превышает 200 миллионов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539640" y="907920"/>
            <a:ext cx="83530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спех команды определяется не только индивидуальным мастерством игроков, но и верно выбранной тактикой. Классический пример – финал олимпийского турнира 1972. Понимая, что его подопечные уступают баскетболистам США по своим игровым кондициям и физическим данным, главный тренер сборной СССР Владимир Кондрашин построил игру от обороны, навязал сопернику «свой баскетбол», что в итоге принесло успех советской коман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0" name="Прямоугольник 4"/>
          <p:cNvSpPr/>
          <p:nvPr/>
        </p:nvSpPr>
        <p:spPr>
          <a:xfrm>
            <a:off x="468360" y="907920"/>
            <a:ext cx="8280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баскетболе различают зонную и личную (персональную) защиту. В первом случае каждый из игроков опекает любого соперника, находящегося в отведенном ему участке (зоне) площадки. При персональной защите каждый баскетболист опекает «своего» игрока. Чрезвычайно эффективен так называемый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 прессинг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активный вид обороны, при котором соперников опекают не только в непосредственной близости от своего щита, но и на дальних подступах к нему, иногда – по всей площадке. Цель прессинга – помешать сопернику спокойно разыграть мяч и провести ата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324000" y="333360"/>
            <a:ext cx="8424360" cy="71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дивидуальное мастерство игрока складывается из многих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Дриблинг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.е. ведение мяча, в том числе и без визуального контроля, что позволяет игроку мгновенно оценивать меняющуюся ситуацию на площа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е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ин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водящие соперника в заблуждение: обманное движение мячом, руками, ногами, всем телом, поворотом головы, взглядом и про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гра в пас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 ценится так называемый скрытый пас – передача мяча, не глядя на партнера, которому он адресован. Еще один прием из арсенала мастеров баскетбола – пас из-за спины (держа мяч за спиной, игрок перебрасывает его партнеру через голову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684360" y="981000"/>
            <a:ext cx="784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Броск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в баскетболе осуществляются как с места, так и в дви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уществует немало их разновидностей: бросок в прыжке, бросок «крюком» (рука игрока, стоящего боком к корзине соперника, движется по воображаемой дуге), бросок в корзину сверху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у с техникой владения мячом в баскетболе чрезвычайно важно умение правильно играть без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130680" y="5229360"/>
            <a:ext cx="7878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7. Звезды баскетбо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6" name="Прямоугольник 4"/>
          <p:cNvSpPr/>
          <p:nvPr/>
        </p:nvSpPr>
        <p:spPr>
          <a:xfrm>
            <a:off x="539640" y="549360"/>
            <a:ext cx="820872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аскетбол входит в программу  Олимпийских игр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36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. Регулярные  чемпионаты мира по баскетболу среди мужчин проводятся с 1950 года,  среди женщин —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53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, а  чемпионаты Европы — с 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93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Европе проводятся международные клубные соревнования Евролига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LEB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 Кубок Европы УЛЕБ, Кубок  Вы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ибольшего развития игра достигла в США: чемпионат Национальной баскетбольной ассоциации (НБА) более 50 лет является сильнейшим национальным клубным турниром в мире. Баскетбол считается национальным видом спорта в Ли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0" name="Прямоугольник 4"/>
          <p:cNvSpPr/>
          <p:nvPr/>
        </p:nvSpPr>
        <p:spPr>
          <a:xfrm>
            <a:off x="468360" y="5084640"/>
            <a:ext cx="4174920" cy="1186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айкл Джордан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легенда американского баскетбола, является одним из самых титулованных баскетболистов Америки и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5148360" y="5084640"/>
            <a:ext cx="3779640" cy="1186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рина Осипов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российская спортсменка, баскетболистка, член национальной сборной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C:\Users\пользователь\Desktop\osipova_20.jpg"/>
          <p:cNvPicPr/>
          <p:nvPr/>
        </p:nvPicPr>
        <p:blipFill>
          <a:blip r:embed="rId2"/>
          <a:stretch/>
        </p:blipFill>
        <p:spPr>
          <a:xfrm>
            <a:off x="5580000" y="549360"/>
            <a:ext cx="3024000" cy="394776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5" descr="C:\Users\пользователь\Desktop\937672285.jpg"/>
          <p:cNvPicPr/>
          <p:nvPr/>
        </p:nvPicPr>
        <p:blipFill>
          <a:blip r:embed="rId3"/>
          <a:stretch/>
        </p:blipFill>
        <p:spPr>
          <a:xfrm>
            <a:off x="900000" y="476280"/>
            <a:ext cx="3171600" cy="396504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5"/>
          <p:cNvSpPr/>
          <p:nvPr/>
        </p:nvSpPr>
        <p:spPr>
          <a:xfrm>
            <a:off x="755640" y="5300640"/>
            <a:ext cx="338436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би Брайан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выдающийся американский баскетболист, атакующий защи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5003640" y="5300640"/>
            <a:ext cx="360000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тти  Пипен -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вляется одним из 50 Великих Баскетболистов НБА за всю исто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C:\Users\пользователь\Desktop\Scottie-Pippen.jpg"/>
          <p:cNvPicPr/>
          <p:nvPr/>
        </p:nvPicPr>
        <p:blipFill>
          <a:blip r:embed="rId2"/>
          <a:stretch/>
        </p:blipFill>
        <p:spPr>
          <a:xfrm>
            <a:off x="4859280" y="1268280"/>
            <a:ext cx="4082760" cy="3096720"/>
          </a:xfrm>
          <a:prstGeom prst="rect">
            <a:avLst/>
          </a:prstGeom>
          <a:ln w="9525">
            <a:noFill/>
          </a:ln>
        </p:spPr>
      </p:pic>
      <p:pic>
        <p:nvPicPr>
          <p:cNvPr id="300" name="Picture 5" descr="C:\Users\пользователь\Desktop\x_4fea391b.jpg"/>
          <p:cNvPicPr/>
          <p:nvPr/>
        </p:nvPicPr>
        <p:blipFill>
          <a:blip r:embed="rId3"/>
          <a:stretch/>
        </p:blipFill>
        <p:spPr>
          <a:xfrm>
            <a:off x="755640" y="549360"/>
            <a:ext cx="3096720" cy="431928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Прямоугольник 4"/>
          <p:cNvSpPr/>
          <p:nvPr/>
        </p:nvSpPr>
        <p:spPr>
          <a:xfrm>
            <a:off x="755640" y="5084640"/>
            <a:ext cx="365400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лона Корстин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 российская баскетболистка, игрок национальной сборной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C:\Users\пользователь\Desktop\23296373.jpg"/>
          <p:cNvPicPr/>
          <p:nvPr/>
        </p:nvPicPr>
        <p:blipFill>
          <a:blip r:embed="rId2"/>
          <a:stretch/>
        </p:blipFill>
        <p:spPr>
          <a:xfrm>
            <a:off x="971640" y="476280"/>
            <a:ext cx="3263400" cy="4330440"/>
          </a:xfrm>
          <a:prstGeom prst="rect">
            <a:avLst/>
          </a:prstGeom>
          <a:ln w="9525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4859280" y="5157720"/>
            <a:ext cx="3727080" cy="912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етлана Абросимова -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вляется одной из талантливейших российских баскетболи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C:\Users\пользователь\Desktop\abrosimova_1.jpg"/>
          <p:cNvPicPr/>
          <p:nvPr/>
        </p:nvPicPr>
        <p:blipFill>
          <a:blip r:embed="rId3"/>
          <a:stretch/>
        </p:blipFill>
        <p:spPr>
          <a:xfrm>
            <a:off x="5148360" y="549360"/>
            <a:ext cx="3303360" cy="4000320"/>
          </a:xfrm>
          <a:prstGeom prst="rect">
            <a:avLst/>
          </a:prstGeom>
          <a:ln w="9525">
            <a:noFill/>
          </a:ln>
        </p:spPr>
      </p:pic>
    </p:spTree>
  </p:cSld>
  <p:transition advTm="10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Содержимое 3" descr="мяч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928800" y="2357280"/>
            <a:ext cx="685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611280" y="620640"/>
            <a:ext cx="806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егулярные занятия баскетболом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вершенствуют координацию движ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ренируют органы дыхания и кровообращ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звивают мускула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крепляют нервную сист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 многих странах мира занятия по баскетболу включены в программу физподготовки учащихся средних школ и высших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Picture 2" descr="C:\Users\пользователь\Desktop\x_1ce0a55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-400320" y="5157360"/>
            <a:ext cx="9364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b2d15c"/>
                </a:solidFill>
                <a:latin typeface="Constantia"/>
              </a:rPr>
              <a:t>2. Из истории баскетбо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539640" y="476280"/>
            <a:ext cx="410328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числе непосредственных предшественников баскетбола нередко называют распространенную в 19 в. в некоторых странах детскую игру «утка на скале», с которой был хорошо знаком Джеймс Нейсмит (1861–1939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пользователь\Desktop\naismith.jpeg"/>
          <p:cNvPicPr/>
          <p:nvPr/>
        </p:nvPicPr>
        <p:blipFill>
          <a:blip r:embed="rId2"/>
          <a:stretch/>
        </p:blipFill>
        <p:spPr>
          <a:xfrm>
            <a:off x="4572000" y="476280"/>
            <a:ext cx="4263840" cy="5327280"/>
          </a:xfrm>
          <a:prstGeom prst="rect">
            <a:avLst/>
          </a:prstGeom>
          <a:ln w="9525">
            <a:noFill/>
          </a:ln>
        </p:spPr>
      </p:pic>
      <p:sp>
        <p:nvSpPr>
          <p:cNvPr id="127" name="TextBox 6"/>
          <p:cNvSpPr/>
          <p:nvPr/>
        </p:nvSpPr>
        <p:spPr>
          <a:xfrm>
            <a:off x="5508720" y="6093000"/>
            <a:ext cx="266364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жеймс Нейсм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539640" y="1557360"/>
            <a:ext cx="82800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брасывая небольшой камень, играющий должен был поразить им вершину другого, более крупного по размеру, кам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менно в момент игры в «утку на скале» в голове юного Джеймса зародилась в общих чертах «концепция баскетбол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Picture 2" descr="C:\Users\пользователь\Desktop\3285337-orange-gumy-koszyk-wka-makro-w-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395280" y="404640"/>
            <a:ext cx="835308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йсмит заметил, что студентам зимние занятия гимнастикой в зале кажутся слишком однообразными, и решил занять их какой-нибудь новой подвижной игрой на ловкость и координацию, которую можно было бы проводить в закрытом помещении – причем относительно небольшом по своим размерам. В разных концах спортивного зала к балкону, опоясывавшему его по периметру, прикрепили две корзины из-под фруктов. Студентам надо было попасть мячом в корзину. Так родился баске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plit dir="out" orient="horz"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768</TotalTime>
  <Application>LibreOffice/7.4.7.2$Linux_X86_64 LibreOffice_project/40$Build-2</Application>
  <AppVersion>15.0000</AppVersion>
  <Words>1612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5:58:16Z</dcterms:created>
  <dc:creator>Роман Данилов</dc:creator>
  <dc:description/>
  <dc:language>en-US</dc:language>
  <cp:lastModifiedBy>Dns</cp:lastModifiedBy>
  <dcterms:modified xsi:type="dcterms:W3CDTF">2019-10-10T23:53:47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49</vt:r8>
  </property>
</Properties>
</file>