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1B52-DA01-432B-8FAD-E584DE9F1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5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89000" y="4710600"/>
            <a:ext cx="8475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57DD-4906-4458-BFDB-FD3A7C08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890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324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857C-4320-4E43-AF87-D38B3A30F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54600" y="222372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20200" y="222372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89000" y="471060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54600" y="471060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20200" y="471060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029E-3200-4E95-AA02-990AC08CA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89000" y="2223720"/>
            <a:ext cx="84758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58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40880" y="117360"/>
            <a:ext cx="86058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0890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89000" y="2223720"/>
            <a:ext cx="84758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2EA0-50C5-4177-9660-DDF92B41B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4324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89000" y="4710600"/>
            <a:ext cx="8475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5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089000" y="4710600"/>
            <a:ext cx="8475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890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4324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954600" y="222372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20200" y="222372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089000" y="471060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954600" y="471060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820200" y="471060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58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E22A-CEB6-42B8-B302-63D27F547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E9AD-7385-41B5-83CC-FA8C780BC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2737-8598-4D3F-A063-64F966444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117360"/>
            <a:ext cx="86058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C4CD-D4EF-4FD6-AF29-A53462C73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890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CD18-DDF4-489D-B655-575E0EE2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324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23A0-D95D-429C-BCDD-3F91776A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89000" y="4710600"/>
            <a:ext cx="8475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19FA-D8DA-4445-9D99-40B711A0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746913-275C-4102-8FB5-86470E567D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-1" strike="noStrike">
                <a:solidFill>
                  <a:srgbClr val="e6e6e6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89000" y="2223720"/>
            <a:ext cx="84758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7937640" y="6251400"/>
            <a:ext cx="1968480" cy="105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20360" y="178920"/>
            <a:ext cx="89996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ru-RU" sz="2400" spc="-1" strike="noStrike">
              <a:solidFill>
                <a:srgbClr val="e6e6e6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0" y="1440000"/>
          <a:ext cx="10082160" cy="6300720"/>
        </p:xfrm>
        <a:graphic>
          <a:graphicData uri="http://schemas.openxmlformats.org/drawingml/2006/table">
            <a:tbl>
              <a:tblPr/>
              <a:tblGrid>
                <a:gridCol w="5041800"/>
                <a:gridCol w="5040360"/>
              </a:tblGrid>
              <a:tr h="630072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ppy             free 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ean           summer  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y         South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n          fat     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ft      ligh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rth            smil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                              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inter         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ight           sad                   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i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now       dirt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0066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360360" y="0"/>
          <a:ext cx="9540720" cy="1330200"/>
        </p:xfrm>
        <a:graphic>
          <a:graphicData uri="http://schemas.openxmlformats.org/drawingml/2006/table">
            <a:tbl>
              <a:tblPr/>
              <a:tblGrid>
                <a:gridCol w="9540720"/>
              </a:tblGrid>
              <a:tr h="13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2600" spc="-1" strike="noStrike">
                          <a:solidFill>
                            <a:srgbClr val="000000"/>
                          </a:solidFill>
                          <a:latin typeface="Microsoft JhengHei"/>
                          <a:ea typeface="Times New Roman"/>
                        </a:rPr>
                        <a:t>1.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Microsoft JhengHei"/>
                          <a:ea typeface="Times New Roman"/>
                        </a:rPr>
                        <a:t>Opposites (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Microsoft JhengHei"/>
                          <a:ea typeface="Times New Roman"/>
                        </a:rPr>
                        <a:t>найдите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Microsoft JhengHei"/>
                          <a:ea typeface="Times New Roman"/>
                        </a:rPr>
                        <a:t> слова с противоположным значением)(10 баллов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Microsoft JhengHei"/>
                          <a:ea typeface="Times New Roman"/>
                        </a:rPr>
                        <a:t>Example: black – whit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ru-RU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60000" y="2223720"/>
            <a:ext cx="972036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  <a:ea typeface="Times New Roman"/>
              </a:rPr>
              <a:t>         </a:t>
            </a: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8.Which holiday is on December, 25?</a:t>
            </a: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                </a:t>
            </a: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            </a:t>
            </a: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a)St. Valentine’s Day.</a:t>
            </a: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            </a:t>
            </a: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b)Easter.</a:t>
            </a: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            </a:t>
            </a: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c)Christmas.</a:t>
            </a: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ru-RU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60000" y="2223720"/>
            <a:ext cx="972036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  <a:ea typeface="Times New Roman"/>
              </a:rPr>
              <a:t>   </a:t>
            </a: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     </a:t>
            </a: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9.A famous waxworks museum in London  is …</a:t>
            </a: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             </a:t>
            </a: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           </a:t>
            </a: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a)MOMI.</a:t>
            </a: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           </a:t>
            </a: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b)the British Museum.</a:t>
            </a: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           </a:t>
            </a: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c)Madame Tussaud’s museum.</a:t>
            </a: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ru-RU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60000" y="2223720"/>
            <a:ext cx="972036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  <a:ea typeface="Times New Roman"/>
              </a:rPr>
              <a:t>   </a:t>
            </a: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     </a:t>
            </a: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9.A famous waxworks museum in London  is …</a:t>
            </a: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             </a:t>
            </a: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           </a:t>
            </a: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a)MOMI.</a:t>
            </a: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           </a:t>
            </a: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b)the British Museum.</a:t>
            </a: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           </a:t>
            </a: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c)Madame Tussaud’s museum.</a:t>
            </a: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ru-RU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60000" y="2223720"/>
            <a:ext cx="972036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     </a:t>
            </a: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10.Daniel Defoe was a famous English…</a:t>
            </a: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           </a:t>
            </a: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a)poet.</a:t>
            </a: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           </a:t>
            </a: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b)writer.</a:t>
            </a: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           </a:t>
            </a: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c)artist.</a:t>
            </a: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17360"/>
            <a:ext cx="1008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e6e6e6"/>
                </a:solidFill>
                <a:latin typeface="Arial"/>
                <a:ea typeface="Times New Roman"/>
              </a:rPr>
              <a:t>4.What</a:t>
            </a:r>
            <a:r>
              <a:rPr b="1" i="1" lang="de-DE" sz="2800" spc="-1" strike="noStrike">
                <a:solidFill>
                  <a:srgbClr val="e6e6e6"/>
                </a:solidFill>
                <a:latin typeface="Arial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e6e6e6"/>
                </a:solidFill>
                <a:latin typeface="Arial"/>
                <a:ea typeface="Times New Roman"/>
              </a:rPr>
              <a:t>is</a:t>
            </a:r>
            <a:r>
              <a:rPr b="1" i="1" lang="de-DE" sz="2800" spc="-1" strike="noStrike">
                <a:solidFill>
                  <a:srgbClr val="e6e6e6"/>
                </a:solidFill>
                <a:latin typeface="Arial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e6e6e6"/>
                </a:solidFill>
                <a:latin typeface="Arial"/>
                <a:ea typeface="Times New Roman"/>
              </a:rPr>
              <a:t>the</a:t>
            </a:r>
            <a:r>
              <a:rPr b="1" i="1" lang="de-DE" sz="2800" spc="-1" strike="noStrike">
                <a:solidFill>
                  <a:srgbClr val="e6e6e6"/>
                </a:solidFill>
                <a:latin typeface="Arial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e6e6e6"/>
                </a:solidFill>
                <a:latin typeface="Arial"/>
                <a:ea typeface="Times New Roman"/>
              </a:rPr>
              <a:t>message</a:t>
            </a:r>
            <a:r>
              <a:rPr b="1" i="1" lang="de-DE" sz="2800" spc="-1" strike="noStrike">
                <a:solidFill>
                  <a:srgbClr val="e6e6e6"/>
                </a:solidFill>
                <a:latin typeface="Arial"/>
                <a:ea typeface="Times New Roman"/>
              </a:rPr>
              <a:t>? (Расшифруйте  сообщение, используйте ключ к коду) (5 баллов).</a:t>
            </a:r>
            <a:endParaRPr b="1" i="1" lang="en-US" sz="28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439640"/>
            <a:ext cx="5224320" cy="61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e6e6e6"/>
                </a:solidFill>
                <a:latin typeface="Arial"/>
              </a:rPr>
              <a:t>     </a:t>
            </a:r>
            <a:r>
              <a:rPr b="0" lang="de-DE" sz="2400" spc="-1" strike="noStrike">
                <a:solidFill>
                  <a:srgbClr val="e6e6e6"/>
                </a:solidFill>
                <a:latin typeface="Arial"/>
              </a:rPr>
              <a:t>1-a                 </a:t>
            </a:r>
            <a:r>
              <a:rPr b="0" lang="en-US" sz="2400" spc="-1" strike="noStrike">
                <a:solidFill>
                  <a:srgbClr val="e6e6e6"/>
                </a:solidFill>
                <a:latin typeface="Arial"/>
                <a:ea typeface="Times New Roman"/>
              </a:rPr>
              <a:t>9-i                 18-r       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e6e6e6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e6e6e6"/>
                </a:solidFill>
                <a:latin typeface="Arial"/>
                <a:ea typeface="Times New Roman"/>
              </a:rPr>
              <a:t>2-b                10-j                19-s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e6e6e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e6e6e6"/>
                </a:solidFill>
                <a:latin typeface="Arial"/>
                <a:ea typeface="Times New Roman"/>
              </a:rPr>
              <a:t>3-c                11-k                20-t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e6e6e6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e6e6e6"/>
                </a:solidFill>
                <a:latin typeface="Arial"/>
                <a:ea typeface="Times New Roman"/>
              </a:rPr>
              <a:t>4-d                12-l                 21-u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  <a:ea typeface="Times New Roman"/>
              </a:rPr>
              <a:t>    </a:t>
            </a:r>
            <a:r>
              <a:rPr b="0" lang="de-DE" sz="2400" spc="-1" strike="noStrike">
                <a:solidFill>
                  <a:srgbClr val="e6e6e6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e6e6e6"/>
                </a:solidFill>
                <a:latin typeface="Arial"/>
              </a:rPr>
              <a:t>5-e                </a:t>
            </a:r>
            <a:r>
              <a:rPr b="0" lang="en-US" sz="2400" spc="-1" strike="noStrike">
                <a:solidFill>
                  <a:srgbClr val="e6e6e6"/>
                </a:solidFill>
                <a:latin typeface="Arial"/>
                <a:ea typeface="Times New Roman"/>
              </a:rPr>
              <a:t>13-m               22-v</a:t>
            </a:r>
            <a:r>
              <a:rPr b="0" lang="de-DE" sz="2400" spc="-1" strike="noStrike">
                <a:solidFill>
                  <a:srgbClr val="e6e6e6"/>
                </a:solidFill>
                <a:latin typeface="Arial"/>
              </a:rPr>
              <a:t>          6-f                 </a:t>
            </a:r>
            <a:r>
              <a:rPr b="0" lang="en-US" sz="2400" spc="-1" strike="noStrike">
                <a:solidFill>
                  <a:srgbClr val="e6e6e6"/>
                </a:solidFill>
                <a:latin typeface="Arial"/>
                <a:ea typeface="Times New Roman"/>
              </a:rPr>
              <a:t>14-n                23-w</a:t>
            </a:r>
            <a:r>
              <a:rPr b="0" lang="en-US" sz="1400" spc="-1" strike="noStrike">
                <a:solidFill>
                  <a:srgbClr val="e6e6e6"/>
                </a:solidFill>
                <a:latin typeface="Arial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e6e6e6"/>
                </a:solidFill>
                <a:latin typeface="Arial"/>
              </a:rPr>
              <a:t>         7-g                </a:t>
            </a:r>
            <a:r>
              <a:rPr b="0" lang="en-US" sz="2400" spc="-1" strike="noStrike">
                <a:solidFill>
                  <a:srgbClr val="e6e6e6"/>
                </a:solidFill>
                <a:latin typeface="Arial"/>
                <a:ea typeface="Times New Roman"/>
              </a:rPr>
              <a:t>15-o </a:t>
            </a:r>
            <a:r>
              <a:rPr b="0" lang="de-DE" sz="2400" spc="-1" strike="noStrike">
                <a:solidFill>
                  <a:srgbClr val="e6e6e6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e6e6e6"/>
                </a:solidFill>
                <a:latin typeface="Arial"/>
                <a:ea typeface="Times New Roman"/>
              </a:rPr>
              <a:t>24-x</a:t>
            </a:r>
            <a:r>
              <a:rPr b="0" lang="de-DE" sz="2400" spc="-1" strike="noStrike">
                <a:solidFill>
                  <a:srgbClr val="e6e6e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e6e6e6"/>
                </a:solidFill>
                <a:latin typeface="Arial"/>
              </a:rPr>
              <a:t>     </a:t>
            </a:r>
            <a:r>
              <a:rPr b="0" lang="de-DE" sz="2400" spc="-1" strike="noStrike">
                <a:solidFill>
                  <a:srgbClr val="e6e6e6"/>
                </a:solidFill>
                <a:latin typeface="Arial"/>
              </a:rPr>
              <a:t>8-h                </a:t>
            </a:r>
            <a:r>
              <a:rPr b="0" lang="en-US" sz="2400" spc="-1" strike="noStrike">
                <a:solidFill>
                  <a:srgbClr val="e6e6e6"/>
                </a:solidFill>
                <a:latin typeface="Arial"/>
                <a:ea typeface="Times New Roman"/>
              </a:rPr>
              <a:t>16-p                25-y </a:t>
            </a:r>
            <a:r>
              <a:rPr b="0" lang="de-DE" sz="2400" spc="-1" strike="noStrike">
                <a:solidFill>
                  <a:srgbClr val="e6e6e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e6e6e6"/>
                </a:solidFill>
                <a:latin typeface="Arial"/>
              </a:rPr>
              <a:t>                          </a:t>
            </a:r>
            <a:r>
              <a:rPr b="0" lang="en-US" sz="2400" spc="-1" strike="noStrike">
                <a:solidFill>
                  <a:srgbClr val="e6e6e6"/>
                </a:solidFill>
                <a:latin typeface="Arial"/>
                <a:ea typeface="Times New Roman"/>
              </a:rPr>
              <a:t>17-q                26-z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  <a:ea typeface="Times New Roman"/>
              </a:rPr>
              <a:t>                          </a:t>
            </a:r>
            <a:r>
              <a:rPr b="0" lang="de-DE" sz="2400" spc="-1" strike="noStrike">
                <a:solidFill>
                  <a:srgbClr val="e6e6e6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0" y="4500720"/>
            <a:ext cx="10080720" cy="30607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  <a:p>
            <a:pPr marL="503280" indent="0">
              <a:lnSpc>
                <a:spcPct val="11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  <a:p>
            <a:pPr marL="503280" indent="0">
              <a:lnSpc>
                <a:spcPct val="11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e6e6e6"/>
                </a:solidFill>
                <a:latin typeface="Comic Sans MS"/>
                <a:ea typeface="Times New Roman"/>
              </a:rPr>
              <a:t>13 25 ______  6  1  22  15  21 18  9  20  5 ______</a:t>
            </a:r>
            <a:endParaRPr b="0" lang="en-US" sz="2800" spc="-1" strike="noStrike">
              <a:solidFill>
                <a:srgbClr val="e6e6e6"/>
              </a:solidFill>
              <a:latin typeface="Arial"/>
            </a:endParaRPr>
          </a:p>
          <a:p>
            <a:pPr marL="503280" indent="0">
              <a:lnSpc>
                <a:spcPct val="11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e6e6e6"/>
                </a:solidFill>
                <a:latin typeface="Comic Sans MS"/>
                <a:ea typeface="Times New Roman"/>
              </a:rPr>
              <a:t>1  14  9  13  1  12 _______ 9  19 ______</a:t>
            </a:r>
            <a:endParaRPr b="0" lang="en-US" sz="2800" spc="-1" strike="noStrike">
              <a:solidFill>
                <a:srgbClr val="e6e6e6"/>
              </a:solidFill>
              <a:latin typeface="Arial"/>
            </a:endParaRPr>
          </a:p>
          <a:p>
            <a:pPr marL="503280" indent="0">
              <a:lnSpc>
                <a:spcPct val="11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e6e6e6"/>
                </a:solidFill>
                <a:latin typeface="Comic Sans MS"/>
                <a:ea typeface="Times New Roman"/>
              </a:rPr>
              <a:t>1_______12  9  15  14.</a:t>
            </a:r>
            <a:endParaRPr b="0" lang="en-US" sz="28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117360"/>
            <a:ext cx="1008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e6e6e6"/>
                </a:solidFill>
                <a:latin typeface="Arial"/>
                <a:ea typeface="Times New Roman"/>
              </a:rPr>
              <a:t>Guess the word ( угадай  слово) (5 баллов).</a:t>
            </a:r>
            <a:endParaRPr b="1" i="1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72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e6e6e6"/>
                </a:solidFill>
                <a:latin typeface="Arial"/>
                <a:ea typeface="Times New Roman"/>
              </a:rPr>
              <a:t>1.The first letter of “sometimes”;</a:t>
            </a:r>
            <a:endParaRPr b="0" lang="en-US" sz="36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e6e6e6"/>
                </a:solidFill>
                <a:latin typeface="Arial"/>
                <a:ea typeface="Times New Roman"/>
              </a:rPr>
              <a:t>2.The second letter of “twenty”;</a:t>
            </a:r>
            <a:endParaRPr b="0" lang="en-US" sz="36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e6e6e6"/>
                </a:solidFill>
                <a:latin typeface="Arial"/>
                <a:ea typeface="Times New Roman"/>
              </a:rPr>
              <a:t>3.The fourth letter of “interesting”;</a:t>
            </a:r>
            <a:endParaRPr b="0" lang="en-US" sz="36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e6e6e6"/>
                </a:solidFill>
                <a:latin typeface="Arial"/>
                <a:ea typeface="Times New Roman"/>
              </a:rPr>
              <a:t>4.The second letter of “hamster”;</a:t>
            </a:r>
            <a:endParaRPr b="0" lang="en-US" sz="36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e6e6e6"/>
                </a:solidFill>
                <a:latin typeface="Arial"/>
                <a:ea typeface="Times New Roman"/>
              </a:rPr>
              <a:t>5.The fifth letter of “right”;</a:t>
            </a:r>
            <a:endParaRPr b="0" lang="en-US" sz="36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e6e6e6"/>
                </a:solidFill>
                <a:latin typeface="Arial"/>
                <a:ea typeface="Times New Roman"/>
              </a:rPr>
              <a:t>6.The eight letter of “tortoise”;</a:t>
            </a:r>
            <a:endParaRPr b="0" lang="en-US" sz="36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e6e6e6"/>
                </a:solidFill>
                <a:latin typeface="Arial"/>
                <a:ea typeface="Times New Roman"/>
              </a:rPr>
              <a:t>7.The sixth letter of “favourite”.</a:t>
            </a:r>
            <a:endParaRPr b="0" lang="en-US" sz="36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e6e6e6"/>
                </a:solidFill>
                <a:latin typeface="Arial"/>
                <a:ea typeface="Times New Roman"/>
              </a:rPr>
              <a:t>Quiz</a:t>
            </a:r>
            <a:r>
              <a:rPr b="1" i="1" lang="de-DE" sz="2800" spc="-1" strike="noStrike">
                <a:solidFill>
                  <a:srgbClr val="e6e6e6"/>
                </a:solidFill>
                <a:latin typeface="Arial"/>
                <a:ea typeface="Times New Roman"/>
              </a:rPr>
              <a:t> (отгадайте загадку и найдите даты рождения этих известных людей) (10 баллов).</a:t>
            </a:r>
            <a:endParaRPr b="1" i="1" lang="en-US" sz="28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89000" y="1618920"/>
            <a:ext cx="4137120" cy="21747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3394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e6e6e6"/>
                </a:solidFill>
                <a:latin typeface="Arial"/>
                <a:ea typeface="Times New Roman"/>
              </a:rPr>
              <a:t>                        </a:t>
            </a:r>
            <a:endParaRPr b="0" lang="en-US" sz="1400" spc="-1" strike="noStrike">
              <a:solidFill>
                <a:srgbClr val="e6e6e6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e6e6e6"/>
                </a:solidFill>
                <a:latin typeface="Arial"/>
                <a:ea typeface="Times New Roman"/>
              </a:rPr>
              <a:t>                       </a:t>
            </a:r>
            <a:r>
              <a:rPr b="0" lang="en-US" sz="2800" spc="-1" strike="noStrike">
                <a:solidFill>
                  <a:srgbClr val="e6e6e6"/>
                </a:solidFill>
                <a:latin typeface="Arial"/>
                <a:ea typeface="Times New Roman"/>
              </a:rPr>
              <a:t>6 June</a:t>
            </a:r>
            <a:endParaRPr b="0" lang="en-US" sz="2800" spc="-1" strike="noStrike">
              <a:solidFill>
                <a:srgbClr val="e6e6e6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Arial"/>
                <a:ea typeface="Times New Roman"/>
              </a:rPr>
              <a:t>            </a:t>
            </a:r>
            <a:r>
              <a:rPr b="0" lang="en-US" sz="2800" spc="-1" strike="noStrike">
                <a:solidFill>
                  <a:srgbClr val="e6e6e6"/>
                </a:solidFill>
                <a:latin typeface="Arial"/>
                <a:ea typeface="Times New Roman"/>
              </a:rPr>
              <a:t>21 April</a:t>
            </a:r>
            <a:endParaRPr b="0" lang="en-US" sz="2800" spc="-1" strike="noStrike">
              <a:solidFill>
                <a:srgbClr val="e6e6e6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Arial"/>
                <a:ea typeface="Times New Roman"/>
              </a:rPr>
              <a:t>            </a:t>
            </a:r>
            <a:r>
              <a:rPr b="0" lang="en-US" sz="2800" spc="-1" strike="noStrike">
                <a:solidFill>
                  <a:srgbClr val="e6e6e6"/>
                </a:solidFill>
                <a:latin typeface="Arial"/>
                <a:ea typeface="Times New Roman"/>
              </a:rPr>
              <a:t>8 October</a:t>
            </a:r>
            <a:endParaRPr b="0" lang="en-US" sz="2800" spc="-1" strike="noStrike">
              <a:solidFill>
                <a:srgbClr val="e6e6e6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Arial"/>
                <a:ea typeface="Times New Roman"/>
              </a:rPr>
              <a:t>            </a:t>
            </a:r>
            <a:r>
              <a:rPr b="0" lang="en-US" sz="2800" spc="-1" strike="noStrike">
                <a:solidFill>
                  <a:srgbClr val="e6e6e6"/>
                </a:solidFill>
                <a:latin typeface="Arial"/>
                <a:ea typeface="Times New Roman"/>
              </a:rPr>
              <a:t>25 January</a:t>
            </a:r>
            <a:endParaRPr b="0" lang="en-US" sz="2800" spc="-1" strike="noStrike">
              <a:solidFill>
                <a:srgbClr val="e6e6e6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Arial"/>
                <a:ea typeface="Times New Roman"/>
              </a:rPr>
              <a:t>            </a:t>
            </a:r>
            <a:r>
              <a:rPr b="0" lang="en-US" sz="2800" spc="-1" strike="noStrike">
                <a:solidFill>
                  <a:srgbClr val="e6e6e6"/>
                </a:solidFill>
                <a:latin typeface="Arial"/>
                <a:ea typeface="Times New Roman"/>
              </a:rPr>
              <a:t>3 October </a:t>
            </a:r>
            <a:endParaRPr b="0" lang="en-US" sz="28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5432400" y="1800360"/>
            <a:ext cx="413712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Arial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e6e6e6"/>
                </a:solidFill>
                <a:latin typeface="Arial"/>
                <a:ea typeface="Times New Roman"/>
              </a:rPr>
              <a:t>Sergey Esen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Arial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e6e6e6"/>
                </a:solidFill>
                <a:latin typeface="Arial"/>
                <a:ea typeface="Times New Roman"/>
              </a:rPr>
              <a:t>Alexander Pushk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Arial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e6e6e6"/>
                </a:solidFill>
                <a:latin typeface="Arial"/>
                <a:ea typeface="Times New Roman"/>
              </a:rPr>
              <a:t>Elisabeth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Arial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e6e6e6"/>
                </a:solidFill>
                <a:latin typeface="Arial"/>
                <a:ea typeface="Times New Roman"/>
              </a:rPr>
              <a:t>Marina Tsvetae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Arial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e6e6e6"/>
                </a:solidFill>
                <a:latin typeface="Arial"/>
                <a:ea typeface="Times New Roman"/>
              </a:rPr>
              <a:t>Vladimir Visots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0" y="4140360"/>
            <a:ext cx="10080720" cy="34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e6e6e6"/>
                </a:solidFill>
                <a:latin typeface="Arial"/>
                <a:ea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e6e6e6"/>
                </a:solidFill>
                <a:latin typeface="Arial"/>
                <a:ea typeface="Times New Roman"/>
              </a:rPr>
              <a:t>1)The Queen’s birthday is not in Octob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e6e6e6"/>
                </a:solidFill>
                <a:latin typeface="Arial"/>
                <a:ea typeface="Times New Roman"/>
              </a:rPr>
              <a:t>  </a:t>
            </a:r>
            <a:r>
              <a:rPr b="0" lang="en-US" sz="3600" spc="-1" strike="noStrike">
                <a:solidFill>
                  <a:srgbClr val="e6e6e6"/>
                </a:solidFill>
                <a:latin typeface="Arial"/>
                <a:ea typeface="Times New Roman"/>
              </a:rPr>
              <a:t>2)The singer’s birthday is in Janua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e6e6e6"/>
                </a:solidFill>
                <a:latin typeface="Arial"/>
                <a:ea typeface="Times New Roman"/>
              </a:rPr>
              <a:t>  </a:t>
            </a:r>
            <a:r>
              <a:rPr b="0" lang="en-US" sz="3600" spc="-1" strike="noStrike">
                <a:solidFill>
                  <a:srgbClr val="e6e6e6"/>
                </a:solidFill>
                <a:latin typeface="Arial"/>
                <a:ea typeface="Times New Roman"/>
              </a:rPr>
              <a:t>3)A woman’s birthday is not on the thir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e6e6e6"/>
                </a:solidFill>
                <a:latin typeface="Arial"/>
                <a:ea typeface="Times New Roman"/>
              </a:rPr>
              <a:t>  </a:t>
            </a:r>
            <a:r>
              <a:rPr b="0" lang="en-US" sz="3600" spc="-1" strike="noStrike">
                <a:solidFill>
                  <a:srgbClr val="e6e6e6"/>
                </a:solidFill>
                <a:latin typeface="Arial"/>
                <a:ea typeface="Times New Roman"/>
              </a:rPr>
              <a:t>4)Pupils must know Pushkin’s birthd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600" spc="-1" strike="noStrike">
                <a:solidFill>
                  <a:srgbClr val="e6e6e6"/>
                </a:solidFill>
                <a:latin typeface="Arial"/>
                <a:ea typeface="Times New Roman"/>
              </a:rPr>
              <a:t>Do you know the USA? (</a:t>
            </a:r>
            <a:r>
              <a:rPr b="1" i="1" lang="de-DE" sz="3600" spc="-1" strike="noStrike">
                <a:solidFill>
                  <a:srgbClr val="e6e6e6"/>
                </a:solidFill>
                <a:latin typeface="Arial"/>
                <a:ea typeface="Times New Roman"/>
              </a:rPr>
              <a:t>10 баллов)</a:t>
            </a:r>
            <a:endParaRPr b="1" i="1" lang="en-US" sz="3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72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  <a:ea typeface="Times New Roman"/>
              </a:rPr>
              <a:t>       </a:t>
            </a: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1.The USA is divided into … states.</a:t>
            </a: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           </a:t>
            </a: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           </a:t>
            </a: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a)     50.  </a:t>
            </a: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           </a:t>
            </a: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b)     51.</a:t>
            </a: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           </a:t>
            </a: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c)     49.</a:t>
            </a: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ru-RU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72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  <a:ea typeface="Times New Roman"/>
              </a:rPr>
              <a:t>     </a:t>
            </a: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2.Who is the head of the country?</a:t>
            </a: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                      </a:t>
            </a: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                  </a:t>
            </a: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a)The King or the Queen.</a:t>
            </a: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                  </a:t>
            </a: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b)The President.</a:t>
            </a: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                  </a:t>
            </a: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c)The Prime Minister. </a:t>
            </a: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ru-RU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72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3.The capital of the USA is …</a:t>
            </a: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          </a:t>
            </a: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a)New York.</a:t>
            </a: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          </a:t>
            </a: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b)Los Angeles.</a:t>
            </a: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          </a:t>
            </a: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c)Washington.</a:t>
            </a: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60000" y="117360"/>
            <a:ext cx="9720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e6e6e6"/>
                </a:solidFill>
                <a:latin typeface="Arial"/>
                <a:ea typeface="Times New Roman"/>
              </a:rPr>
              <a:t>2. Make up one word out of two  (10 баллов).</a:t>
            </a:r>
            <a:endParaRPr b="1" i="1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89000" y="1618920"/>
            <a:ext cx="8477280" cy="5367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e6e6e6"/>
                </a:solidFill>
                <a:latin typeface="Arial"/>
                <a:ea typeface="Times New Roman"/>
              </a:rPr>
              <a:t>     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  <a:ea typeface="Times New Roman"/>
              </a:rPr>
              <a:t>      </a:t>
            </a:r>
            <a:r>
              <a:rPr b="0" lang="en-US" sz="3200" spc="-1" strike="noStrike">
                <a:solidFill>
                  <a:srgbClr val="e6e6e6"/>
                </a:solidFill>
                <a:latin typeface="Arial"/>
                <a:ea typeface="Times New Roman"/>
              </a:rPr>
              <a:t>1.foot                                    a) fast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  <a:ea typeface="Times New Roman"/>
              </a:rPr>
              <a:t>      </a:t>
            </a:r>
            <a:r>
              <a:rPr b="0" lang="en-US" sz="3200" spc="-1" strike="noStrike">
                <a:solidFill>
                  <a:srgbClr val="e6e6e6"/>
                </a:solidFill>
                <a:latin typeface="Arial"/>
                <a:ea typeface="Times New Roman"/>
              </a:rPr>
              <a:t>2.hop                                    b) heart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343080" indent="0" algn="just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  <a:ea typeface="Times New Roman"/>
              </a:rPr>
              <a:t>      </a:t>
            </a:r>
            <a:r>
              <a:rPr b="0" lang="en-US" sz="3200" spc="-1" strike="noStrike">
                <a:solidFill>
                  <a:srgbClr val="e6e6e6"/>
                </a:solidFill>
                <a:latin typeface="Arial"/>
                <a:ea typeface="Times New Roman"/>
              </a:rPr>
              <a:t>3.break                                 c) man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343080" indent="0" algn="just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  <a:ea typeface="Times New Roman"/>
              </a:rPr>
              <a:t>      </a:t>
            </a:r>
            <a:r>
              <a:rPr b="0" lang="en-US" sz="3200" spc="-1" strike="noStrike">
                <a:solidFill>
                  <a:srgbClr val="e6e6e6"/>
                </a:solidFill>
                <a:latin typeface="Arial"/>
                <a:ea typeface="Times New Roman"/>
              </a:rPr>
              <a:t>4.home                                 d)market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343080" indent="0" algn="just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  <a:ea typeface="Times New Roman"/>
              </a:rPr>
              <a:t>      </a:t>
            </a:r>
            <a:r>
              <a:rPr b="0" lang="en-US" sz="3200" spc="-1" strike="noStrike">
                <a:solidFill>
                  <a:srgbClr val="e6e6e6"/>
                </a:solidFill>
                <a:latin typeface="Arial"/>
                <a:ea typeface="Times New Roman"/>
              </a:rPr>
              <a:t>5.super                                 e) scotch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343080" indent="0" algn="just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  <a:ea typeface="Times New Roman"/>
              </a:rPr>
              <a:t>      </a:t>
            </a:r>
            <a:r>
              <a:rPr b="0" lang="en-US" sz="3200" spc="-1" strike="noStrike">
                <a:solidFill>
                  <a:srgbClr val="e6e6e6"/>
                </a:solidFill>
                <a:latin typeface="Arial"/>
                <a:ea typeface="Times New Roman"/>
              </a:rPr>
              <a:t>6.leap                                    f) frog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343080" indent="0" algn="just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  <a:ea typeface="Times New Roman"/>
              </a:rPr>
              <a:t>      </a:t>
            </a:r>
            <a:r>
              <a:rPr b="0" lang="en-US" sz="3200" spc="-1" strike="noStrike">
                <a:solidFill>
                  <a:srgbClr val="e6e6e6"/>
                </a:solidFill>
                <a:latin typeface="Arial"/>
                <a:ea typeface="Times New Roman"/>
              </a:rPr>
              <a:t>7.after                                   g) bal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343080" indent="0" algn="just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  <a:ea typeface="Times New Roman"/>
              </a:rPr>
              <a:t>      </a:t>
            </a:r>
            <a:r>
              <a:rPr b="0" lang="en-US" sz="3200" spc="-1" strike="noStrike">
                <a:solidFill>
                  <a:srgbClr val="e6e6e6"/>
                </a:solidFill>
                <a:latin typeface="Arial"/>
                <a:ea typeface="Times New Roman"/>
              </a:rPr>
              <a:t>8.grand                                 h) work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343080" indent="0" algn="just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  <a:ea typeface="Times New Roman"/>
              </a:rPr>
              <a:t>      </a:t>
            </a:r>
            <a:r>
              <a:rPr b="0" lang="en-US" sz="3200" spc="-1" strike="noStrike">
                <a:solidFill>
                  <a:srgbClr val="e6e6e6"/>
                </a:solidFill>
                <a:latin typeface="Arial"/>
                <a:ea typeface="Times New Roman"/>
              </a:rPr>
              <a:t>9.sports                                 i) noon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343080" indent="0" algn="just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e6e6e6"/>
                </a:solidFill>
                <a:latin typeface="Arial"/>
                <a:ea typeface="Times New Roman"/>
              </a:rPr>
              <a:t>10.sweat                                j) parents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ru-RU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89000" y="1979640"/>
            <a:ext cx="847728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4.     … is an American artist and film producer, who was famous for his cartoons.</a:t>
            </a: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  <a:ea typeface="Times New Roman"/>
              </a:rPr>
              <a:t>   </a:t>
            </a: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       </a:t>
            </a: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a)Walt Disney</a:t>
            </a: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          </a:t>
            </a: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b)Charlie Chaplin.</a:t>
            </a: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          </a:t>
            </a: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c)Eddie Marphy.</a:t>
            </a: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ru-RU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72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5.    A centre of the American film industry is …</a:t>
            </a: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    </a:t>
            </a: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a)Disneyland.</a:t>
            </a: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    </a:t>
            </a: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b)Hollywood.</a:t>
            </a: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    </a:t>
            </a: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c)Disney World.</a:t>
            </a: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ru-RU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72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6.   The official home of the president of the USA is …</a:t>
            </a: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     </a:t>
            </a: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       </a:t>
            </a: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a) the Capitol.</a:t>
            </a: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       </a:t>
            </a: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b) Congress.</a:t>
            </a: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       </a:t>
            </a: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c)the White House.</a:t>
            </a: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ru-RU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89000" y="1979640"/>
            <a:ext cx="847728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7.  The group of English settlers who came to America on the ship “The Mayflower” in 1620.</a:t>
            </a: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     </a:t>
            </a: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a)Negroes.</a:t>
            </a: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     </a:t>
            </a: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b)Native Americans.</a:t>
            </a: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     </a:t>
            </a: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c)Pilgrims.</a:t>
            </a: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ru-RU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72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8.    This American state was a Russian territory once. This is …</a:t>
            </a: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   </a:t>
            </a: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      </a:t>
            </a: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a)Alaska.</a:t>
            </a: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      </a:t>
            </a: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b)Nevada.</a:t>
            </a: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      </a:t>
            </a: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c)Pennsylvania</a:t>
            </a: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ru-RU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72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9.     The Statue of Liberty was given to the USA by …</a:t>
            </a: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      </a:t>
            </a: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a)France.</a:t>
            </a: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      </a:t>
            </a: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b)Great Britain.</a:t>
            </a: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      </a:t>
            </a: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c)Germany.</a:t>
            </a: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ru-RU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20360" y="2223720"/>
            <a:ext cx="884556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10. The longest river in the USA is …</a:t>
            </a: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     </a:t>
            </a: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a)the Severn.</a:t>
            </a: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     </a:t>
            </a: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b)the Mississippi.</a:t>
            </a: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     </a:t>
            </a: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c)the  Amazon</a:t>
            </a:r>
            <a:r>
              <a:rPr b="0" lang="en-US" sz="2400" spc="-1" strike="noStrike">
                <a:solidFill>
                  <a:srgbClr val="e6e6e6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41240" y="14400"/>
            <a:ext cx="8607600" cy="80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Find the American variant for the English words (10 баллов)</a:t>
            </a:r>
            <a:endParaRPr b="1" i="1" lang="en-US" sz="2800" spc="-1" strike="noStrike">
              <a:solidFill>
                <a:srgbClr val="e6e6e6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925560" y="930240"/>
          <a:ext cx="8462880" cy="6958080"/>
        </p:xfrm>
        <a:graphic>
          <a:graphicData uri="http://schemas.openxmlformats.org/drawingml/2006/table">
            <a:tbl>
              <a:tblPr/>
              <a:tblGrid>
                <a:gridCol w="4232160"/>
                <a:gridCol w="4230720"/>
              </a:tblGrid>
              <a:tr h="695880">
                <a:tc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for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 subwa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695880">
                <a:tc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lif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 sto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695880">
                <a:tc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biscui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) grad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95880">
                <a:tc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undergroun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) socce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695880">
                <a:tc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cinem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) movie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95880">
                <a:tc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r>
                        <a:rPr b="0" lang="de-DE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p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) elevato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695880">
                <a:tc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main roa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) cor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95880">
                <a:tc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footbal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) last nam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695880">
                <a:tc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 surnam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) highwa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95880">
                <a:tc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 maiz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) cooki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17360"/>
            <a:ext cx="1008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e6e6e6"/>
                </a:solidFill>
                <a:latin typeface="Arial"/>
                <a:ea typeface="Times New Roman"/>
              </a:rPr>
              <a:t>3.Do you know Great Britain?( </a:t>
            </a:r>
            <a:r>
              <a:rPr b="1" i="1" lang="de-DE" sz="3200" spc="-1" strike="noStrike">
                <a:solidFill>
                  <a:srgbClr val="e6e6e6"/>
                </a:solidFill>
                <a:latin typeface="Arial"/>
                <a:ea typeface="Times New Roman"/>
              </a:rPr>
              <a:t>10 баллов)</a:t>
            </a:r>
            <a:endParaRPr b="1" i="1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72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  <a:ea typeface="Times New Roman"/>
              </a:rPr>
              <a:t>       </a:t>
            </a:r>
            <a:r>
              <a:rPr b="0" lang="en-US" sz="4400" spc="-1" strike="noStrike">
                <a:solidFill>
                  <a:srgbClr val="e6e6e6"/>
                </a:solidFill>
                <a:latin typeface="Arial"/>
                <a:ea typeface="Times New Roman"/>
              </a:rPr>
              <a:t>  </a:t>
            </a:r>
            <a:r>
              <a:rPr b="0" lang="en-US" sz="4400" spc="-1" strike="noStrike">
                <a:solidFill>
                  <a:srgbClr val="e6e6e6"/>
                </a:solidFill>
                <a:latin typeface="Arial"/>
                <a:ea typeface="Times New Roman"/>
              </a:rPr>
              <a:t>1.London stands on the …</a:t>
            </a:r>
            <a:endParaRPr b="0" lang="en-US" sz="44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e6e6e6"/>
                </a:solidFill>
                <a:latin typeface="Arial"/>
                <a:ea typeface="Times New Roman"/>
              </a:rPr>
              <a:t>          </a:t>
            </a:r>
            <a:endParaRPr b="0" lang="en-US" sz="44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e6e6e6"/>
                </a:solidFill>
                <a:latin typeface="Arial"/>
                <a:ea typeface="Times New Roman"/>
              </a:rPr>
              <a:t>          </a:t>
            </a:r>
            <a:r>
              <a:rPr b="0" lang="en-US" sz="4400" spc="-1" strike="noStrike">
                <a:solidFill>
                  <a:srgbClr val="e6e6e6"/>
                </a:solidFill>
                <a:latin typeface="Arial"/>
                <a:ea typeface="Times New Roman"/>
              </a:rPr>
              <a:t>а)Thames.</a:t>
            </a:r>
            <a:endParaRPr b="0" lang="en-US" sz="44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e6e6e6"/>
                </a:solidFill>
                <a:latin typeface="Arial"/>
                <a:ea typeface="Times New Roman"/>
              </a:rPr>
              <a:t>          </a:t>
            </a:r>
            <a:r>
              <a:rPr b="0" lang="en-US" sz="4400" spc="-1" strike="noStrike">
                <a:solidFill>
                  <a:srgbClr val="e6e6e6"/>
                </a:solidFill>
                <a:latin typeface="Arial"/>
                <a:ea typeface="Times New Roman"/>
              </a:rPr>
              <a:t>b) Severn.</a:t>
            </a:r>
            <a:endParaRPr b="0" lang="en-US" sz="44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e6e6e6"/>
                </a:solidFill>
                <a:latin typeface="Arial"/>
                <a:ea typeface="Times New Roman"/>
              </a:rPr>
              <a:t>          </a:t>
            </a:r>
            <a:r>
              <a:rPr b="0" lang="en-US" sz="4400" spc="-1" strike="noStrike">
                <a:solidFill>
                  <a:srgbClr val="e6e6e6"/>
                </a:solidFill>
                <a:latin typeface="Arial"/>
                <a:ea typeface="Times New Roman"/>
              </a:rPr>
              <a:t>c)Avon.</a:t>
            </a:r>
            <a:endParaRPr b="0" lang="en-US" sz="44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ru-RU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14440" y="1618920"/>
            <a:ext cx="9385200" cy="53672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2.The Queen’s official London home is …</a:t>
            </a: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     </a:t>
            </a: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a)the Tower of London.</a:t>
            </a: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     </a:t>
            </a: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b)Windsor Castle.</a:t>
            </a: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     </a:t>
            </a: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c)Buckingham Palace.</a:t>
            </a: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ru-RU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60000" y="1618920"/>
            <a:ext cx="9720360" cy="53672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3.What do the English often put in the tea?</a:t>
            </a: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     </a:t>
            </a: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a)Jam.</a:t>
            </a: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     </a:t>
            </a: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b)Milk.</a:t>
            </a: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     </a:t>
            </a: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c)Fruit.</a:t>
            </a: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ru-RU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60000" y="1979640"/>
            <a:ext cx="972036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  <a:ea typeface="Times New Roman"/>
              </a:rPr>
              <a:t>       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    </a:t>
            </a: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4.Taxis in London are usually…</a:t>
            </a: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            </a:t>
            </a: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             </a:t>
            </a: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a)green.</a:t>
            </a: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             </a:t>
            </a: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b)black.</a:t>
            </a: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             </a:t>
            </a: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c)yellow.</a:t>
            </a: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ru-RU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60000" y="2223720"/>
            <a:ext cx="972036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     </a:t>
            </a: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5.Who wrote stories about the famous detective Sherlock Holmes?</a:t>
            </a: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      </a:t>
            </a: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       </a:t>
            </a: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a)Sir Arthur Conan Doyle.</a:t>
            </a: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       </a:t>
            </a: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b)Agatha Christie.</a:t>
            </a: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       </a:t>
            </a: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c)Daniel Defoe.</a:t>
            </a: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ru-RU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60000" y="2223720"/>
            <a:ext cx="972036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    </a:t>
            </a: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6.Where do men wear kilt?</a:t>
            </a: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       </a:t>
            </a: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a)In England.</a:t>
            </a: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       </a:t>
            </a: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b)In Scotland.</a:t>
            </a: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       </a:t>
            </a: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c)In Wales.</a:t>
            </a: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ru-RU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60000" y="2223720"/>
            <a:ext cx="972036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  </a:t>
            </a: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7.What are the colours of the British flag?</a:t>
            </a: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      </a:t>
            </a: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        </a:t>
            </a: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a)Blue, red, white.</a:t>
            </a: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        </a:t>
            </a: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b)Red, green, black.</a:t>
            </a: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        </a:t>
            </a: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c)White, blue, brown.</a:t>
            </a: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8:32:32Z</dcterms:created>
  <dc:creator>User</dc:creator>
  <dc:description/>
  <dc:language>en-US</dc:language>
  <cp:lastModifiedBy>User</cp:lastModifiedBy>
  <dcterms:modified xsi:type="dcterms:W3CDTF">2019-10-13T10:45:13Z</dcterms:modified>
  <cp:revision>7</cp:revision>
  <dc:subject/>
  <dc:title>Презентация PowerPoint</dc:title>
</cp:coreProperties>
</file>