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AED5-F026-40D5-A890-F9E3D67DD2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аб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и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игре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веже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тенок без предм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им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ыпле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п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р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571E-034F-4AD2-9520-F6D9E623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047-2047-4847-B225-E80FDBAE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EBB-D7D6-4EEC-8CAF-0F32E109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D83-8A10-4D34-9282-C8EEB116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443-DA32-49B0-BE37-488C6E7D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0AB-BC66-4A7B-8024-72B20F92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A4B-6ED9-4A1C-B6B0-7B02C381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D65-53B2-4790-B10A-4E53154C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D26-35B6-48AA-A1B4-18E494EF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52D-9ADC-444F-87B2-5C38D879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D0F-439F-467D-B963-239CDBA2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B160-942D-4D29-BEAE-DEFC3115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DE98-095F-4237-ADF6-B67D1359E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15:34:44Z</dcterms:created>
  <dc:creator>dns</dc:creator>
  <dc:description/>
  <dc:language>en-US</dc:language>
  <cp:lastModifiedBy>dns</cp:lastModifiedBy>
  <dcterms:modified xsi:type="dcterms:W3CDTF">2019-01-24T05:39:22Z</dcterms:modified>
  <cp:revision>3</cp:revision>
  <dc:subject/>
  <dc:title>Слайд 1</dc:title>
</cp:coreProperties>
</file>