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882-E82C-4A5B-98FC-7E55DDDD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62E-39E4-4BBB-A4F7-7EAF457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8AC-62ED-42ED-B3F9-01F754A0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A8C-0D78-4BC4-AA98-25071A66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DCC0-A194-4021-8904-6E34DE51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DD1E-64F4-4F88-BFF2-BBE88EC1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446D-83AC-486E-833C-9F2188BF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F7BD-F6EC-43B2-B954-F3C2FF0C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F73F-8F79-41F6-82F4-5E5CBCEC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9B3A-709B-4F3F-873F-B43B47A3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7FAE-734A-49E7-9DB6-6237F60E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FA9-925D-45ED-8BCE-24E8D5EE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774A-F08F-495D-9F0F-C89BBE2F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8D22-37E8-44B7-A17A-034D54E9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617E-81B1-4AC8-AA43-E2812714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5981-7117-4951-B684-0991D629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D0B0-F564-4CEE-A58E-112131D1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5E3-26FF-472A-8ABB-FCDB9190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804-02ED-4A2B-8988-2E1EAD4D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E6F-A88A-4429-A6B1-D049FAE9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8CC-466C-4587-A4BD-B4F44227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6E0-9E2B-4C5E-A26D-8D23D3D3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7CF-067B-4F7E-B445-DB25F4BA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E3C-CB89-4D8C-8E2B-E4F61355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44CB-ED0F-492E-BB34-3A1D1DA141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23C8-1E06-4935-8C91-89333D297E9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правила детям"/>
          <p:cNvPicPr/>
          <p:nvPr/>
        </p:nvPicPr>
        <p:blipFill>
          <a:blip r:embed="rId1"/>
          <a:stretch/>
        </p:blipFill>
        <p:spPr>
          <a:xfrm>
            <a:off x="324000" y="260280"/>
            <a:ext cx="4392360" cy="602640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5219640" y="4508640"/>
            <a:ext cx="34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оспитатель Зуева Г.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457200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ДОУ </a:t>
            </a:r>
            <a:br>
              <a:rPr sz="1800"/>
            </a:b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«Детский сад «Дюймовочка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4356000" y="234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Методический материал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ля работы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с дошкольниками по ПД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правила8"/>
          <p:cNvPicPr/>
          <p:nvPr/>
        </p:nvPicPr>
        <p:blipFill>
          <a:blip r:embed="rId1"/>
          <a:srcRect l="5504" t="19468" r="0" b="0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0" y="2205000"/>
            <a:ext cx="363528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ам, дорогие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ети, можн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адиться на велосипед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о ездить по шоссе возможно!-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сле четырнадцати лет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правиладетям 10"/>
          <p:cNvPicPr/>
          <p:nvPr/>
        </p:nvPicPr>
        <p:blipFill>
          <a:blip r:embed="rId1"/>
          <a:srcRect l="0" t="20262" r="7685" b="0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2133720"/>
            <a:ext cx="406728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ам нельзя катать сестренку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Там, где ездят "МАЗ" и " КРАЗ",-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стовой такую "гонку"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становит в тот же час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правила11"/>
          <p:cNvPicPr/>
          <p:nvPr/>
        </p:nvPicPr>
        <p:blipFill>
          <a:blip r:embed="rId1"/>
          <a:srcRect l="4279" t="20262" r="0" b="0"/>
          <a:stretch/>
        </p:blipFill>
        <p:spPr>
          <a:xfrm>
            <a:off x="2268360" y="903240"/>
            <a:ext cx="4832640" cy="59547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684360" y="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Ты сел за руль, и скидок нет на беспечальный возраст детства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едь ты с четырнадцати лет – водитель транспортного средства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правила детям12"/>
          <p:cNvPicPr/>
          <p:nvPr/>
        </p:nvPicPr>
        <p:blipFill>
          <a:blip r:embed="rId1"/>
          <a:srcRect l="0" t="18454" r="6208" b="0"/>
          <a:stretch/>
        </p:blipFill>
        <p:spPr>
          <a:xfrm>
            <a:off x="0" y="0"/>
            <a:ext cx="556092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5796000" y="1484280"/>
            <a:ext cx="36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 брат с сестрой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 мама с сыно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дти обочиной должны –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австречу мчащимся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ашинам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 только с левой сторон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правила детям 13"/>
          <p:cNvPicPr/>
          <p:nvPr/>
        </p:nvPicPr>
        <p:blipFill>
          <a:blip r:embed="rId1"/>
          <a:srcRect l="6529" t="19455" r="0" b="0"/>
          <a:stretch/>
        </p:blipFill>
        <p:spPr>
          <a:xfrm>
            <a:off x="3387600" y="0"/>
            <a:ext cx="57564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0" y="1125360"/>
            <a:ext cx="33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аш закон, друзья, таков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аши, Маши, Над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 двенадцати годков –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осседают сзади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правила детям 14"/>
          <p:cNvPicPr/>
          <p:nvPr/>
        </p:nvPicPr>
        <p:blipFill>
          <a:blip r:embed="rId1"/>
          <a:srcRect l="0" t="20729" r="8210" b="0"/>
          <a:stretch/>
        </p:blipFill>
        <p:spPr>
          <a:xfrm>
            <a:off x="-396720" y="0"/>
            <a:ext cx="56196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5508720" y="1557360"/>
            <a:ext cx="3635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ступна всем игра  любая –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 снежки, в лото и домино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о вот на сцепке у трамв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ататься  вам запрещено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правила детям15"/>
          <p:cNvPicPr/>
          <p:nvPr/>
        </p:nvPicPr>
        <p:blipFill>
          <a:blip r:embed="rId1"/>
          <a:srcRect l="8187" t="21325" r="0" b="0"/>
          <a:stretch/>
        </p:blipFill>
        <p:spPr>
          <a:xfrm>
            <a:off x="3616200" y="0"/>
            <a:ext cx="55278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0" y="981000"/>
            <a:ext cx="40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Если с горки  на дорог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юбишь вихрем вылетать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То, дружок, не только ногу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жешь жизнь себе сломать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правила детям17"/>
          <p:cNvPicPr/>
          <p:nvPr/>
        </p:nvPicPr>
        <p:blipFill>
          <a:blip r:embed="rId1"/>
          <a:srcRect l="5518" t="21602" r="0" b="0"/>
          <a:stretch/>
        </p:blipFill>
        <p:spPr>
          <a:xfrm>
            <a:off x="2340000" y="1108080"/>
            <a:ext cx="4949640" cy="57499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971640" y="0"/>
            <a:ext cx="7921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етишкам на проезжей части  и рядом с ней играть нельзя,-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Большое может быть несчастье, об этом помните, друзья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правила детям16"/>
          <p:cNvPicPr/>
          <p:nvPr/>
        </p:nvPicPr>
        <p:blipFill>
          <a:blip r:embed="rId1"/>
          <a:srcRect l="0" t="20846" r="7622" b="0"/>
          <a:stretch/>
        </p:blipFill>
        <p:spPr>
          <a:xfrm>
            <a:off x="0" y="0"/>
            <a:ext cx="531324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5364000" y="206064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отим, наш юный пешеход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нести в проблему ясность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рутой дорожный поворот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Таит в себе опасность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правила детям 7"/>
          <p:cNvPicPr/>
          <p:nvPr/>
        </p:nvPicPr>
        <p:blipFill>
          <a:blip r:embed="rId1"/>
          <a:srcRect l="7202" t="19562" r="-282" b="0"/>
          <a:stretch/>
        </p:blipFill>
        <p:spPr>
          <a:xfrm>
            <a:off x="0" y="0"/>
            <a:ext cx="57625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5796000" y="1052640"/>
            <a:ext cx="3348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Говорим не шутки ради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авила не забывай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ходи троллейбус сзади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у а спереди трамвай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Какую ошибку допусти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автор стихотворения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правила детям1"/>
          <p:cNvPicPr/>
          <p:nvPr/>
        </p:nvPicPr>
        <p:blipFill>
          <a:blip r:embed="rId1"/>
          <a:stretch/>
        </p:blipFill>
        <p:spPr>
          <a:xfrm>
            <a:off x="1835280" y="0"/>
            <a:ext cx="506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правила детям2"/>
          <p:cNvPicPr/>
          <p:nvPr/>
        </p:nvPicPr>
        <p:blipFill>
          <a:blip r:embed="rId1"/>
          <a:srcRect l="5206" t="17454" r="692" b="0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759280" y="1341360"/>
            <a:ext cx="3384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ет зеленый светофора –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уть свободен, пешеход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расный –стой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А желтый - скоро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жешь двигаться вперед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правила детям4"/>
          <p:cNvPicPr/>
          <p:nvPr/>
        </p:nvPicPr>
        <p:blipFill>
          <a:blip r:embed="rId1"/>
          <a:srcRect l="8880" t="17567" r="0" b="0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0" y="2205000"/>
            <a:ext cx="3635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Терпеливо стой под арко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оть минуту, хоть полдня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Если "скорая" с "пожаркой"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чат, сиреною звеня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правила детям5"/>
          <p:cNvPicPr/>
          <p:nvPr/>
        </p:nvPicPr>
        <p:blipFill>
          <a:blip r:embed="rId1"/>
          <a:srcRect l="0" t="20446" r="9039" b="0"/>
          <a:stretch/>
        </p:blipFill>
        <p:spPr>
          <a:xfrm>
            <a:off x="3646440" y="0"/>
            <a:ext cx="549756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0" y="0"/>
            <a:ext cx="3851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опусти машин пото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е вдаваясь в частности,-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ля того есть "Островок"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ашей безопасности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правила детям6"/>
          <p:cNvPicPr/>
          <p:nvPr/>
        </p:nvPicPr>
        <p:blipFill>
          <a:blip r:embed="rId1"/>
          <a:srcRect l="5522" t="20470" r="0" b="0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1116000" y="105264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0" y="1114560"/>
            <a:ext cx="392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онечно, это заблуждение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 слов других здесь не найти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Что можно через ограждень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Без риска площадь перейти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правила детям3"/>
          <p:cNvPicPr/>
          <p:nvPr/>
        </p:nvPicPr>
        <p:blipFill>
          <a:blip r:embed="rId1"/>
          <a:srcRect l="0" t="18579" r="8576" b="0"/>
          <a:stretch/>
        </p:blipFill>
        <p:spPr>
          <a:xfrm>
            <a:off x="0" y="0"/>
            <a:ext cx="535464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5292720" y="1341360"/>
            <a:ext cx="3851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За  подобный "цирк" расплат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арушителя найдет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е рискуйте так, ребята,-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Есть подземный переход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правила7"/>
          <p:cNvPicPr/>
          <p:nvPr/>
        </p:nvPicPr>
        <p:blipFill>
          <a:blip r:embed="rId1"/>
          <a:srcRect l="0" t="20133" r="8935" b="0"/>
          <a:stretch/>
        </p:blipFill>
        <p:spPr>
          <a:xfrm>
            <a:off x="0" y="0"/>
            <a:ext cx="557676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508720" y="404640"/>
            <a:ext cx="421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Бывают разные причи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пешить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о помните, друзья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Бежать вперед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з-за машины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е осмотревшись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ам нельзя!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правила детям8"/>
          <p:cNvPicPr/>
          <p:nvPr/>
        </p:nvPicPr>
        <p:blipFill>
          <a:blip r:embed="rId1"/>
          <a:srcRect l="0" t="18481" r="8945" b="0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5219640" y="928800"/>
            <a:ext cx="39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788000" y="404640"/>
            <a:ext cx="417672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Не торопись уй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з детства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Не торопись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орвать с ним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нить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Запомни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Транспортное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редство                                                       В момен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нельзя     остановить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22:01:41Z</dcterms:created>
  <dc:creator>WW</dc:creator>
  <dc:description/>
  <dc:language>en-US</dc:language>
  <cp:lastModifiedBy>User</cp:lastModifiedBy>
  <dcterms:modified xsi:type="dcterms:W3CDTF">2018-11-06T12:37:54Z</dcterms:modified>
  <cp:revision>8</cp:revision>
  <dc:subject/>
  <dc:title>Слайд 1</dc:title>
</cp:coreProperties>
</file>