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15.png" ContentType="image/pn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209E-CB6B-439D-8C6A-D32A6F74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60D-4692-47A8-9B87-BBEC8429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589D-9EF7-4E32-A8BC-1B70016F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2CB-8CC0-4AAD-A6A5-CECBDE7F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AA4-A9BA-45E4-872B-8163A33D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3B8C-24D4-45F0-9B64-ADD464E2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D2AB-0111-4BF1-AFC6-194C68AD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107B-F9DF-4894-BF4D-541D3464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A40-7F7D-4DD2-B60B-B55429A4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16EF-A01B-4133-9434-058B7CB3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F36B-F96A-4321-BA28-A79C2CB2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7275-A0EE-438B-BE39-F1B2E349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3D05-13C7-4E71-9CFC-91F457D3E9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" Target="slide8.xm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03280" y="404640"/>
            <a:ext cx="6408720" cy="30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ff66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лора и фауна</a:t>
            </a:r>
            <a:endParaRPr b="0" lang="en-US" sz="1800" spc="1" strike="noStrike">
              <a:ln w="38160">
                <a:solidFill>
                  <a:srgbClr val="99ff66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ff66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узея - заповедника</a:t>
            </a:r>
            <a:endParaRPr b="0" lang="en-US" sz="1800" spc="1" strike="noStrike">
              <a:ln w="38160">
                <a:solidFill>
                  <a:srgbClr val="99ff66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ff66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Тарханы"</a:t>
            </a:r>
            <a:endParaRPr b="0" lang="en-US" sz="1800" spc="1" strike="noStrike">
              <a:ln w="38160">
                <a:solidFill>
                  <a:srgbClr val="99ff66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042920" y="4005360"/>
            <a:ext cx="770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ыполнила ученица 9 класса МОУ СОШ с. Лермонт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ролова М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ласка"/>
          <p:cNvPicPr/>
          <p:nvPr/>
        </p:nvPicPr>
        <p:blipFill>
          <a:blip r:embed="rId2"/>
          <a:stretch/>
        </p:blipFill>
        <p:spPr>
          <a:xfrm>
            <a:off x="250920" y="1341360"/>
            <a:ext cx="4608360" cy="5327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4788000" y="404640"/>
            <a:ext cx="4105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Хищное млекопитающее семейства куньих. У 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тонкое, вытянутое, гибкое туловище, короткий хвост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Ла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битает в районах, где многочисленны мышевидные грызуны – на полях, кустарниках, опушках и окраинах сел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84360" y="333360"/>
            <a:ext cx="39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ЛАС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95280" y="188640"/>
            <a:ext cx="514836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Кабан необычайно изменчив по размерам и пропорциям. Голова большая, уши длинные и широкие, глаза маленькие, рыло с пятачком. Тело покрыто упругой щетиной, окраска от светло-бурой до почти черной. Поросята полосат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еста его обитания разнообраз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сновной естественный враг кабана – вол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Кабан — родоначальник свиньи домашней. Он является объектом охотничьего промы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84360" y="260280"/>
            <a:ext cx="31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КАБ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ani6"/>
          <p:cNvPicPr/>
          <p:nvPr/>
        </p:nvPicPr>
        <p:blipFill>
          <a:blip r:embed="rId2"/>
          <a:stretch/>
        </p:blipFill>
        <p:spPr>
          <a:xfrm>
            <a:off x="0" y="1773360"/>
            <a:ext cx="4211640" cy="4608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68360" y="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ЧАЙ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чайки 2"/>
          <p:cNvPicPr/>
          <p:nvPr/>
        </p:nvPicPr>
        <p:blipFill>
          <a:blip r:embed="rId2"/>
          <a:stretch/>
        </p:blipFill>
        <p:spPr>
          <a:xfrm>
            <a:off x="4643280" y="115920"/>
            <a:ext cx="4314960" cy="3600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0"/>
          <p:cNvSpPr/>
          <p:nvPr/>
        </p:nvSpPr>
        <p:spPr>
          <a:xfrm>
            <a:off x="539640" y="3789360"/>
            <a:ext cx="83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Чайка часто встречается у озер, рек, болот и прудов. В эти места чайки прилетают ранней весной. К гнездованию приступают тогда, когда водоемы освободятся от ледяного покрова. Гнезда устраивают из сухих травинок, листьев; в них самки откладывают от 4 до 9 яиц оливково-зеленого цвета с серыми или бурыми пятнами. В насиживании яиц принимают участие оба род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492000" y="188640"/>
            <a:ext cx="565164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11280" y="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СОВА УШАСТ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сова3"/>
          <p:cNvPicPr/>
          <p:nvPr/>
        </p:nvPicPr>
        <p:blipFill>
          <a:blip r:embed="rId2"/>
          <a:stretch/>
        </p:blipFill>
        <p:spPr>
          <a:xfrm>
            <a:off x="5508720" y="0"/>
            <a:ext cx="3635280" cy="3745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3"/>
          <p:cNvSpPr/>
          <p:nvPr/>
        </p:nvSpPr>
        <p:spPr>
          <a:xfrm>
            <a:off x="3276720" y="3789360"/>
            <a:ext cx="608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быкновенная ушастая сова держится исключительно в лесах, предпочитая хвойный лес чернолесью, Гнездится преимущественно в старых гнездах врановых птиц, таких как ворона и сорока. Гнездо как правило располагается достаточно высоко, Кладка (в конце марта и апреля) обыкновенно из 4—5 шарообразных белых яиц. Средних размеров сова, достигающая 31—37 см длиной и 86—98 см в размахе крылье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березки"/>
          <p:cNvPicPr/>
          <p:nvPr/>
        </p:nvPicPr>
        <p:blipFill>
          <a:blip r:embed="rId2"/>
          <a:stretch/>
        </p:blipFill>
        <p:spPr>
          <a:xfrm>
            <a:off x="1979640" y="476280"/>
            <a:ext cx="4554360" cy="6165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одуванчик2"/>
          <p:cNvPicPr/>
          <p:nvPr/>
        </p:nvPicPr>
        <p:blipFill>
          <a:blip r:embed="rId2"/>
          <a:stretch/>
        </p:blipFill>
        <p:spPr>
          <a:xfrm>
            <a:off x="395280" y="0"/>
            <a:ext cx="3708360" cy="3125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ромашка"/>
          <p:cNvPicPr/>
          <p:nvPr/>
        </p:nvPicPr>
        <p:blipFill>
          <a:blip r:embed="rId3"/>
          <a:stretch/>
        </p:blipFill>
        <p:spPr>
          <a:xfrm>
            <a:off x="4427640" y="0"/>
            <a:ext cx="3960720" cy="3349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ежевика"/>
          <p:cNvPicPr/>
          <p:nvPr/>
        </p:nvPicPr>
        <p:blipFill>
          <a:blip r:embed="rId4"/>
          <a:stretch/>
        </p:blipFill>
        <p:spPr>
          <a:xfrm>
            <a:off x="5076720" y="3860640"/>
            <a:ext cx="3241800" cy="2676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горицвет"/>
          <p:cNvPicPr/>
          <p:nvPr/>
        </p:nvPicPr>
        <p:blipFill>
          <a:blip r:embed="rId5"/>
          <a:stretch/>
        </p:blipFill>
        <p:spPr>
          <a:xfrm>
            <a:off x="611280" y="3789360"/>
            <a:ext cx="3527280" cy="2894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ландыш"/>
          <p:cNvPicPr/>
          <p:nvPr/>
        </p:nvPicPr>
        <p:blipFill>
          <a:blip r:embed="rId2"/>
          <a:stretch/>
        </p:blipFill>
        <p:spPr>
          <a:xfrm>
            <a:off x="4284720" y="1744560"/>
            <a:ext cx="4859280" cy="51134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2195640" y="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Ланды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50920" y="836640"/>
            <a:ext cx="857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андыш - род растений семейства лилейных. Известно 4 (по другим данным, 5) вида Л. в Европе, Азии и Северной Америке. Наиболее распространен ландыш майский, растущий в лес­ной и лесостепной зонах европейской части в кустарниках, лесах и по их опушкам. Цветет в мае. В тарханском парке ландыш  распространен повсемес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5543640" y="476280"/>
            <a:ext cx="360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0" y="11592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Ясе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Iasen"/>
          <p:cNvPicPr/>
          <p:nvPr/>
        </p:nvPicPr>
        <p:blipFill>
          <a:blip r:embed="rId2"/>
          <a:stretch/>
        </p:blipFill>
        <p:spPr>
          <a:xfrm>
            <a:off x="0" y="1746360"/>
            <a:ext cx="3398760" cy="5111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2771640" y="3573360"/>
            <a:ext cx="67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од листопадных деревьев семейства масличных. Особенно был распространен в апалихском парке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центре усадьбы на пересечении двух центральных дорожек расположен уникальный для этих мест экземпляр. Ясень обыкновенного возраста 1ОО лет. Дерево растет в центре площадки на пересечении четырех дорожек пар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50920" y="0"/>
            <a:ext cx="4752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Тюльп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биберштей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Flora_7"/>
          <p:cNvPicPr/>
          <p:nvPr/>
        </p:nvPicPr>
        <p:blipFill>
          <a:blip r:embed="rId2"/>
          <a:stretch/>
        </p:blipFill>
        <p:spPr>
          <a:xfrm>
            <a:off x="0" y="2133720"/>
            <a:ext cx="3276720" cy="4724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"/>
          <p:cNvSpPr/>
          <p:nvPr/>
        </p:nvSpPr>
        <p:spPr>
          <a:xfrm>
            <a:off x="3203640" y="2924280"/>
            <a:ext cx="6121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Луковица конусовидная, 1-2 см диаметром, с кожистыми чёрно-бурыми чешуями, опушёнными у верхушки и основания прижатыми волосками. Стебель 15-30 см высотой, с 2, реже 3 расставленными узкими желобчатыми листьями. Цветок обычно одиночный, в бутоне поникающий, в солнечную погоду широко раскрытый. Листочки околоцветника 2-4 см длиной, заострённые, золотисто-жёлтые, наружные по спинке с коричневато- зелёным оттенком. Тычиночные нити опушённые, разной длины. Плод до 2,5 см длиной и 1,5 см шири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600"/>
                            </p:stCondLst>
                            <p:childTnLst>
                              <p:par>
                                <p:cTn id="3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600"/>
                            </p:stCondLst>
                            <p:childTnLst>
                              <p:par>
                                <p:cTn id="36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-181080" y="189000"/>
            <a:ext cx="53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ВЯЗ ШЕРШАВ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9640" y="2276640"/>
            <a:ext cx="417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од листопадных, большею частью крупных деревьев, реже кустарников семейства ильмовых. Данный вид представлен в тарханском парке разно­возрастными экземплярами, среди которых 3 вяза (два у дома ключника, один у западного балкона барского дома) имеют возраст более 20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4932360" y="260280"/>
            <a:ext cx="421164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f0f5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468360" y="170028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спитание экологической культуры поведения в природе как части общей культуры взаимоотношений людей друг с другом, так и отношений человека и природ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у учащихся бережного отношения к малой Родине, культурно – исторического наслед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зучать окружающую природу непосредственно на территории села и музея – заповед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элементарных сведений об объектах, процессах и явлениях окружающей прир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2843280" y="115920"/>
            <a:ext cx="360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И ПРОЕК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543640" y="476280"/>
            <a:ext cx="360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0" y="115920"/>
            <a:ext cx="48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КАШТАН КОНС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Kachtan_konskii"/>
          <p:cNvPicPr/>
          <p:nvPr/>
        </p:nvPicPr>
        <p:blipFill>
          <a:blip r:embed="rId2"/>
          <a:stretch/>
        </p:blipFill>
        <p:spPr>
          <a:xfrm>
            <a:off x="4551480" y="0"/>
            <a:ext cx="45925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0" y="2133720"/>
            <a:ext cx="4753080" cy="4208760"/>
          </a:xfrm>
          <a:prstGeom prst="rect">
            <a:avLst/>
          </a:prstGeom>
          <a:gradFill rotWithShape="0">
            <a:gsLst>
              <a:gs pos="0">
                <a:srgbClr val="bbe0e3">
                  <a:alpha val="31372"/>
                </a:srgbClr>
              </a:gs>
              <a:gs pos="50000">
                <a:srgbClr val="edf7f7"/>
              </a:gs>
              <a:gs pos="100000">
                <a:srgbClr val="bbe0e3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од деревьев семейства конскокаштановых. Такие каштаны Лермонтов видел на Кавказе, мог видеть и в Тарханах, и в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Апалихе.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В начале дорожки к колодцу была устроена площадка и вокруг 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осажены шесть каштанов. На площадке стояла, вероятно, беседка. В центре участка при пересечении аллеи с поперечной дорожкой была устроена круглая площадка с каштаном конским желто цветным посередине». Этот конский каштан посетители могут видеть в Апалихе и сегодня, ему 96 лет, в 1991 вокруг него была устроена деревянная ска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2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42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Barbaris"/>
          <p:cNvPicPr/>
          <p:nvPr/>
        </p:nvPicPr>
        <p:blipFill>
          <a:blip r:embed="rId2"/>
          <a:stretch/>
        </p:blipFill>
        <p:spPr>
          <a:xfrm>
            <a:off x="0" y="0"/>
            <a:ext cx="4367160" cy="6524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Landchaft_tarchan_1"/>
          <p:cNvPicPr/>
          <p:nvPr/>
        </p:nvPicPr>
        <p:blipFill>
          <a:blip r:embed="rId3"/>
          <a:stretch/>
        </p:blipFill>
        <p:spPr>
          <a:xfrm>
            <a:off x="4807080" y="0"/>
            <a:ext cx="4336920" cy="6524640"/>
          </a:xfrm>
          <a:prstGeom prst="rect">
            <a:avLst/>
          </a:prstGeom>
          <a:ln w="0">
            <a:noFill/>
          </a:ln>
        </p:spPr>
      </p:pic>
      <p:sp>
        <p:nvSpPr>
          <p:cNvPr id="101" name="WordArt 4"/>
          <p:cNvSpPr txBox="1"/>
          <p:nvPr/>
        </p:nvSpPr>
        <p:spPr>
          <a:xfrm>
            <a:off x="900000" y="0"/>
            <a:ext cx="727416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ключ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1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468360" y="1471680"/>
            <a:ext cx="756108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РАЗОВ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у детей эколого – краеведческого мышл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ширение знаний детей о экологии села, культурно – исторических мес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СПИТ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ние любви к  родному  кра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ние наблюдательности и бережного отношения к приро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ние экологической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2700360" y="115920"/>
            <a:ext cx="3833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и проект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800"/>
                            </p:stCondLst>
                            <p:childTnLst>
                              <p:par>
                                <p:cTn id="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8600"/>
                            </p:stCondLst>
                            <p:childTnLst>
                              <p:par>
                                <p:cTn id="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3400"/>
                            </p:stCondLst>
                            <p:childTnLst>
                              <p:par>
                                <p:cTn id="4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8000"/>
                            </p:stCondLst>
                            <p:childTnLst>
                              <p:par>
                                <p:cTn id="5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600"/>
                            </p:stCondLst>
                            <p:childTnLst>
                              <p:par>
                                <p:cTn id="6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8400"/>
                            </p:stCondLst>
                            <p:childTnLst>
                              <p:par>
                                <p:cTn id="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1187280" y="0"/>
            <a:ext cx="6096240" cy="4276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Dybovya rocha_1"/>
          <p:cNvPicPr/>
          <p:nvPr/>
        </p:nvPicPr>
        <p:blipFill>
          <a:blip r:embed="rId2"/>
          <a:stretch/>
        </p:blipFill>
        <p:spPr>
          <a:xfrm>
            <a:off x="4500720" y="3772080"/>
            <a:ext cx="4643280" cy="308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Rodniki"/>
          <p:cNvPicPr/>
          <p:nvPr/>
        </p:nvPicPr>
        <p:blipFill>
          <a:blip r:embed="rId3"/>
          <a:stretch/>
        </p:blipFill>
        <p:spPr>
          <a:xfrm>
            <a:off x="-108000" y="3825720"/>
            <a:ext cx="5040360" cy="3032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viaz100"/>
          <p:cNvPicPr/>
          <p:nvPr/>
        </p:nvPicPr>
        <p:blipFill>
          <a:blip r:embed="rId4"/>
          <a:stretch/>
        </p:blipFill>
        <p:spPr>
          <a:xfrm>
            <a:off x="2050920" y="26028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Fayna"/>
          <p:cNvPicPr/>
          <p:nvPr/>
        </p:nvPicPr>
        <p:blipFill>
          <a:blip r:embed="rId2"/>
          <a:stretch/>
        </p:blipFill>
        <p:spPr>
          <a:xfrm>
            <a:off x="0" y="0"/>
            <a:ext cx="4819680" cy="3228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Val i kanava"/>
          <p:cNvPicPr/>
          <p:nvPr/>
        </p:nvPicPr>
        <p:blipFill>
          <a:blip r:embed="rId3"/>
          <a:stretch/>
        </p:blipFill>
        <p:spPr>
          <a:xfrm>
            <a:off x="4284720" y="3357720"/>
            <a:ext cx="4859280" cy="3254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" descr="беляк заяц"/>
          <p:cNvPicPr/>
          <p:nvPr/>
        </p:nvPicPr>
        <p:blipFill>
          <a:blip r:embed="rId2"/>
          <a:srcRect l="0" t="18623" r="0" b="0"/>
          <a:stretch/>
        </p:blipFill>
        <p:spPr>
          <a:xfrm>
            <a:off x="2771640" y="0"/>
            <a:ext cx="4321440" cy="391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PH10250"/>
          <p:cNvPicPr/>
          <p:nvPr/>
        </p:nvPicPr>
        <p:blipFill>
          <a:blip r:embed="rId3"/>
          <a:stretch/>
        </p:blipFill>
        <p:spPr>
          <a:xfrm>
            <a:off x="6012000" y="3860640"/>
            <a:ext cx="3132000" cy="299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0195"/>
          <p:cNvPicPr/>
          <p:nvPr/>
        </p:nvPicPr>
        <p:blipFill>
          <a:blip r:embed="rId4"/>
          <a:stretch/>
        </p:blipFill>
        <p:spPr>
          <a:xfrm>
            <a:off x="0" y="3871800"/>
            <a:ext cx="4572000" cy="2986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4643280" cy="299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"/>
          <p:cNvPicPr/>
          <p:nvPr/>
        </p:nvPicPr>
        <p:blipFill>
          <a:blip r:embed="rId3"/>
          <a:stretch/>
        </p:blipFill>
        <p:spPr>
          <a:xfrm>
            <a:off x="0" y="0"/>
            <a:ext cx="2916360" cy="2543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2" descr=""/>
          <p:cNvPicPr/>
          <p:nvPr/>
        </p:nvPicPr>
        <p:blipFill>
          <a:blip r:embed="rId4"/>
          <a:stretch/>
        </p:blipFill>
        <p:spPr>
          <a:xfrm>
            <a:off x="755640" y="3284640"/>
            <a:ext cx="2476440" cy="335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жав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651640" y="189000"/>
            <a:ext cx="264636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лось"/>
          <p:cNvPicPr/>
          <p:nvPr/>
        </p:nvPicPr>
        <p:blipFill>
          <a:blip r:embed="rId2"/>
          <a:stretch/>
        </p:blipFill>
        <p:spPr>
          <a:xfrm>
            <a:off x="0" y="1700280"/>
            <a:ext cx="4140360" cy="5157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843280" y="259920"/>
            <a:ext cx="6300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Лось — высоконогий зверь, с мощной грудной клеткой, относительно коротким туловищем и тяжелой головой. У самцов большие лопатообразные рога, размах которых может достигать 3 м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Лоси держатся поодиночке или небольшими группами. Крупные и тяжелые животные, они, тем не менее, легко передвигаются по болотистой мест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Лоси иногда наносят ущерб подросту и повреждают посадки в лесных питомниках. Они являются объектом промысла (мясо, кожа, рога)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79280" y="404640"/>
            <a:ext cx="32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Л О С 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2:06:26Z</dcterms:created>
  <dc:creator>с.Лермонтово</dc:creator>
  <dc:description/>
  <dc:language>en-US</dc:language>
  <cp:lastModifiedBy>Геймер</cp:lastModifiedBy>
  <dcterms:modified xsi:type="dcterms:W3CDTF">2019-10-13T14:59:10Z</dcterms:modified>
  <cp:revision>17</cp:revision>
  <dc:subject/>
  <dc:title>Слайд 1</dc:title>
</cp:coreProperties>
</file>