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gif" ContentType="image/gif"/>
  <Override PartName="/ppt/media/image51.gif" ContentType="image/gif"/>
  <Override PartName="/ppt/media/image49.gif" ContentType="image/gif"/>
  <Override PartName="/ppt/media/image54.gif" ContentType="image/gif"/>
  <Override PartName="/ppt/media/image47.png" ContentType="image/png"/>
  <Override PartName="/ppt/media/image44.gif" ContentType="image/gif"/>
  <Override PartName="/ppt/media/image45.gif" ContentType="image/gif"/>
  <Override PartName="/ppt/media/image43.gif" ContentType="image/gif"/>
  <Override PartName="/ppt/media/image41.gif" ContentType="image/gif"/>
  <Override PartName="/ppt/media/image40.gif" ContentType="image/gif"/>
  <Override PartName="/ppt/media/image39.gif" ContentType="image/gif"/>
  <Override PartName="/ppt/media/image37.gif" ContentType="image/gif"/>
  <Override PartName="/ppt/media/image42.gif" ContentType="image/gif"/>
  <Override PartName="/ppt/media/image35.png" ContentType="image/png"/>
  <Override PartName="/ppt/media/image32.gif" ContentType="image/gif"/>
  <Override PartName="/ppt/media/image30.gif" ContentType="image/gif"/>
  <Override PartName="/ppt/media/image29.gif" ContentType="image/gif"/>
  <Override PartName="/ppt/media/image94.gif" ContentType="image/gif"/>
  <Override PartName="/ppt/media/image38.gif" ContentType="image/gif"/>
  <Override PartName="/ppt/media/applause.wav" ContentType="audio/x-wav"/>
  <Override PartName="/ppt/media/image8.gif" ContentType="image/gif"/>
  <Override PartName="/ppt/media/image85.gif" ContentType="image/gif"/>
  <Override PartName="/ppt/media/image48.gif" ContentType="image/gif"/>
  <Override PartName="/ppt/media/image11.gif" ContentType="image/gif"/>
  <Override PartName="/ppt/media/image36.gif" ContentType="image/gif"/>
  <Override PartName="/ppt/media/image6.gif" ContentType="image/gif"/>
  <Override PartName="/ppt/media/image9.png" ContentType="image/png"/>
  <Override PartName="/ppt/media/image18.gif" ContentType="image/gif"/>
  <Override PartName="/ppt/media/image86.png" ContentType="image/png"/>
  <Override PartName="/ppt/media/image46.gif" ContentType="image/gif"/>
  <Override PartName="/ppt/media/image10.gif" ContentType="image/gif"/>
  <Override PartName="/ppt/media/image5.gif" ContentType="image/gif"/>
  <Override PartName="/ppt/media/image17.gif" ContentType="image/gif"/>
  <Override PartName="/ppt/media/image82.gif" ContentType="image/gif"/>
  <Override PartName="/ppt/media/image28.gif" ContentType="image/gif"/>
  <Override PartName="/ppt/media/image93.gif" ContentType="image/gif"/>
  <Override PartName="/ppt/media/image34.gif" ContentType="image/gif"/>
  <Override PartName="/ppt/media/image60.png" ContentType="image/png"/>
  <Override PartName="/ppt/media/image62.png" ContentType="image/png"/>
  <Override PartName="/ppt/media/image63.gif" ContentType="image/gif"/>
  <Override PartName="/ppt/media/image64.gif" ContentType="image/gif"/>
  <Override PartName="/ppt/media/image65.gif" ContentType="image/gif"/>
  <Override PartName="/ppt/media/image68.png" ContentType="image/png"/>
  <Override PartName="/ppt/media/image75.gif" ContentType="image/gif"/>
  <Override PartName="/ppt/media/image66.gif" ContentType="image/gif"/>
  <Override PartName="/ppt/media/image67.gif" ContentType="image/gif"/>
  <Override PartName="/ppt/media/image33.gif" ContentType="image/gif"/>
  <Override PartName="/ppt/media/image70.gif" ContentType="image/gif"/>
  <Override PartName="/ppt/media/image69.gif" ContentType="image/gif"/>
  <Override PartName="/ppt/media/image71.gif" ContentType="image/gif"/>
  <Override PartName="/ppt/media/image72.gif" ContentType="image/gif"/>
  <Override PartName="/ppt/media/image97.jpeg" ContentType="image/jpeg"/>
  <Override PartName="/ppt/media/image12.png" ContentType="image/png"/>
  <Override PartName="/ppt/media/image56.gif" ContentType="image/gif"/>
  <Override PartName="/ppt/media/image59.gif" ContentType="image/gif"/>
  <Override PartName="/ppt/media/image22.gif" ContentType="image/gif"/>
  <Override PartName="/ppt/media/image61.gif" ContentType="image/gif"/>
  <Override PartName="/ppt/media/image96.gif" ContentType="image/gif"/>
  <Override PartName="/ppt/media/image52.png" ContentType="image/png"/>
  <Override PartName="/ppt/media/image73.gif" ContentType="image/gif"/>
  <Override PartName="/ppt/media/image76.png" ContentType="image/png"/>
  <Override PartName="/ppt/media/image95.gif" ContentType="image/gif"/>
  <Override PartName="/ppt/media/image91.gif" ContentType="image/gif"/>
  <Override PartName="/ppt/media/image89.gif" ContentType="image/gif"/>
  <Override PartName="/ppt/media/image77.gif" ContentType="image/gif"/>
  <Override PartName="/ppt/media/image88.gif" ContentType="image/gif"/>
  <Override PartName="/ppt/media/image87.gif" ContentType="image/gif"/>
  <Override PartName="/ppt/media/image79.gif" ContentType="image/gif"/>
  <Override PartName="/ppt/media/image78.gif" ContentType="image/gif"/>
  <Override PartName="/ppt/media/image74.gif" ContentType="image/gif"/>
  <Override PartName="/ppt/media/image26.png" ContentType="image/png"/>
  <Override PartName="/ppt/media/image23.gif" ContentType="image/gif"/>
  <Override PartName="/ppt/media/image21.gif" ContentType="image/gif"/>
  <Override PartName="/ppt/media/image58.gif" ContentType="image/gif"/>
  <Override PartName="/ppt/media/image19.gif" ContentType="image/gif"/>
  <Override PartName="/ppt/media/image84.gif" ContentType="image/gif"/>
  <Override PartName="/ppt/media/image20.gif" ContentType="image/gif"/>
  <Override PartName="/ppt/media/image57.gif" ContentType="image/gif"/>
  <Override PartName="/ppt/media/image50.png" ContentType="image/png"/>
  <Override PartName="/ppt/media/image24.gif" ContentType="image/gif"/>
  <Override PartName="/ppt/media/image27.gif" ContentType="image/gif"/>
  <Override PartName="/ppt/media/image92.gif" ContentType="image/gif"/>
  <Override PartName="/ppt/media/image13.gif" ContentType="image/gif"/>
  <Override PartName="/ppt/media/image1.gif" ContentType="image/gif"/>
  <Override PartName="/ppt/media/image31.gif" ContentType="image/gif"/>
  <Override PartName="/ppt/media/image25.gif" ContentType="image/gif"/>
  <Override PartName="/ppt/media/image90.gif" ContentType="image/gif"/>
  <Override PartName="/ppt/media/image2.gif" ContentType="image/gif"/>
  <Override PartName="/ppt/media/image14.gif" ContentType="image/gif"/>
  <Override PartName="/ppt/media/image3.gif" ContentType="image/gif"/>
  <Override PartName="/ppt/media/image15.gif" ContentType="image/gif"/>
  <Override PartName="/ppt/media/image83.png" ContentType="image/png"/>
  <Override PartName="/ppt/media/image80.gif" ContentType="image/gif"/>
  <Override PartName="/ppt/media/camera.wav" ContentType="audio/x-wav"/>
  <Override PartName="/ppt/media/image53.gif" ContentType="image/gif"/>
  <Override PartName="/ppt/media/image4.gif" ContentType="image/gif"/>
  <Override PartName="/ppt/media/image7.png" ContentType="image/png"/>
  <Override PartName="/ppt/media/image16.gif" ContentType="image/gif"/>
  <Override PartName="/ppt/media/image81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D61-EF17-445E-A6FC-E3913CBE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DE1-7205-4DDD-98FA-383325AA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FC5-0FCF-4EAD-AB0D-FFD2DCB6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76A-24AE-4047-8881-77138108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6B4-F1DD-497C-BE56-7948E690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2D3-0F17-4B20-87D6-3B68D0CF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9ED-41E4-4267-A544-B1BF2666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D74-2CF6-4875-A1EE-30048301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55A-082F-4A7C-AE30-D79DBC14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9F0-CD9B-4A8A-A8D4-B5F8498C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206-B861-4B35-9D4D-081EA251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8A4-E64B-49CD-AD83-4F78660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23EFBF-3966-4A0B-A0BD-25CC2B5F26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16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17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22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23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4.gif"/><Relationship Id="rId3" Type="http://schemas.openxmlformats.org/officeDocument/2006/relationships/image" Target="../media/image5.gif"/><Relationship Id="rId4" Type="http://schemas.openxmlformats.org/officeDocument/2006/relationships/image" Target="../media/image25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image" Target="../media/image27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4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9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0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32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image" Target="../media/image36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7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5.gif"/><Relationship Id="rId4" Type="http://schemas.openxmlformats.org/officeDocument/2006/relationships/image" Target="../media/image3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40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44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4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46.gif"/><Relationship Id="rId3" Type="http://schemas.openxmlformats.org/officeDocument/2006/relationships/image" Target="../media/image43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6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48.gif"/><Relationship Id="rId4" Type="http://schemas.openxmlformats.org/officeDocument/2006/relationships/image" Target="../media/image43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49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.gif"/><Relationship Id="rId3" Type="http://schemas.openxmlformats.org/officeDocument/2006/relationships/image" Target="../media/image43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image" Target="../media/image51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55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56.gif"/><Relationship Id="rId3" Type="http://schemas.openxmlformats.org/officeDocument/2006/relationships/image" Target="../media/image4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57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5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8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61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63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4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64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6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66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69.gif"/><Relationship Id="rId4" Type="http://schemas.openxmlformats.org/officeDocument/2006/relationships/image" Target="../media/image3.gif"/><Relationship Id="rId5" Type="http://schemas.openxmlformats.org/officeDocument/2006/relationships/image" Target="../media/image70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71.gif"/><Relationship Id="rId4" Type="http://schemas.openxmlformats.org/officeDocument/2006/relationships/image" Target="../media/image72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74.gif"/><Relationship Id="rId3" Type="http://schemas.openxmlformats.org/officeDocument/2006/relationships/image" Target="../media/image75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77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78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79.gif"/><Relationship Id="rId4" Type="http://schemas.openxmlformats.org/officeDocument/2006/relationships/image" Target="../media/image54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80.gif"/><Relationship Id="rId4" Type="http://schemas.openxmlformats.org/officeDocument/2006/relationships/image" Target="../media/image81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82.gif"/><Relationship Id="rId3" Type="http://schemas.openxmlformats.org/officeDocument/2006/relationships/image" Target="../media/image3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84.gif"/><Relationship Id="rId5" Type="http://schemas.openxmlformats.org/officeDocument/2006/relationships/image" Target="../media/image85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11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87.gif"/><Relationship Id="rId4" Type="http://schemas.openxmlformats.org/officeDocument/2006/relationships/image" Target="../media/image88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89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90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91.gif"/><Relationship Id="rId4" Type="http://schemas.openxmlformats.org/officeDocument/2006/relationships/image" Target="../media/image43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92.gif"/><Relationship Id="rId3" Type="http://schemas.openxmlformats.org/officeDocument/2006/relationships/image" Target="../media/image70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93.gif"/><Relationship Id="rId3" Type="http://schemas.openxmlformats.org/officeDocument/2006/relationships/image" Target="../media/image94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5.gif"/><Relationship Id="rId2" Type="http://schemas.openxmlformats.org/officeDocument/2006/relationships/image" Target="../media/image96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13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19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Orthographe, vocabulaire, grammaire, conjugaisons,…)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62864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Verdana"/>
              </a:rPr>
              <a:t>Etes-vous doué en françai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72000" y="5319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92720" y="3338640"/>
            <a:ext cx="2881080" cy="459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Test nivea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0560" y="3519360"/>
            <a:ext cx="2994120" cy="3121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8640"/>
            <a:ext cx="9144000" cy="582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302000" y="4508640"/>
            <a:ext cx="900360" cy="64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549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ment écri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/>
          </p:cNvPr>
          <p:cNvSpPr/>
          <p:nvPr/>
        </p:nvSpPr>
        <p:spPr>
          <a:xfrm>
            <a:off x="1547640" y="3645000"/>
            <a:ext cx="46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us avon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goû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à 16 he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1547640" y="2924280"/>
            <a:ext cx="46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us avon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goût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à 16 he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/>
          </p:cNvPr>
          <p:cNvSpPr/>
          <p:nvPr/>
        </p:nvSpPr>
        <p:spPr>
          <a:xfrm>
            <a:off x="1547640" y="4365720"/>
            <a:ext cx="46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us avon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goûté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à 16 he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924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365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1773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00"/>
                </a:solidFill>
                <a:latin typeface="Verdana"/>
              </a:rPr>
              <a:t>Passé compo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912000" y="3519360"/>
            <a:ext cx="142704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0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7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0000" y="549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por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1547640" y="3645000"/>
            <a:ext cx="5185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ucoup d’arbr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ort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s feuilles ve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/>
          </p:cNvPr>
          <p:cNvSpPr/>
          <p:nvPr/>
        </p:nvSpPr>
        <p:spPr>
          <a:xfrm>
            <a:off x="1547640" y="2924280"/>
            <a:ext cx="5185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ucoup d’arbr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or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s feuilles ve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"/>
          </p:cNvPr>
          <p:cNvSpPr/>
          <p:nvPr/>
        </p:nvSpPr>
        <p:spPr>
          <a:xfrm>
            <a:off x="1547640" y="4365720"/>
            <a:ext cx="5185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ucoup d’arbr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ort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s feuilles ve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924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4365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472000" y="4984920"/>
            <a:ext cx="2521080" cy="16351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0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succéd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/>
          </p:cNvPr>
          <p:cNvSpPr/>
          <p:nvPr/>
        </p:nvSpPr>
        <p:spPr>
          <a:xfrm>
            <a:off x="1547640" y="3645000"/>
            <a:ext cx="4824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x actualité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uccèd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 document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1547640" y="2924280"/>
            <a:ext cx="4824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x actualité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uccè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 document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645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924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62000" y="4846680"/>
            <a:ext cx="1800360" cy="1625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642000" y="4508640"/>
            <a:ext cx="1773360" cy="1773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dur="indefinite" fill="hold">
                      <p:stCondLst>
                        <p:cond delay="0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avoi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"/>
          </p:cNvPr>
          <p:cNvSpPr/>
          <p:nvPr/>
        </p:nvSpPr>
        <p:spPr>
          <a:xfrm>
            <a:off x="1547640" y="3645000"/>
            <a:ext cx="4608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 père et to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vo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mêmes goû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1547640" y="4365720"/>
            <a:ext cx="4608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 père et to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mêmes goû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1547640" y="2924280"/>
            <a:ext cx="4608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 père et to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ve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mêmes goû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1052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924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3645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3657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472000" y="4630680"/>
            <a:ext cx="2791080" cy="1884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823080" y="1089000"/>
            <a:ext cx="1324080" cy="2084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0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4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549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travail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1547640" y="3645000"/>
            <a:ext cx="4248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 qu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ravail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ien, tu réuss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"/>
          </p:cNvPr>
          <p:cNvSpPr/>
          <p:nvPr/>
        </p:nvSpPr>
        <p:spPr>
          <a:xfrm>
            <a:off x="1547640" y="4365720"/>
            <a:ext cx="4248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 qu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ravaille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ien, tu réuss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"/>
          </p:cNvPr>
          <p:cNvSpPr/>
          <p:nvPr/>
        </p:nvSpPr>
        <p:spPr>
          <a:xfrm>
            <a:off x="1547640" y="2924280"/>
            <a:ext cx="4248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 qu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ravail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ien, tu réuss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924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3645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3657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551640" y="2978280"/>
            <a:ext cx="1882800" cy="2689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dur="indefinite" fill="hold">
                      <p:stCondLst>
                        <p:cond delay="0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549360"/>
            <a:ext cx="59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’est-ce qu’un LASE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/>
          </p:cNvPr>
          <p:cNvSpPr/>
          <p:nvPr/>
        </p:nvSpPr>
        <p:spPr>
          <a:xfrm>
            <a:off x="1547640" y="2924280"/>
            <a:ext cx="590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ht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tion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or of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tion by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/>
          </p:cNvPr>
          <p:cNvSpPr/>
          <p:nvPr/>
        </p:nvSpPr>
        <p:spPr>
          <a:xfrm>
            <a:off x="1547640" y="3645000"/>
            <a:ext cx="590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ht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ic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c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rgy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590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ht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plification by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ulate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on of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052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/>
          </p:cNvPr>
          <p:cNvSpPr/>
          <p:nvPr/>
        </p:nvSpPr>
        <p:spPr>
          <a:xfrm>
            <a:off x="1547640" y="4941720"/>
            <a:ext cx="590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miè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ificielle e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ct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ironnement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924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941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292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372360" y="638280"/>
            <a:ext cx="1979640" cy="1896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dur="indefinite" fill="hold">
                      <p:stCondLst>
                        <p:cond delay="0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9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L’adjectif est-il attribut ou épithè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2529000"/>
            <a:ext cx="3240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médecin est trè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qui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5562720" y="2259000"/>
            <a:ext cx="117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ttri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5562720" y="2798640"/>
            <a:ext cx="117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pith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259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279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3080" y="4057560"/>
            <a:ext cx="198144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551640" y="4786200"/>
            <a:ext cx="1792440" cy="749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93800" y="4570560"/>
            <a:ext cx="988920" cy="753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dur="indefinite" fill="hold">
                      <p:stCondLst>
                        <p:cond delay="0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9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L’adjectif est-il attribut ou épithè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3968640"/>
            <a:ext cx="3240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’est une femm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ure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2529000"/>
            <a:ext cx="3240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médecin est trè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qui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2259000"/>
            <a:ext cx="117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ttri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2798640"/>
            <a:ext cx="117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pith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/>
          </p:cNvPr>
          <p:cNvSpPr/>
          <p:nvPr/>
        </p:nvSpPr>
        <p:spPr>
          <a:xfrm>
            <a:off x="5562720" y="3699000"/>
            <a:ext cx="117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ttri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5562720" y="4238640"/>
            <a:ext cx="117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pith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3699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23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2889360"/>
            <a:ext cx="9903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651640" y="2887200"/>
            <a:ext cx="990360" cy="2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21280" y="225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551640" y="4786200"/>
            <a:ext cx="179244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dur="indefinite" fill="hold">
                      <p:stCondLst>
                        <p:cond delay="0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9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L’adjectif est-il attribut ou épithè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3968640"/>
            <a:ext cx="3240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’est une femm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ure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2529000"/>
            <a:ext cx="3240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médecin est trè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qui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2259000"/>
            <a:ext cx="117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ttri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2798640"/>
            <a:ext cx="117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pith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3699000"/>
            <a:ext cx="117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i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4238640"/>
            <a:ext cx="117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Epith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31972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. Un adjectif est épithète quand il est placé directement à côté d'un no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. Un adjectif est attribut quand il est séparé du nom par un verbe d'état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2889360"/>
            <a:ext cx="9903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651640" y="2887200"/>
            <a:ext cx="990360" cy="2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21280" y="225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21280" y="423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651640" y="3697200"/>
            <a:ext cx="9000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3699000"/>
            <a:ext cx="900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0872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22360" y="1447920"/>
            <a:ext cx="988920" cy="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549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’adjecti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2"/>
          </p:cNvPr>
          <p:cNvSpPr/>
          <p:nvPr/>
        </p:nvSpPr>
        <p:spPr>
          <a:xfrm>
            <a:off x="2141640" y="2889360"/>
            <a:ext cx="39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képi et une casquett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i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0920" y="1089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3"/>
          </p:cNvPr>
          <p:cNvSpPr/>
          <p:nvPr/>
        </p:nvSpPr>
        <p:spPr>
          <a:xfrm>
            <a:off x="2141640" y="3519360"/>
            <a:ext cx="39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képi et une casquett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i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2141640" y="4149720"/>
            <a:ext cx="39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képi et une casquett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i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4"/>
          </p:cNvPr>
          <p:cNvSpPr/>
          <p:nvPr/>
        </p:nvSpPr>
        <p:spPr>
          <a:xfrm>
            <a:off x="2141640" y="4869000"/>
            <a:ext cx="39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képi et une casquett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i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0920" y="288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50920" y="351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50920" y="4149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50920" y="486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551640" y="1898640"/>
            <a:ext cx="1925640" cy="2136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dur="indefinite" fill="hold">
                      <p:stCondLst>
                        <p:cond delay="0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549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ment écri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547640" y="3645000"/>
            <a:ext cx="633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 mère téléphone à ses amies pour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ité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à dî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/>
          </p:cNvPr>
          <p:cNvSpPr/>
          <p:nvPr/>
        </p:nvSpPr>
        <p:spPr>
          <a:xfrm>
            <a:off x="1547640" y="2924280"/>
            <a:ext cx="633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 mère téléphone à ses amies pour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it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à dî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547640" y="4365720"/>
            <a:ext cx="633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 mère téléphone à ses amies pour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i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à dî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/>
          </p:cNvPr>
          <p:cNvSpPr/>
          <p:nvPr/>
        </p:nvSpPr>
        <p:spPr>
          <a:xfrm>
            <a:off x="1547640" y="5084640"/>
            <a:ext cx="633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 mère téléphone à ses amies pour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ité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à dî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924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365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084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742000" y="1177920"/>
            <a:ext cx="1800360" cy="1131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>
            <a:hlinkClick r:id="rId1"/>
          </p:cNvPr>
          <p:cNvSpPr/>
          <p:nvPr/>
        </p:nvSpPr>
        <p:spPr>
          <a:xfrm>
            <a:off x="1476360" y="2349360"/>
            <a:ext cx="4175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ie s’es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bsent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lus d’un mo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549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s’absen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1052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phrase bien orthographié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2349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1476360" y="3068640"/>
            <a:ext cx="4175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ie s’es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bsenté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lus d’un mo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306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923080" y="3608280"/>
            <a:ext cx="1928520" cy="2367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0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76360" y="2349360"/>
            <a:ext cx="4175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ie s’est absenté plus d’un mo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549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s’absen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76360" y="3068640"/>
            <a:ext cx="4175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rie s’est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bsenté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plus d’un mo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1640" y="2349360"/>
            <a:ext cx="72072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771640" y="2347560"/>
            <a:ext cx="72072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94172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Le participe passé des verbes essentiellement pronominaux s’accorde toujours avec le su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872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/>
          </p:cNvPr>
          <p:cNvSpPr/>
          <p:nvPr/>
        </p:nvSpPr>
        <p:spPr>
          <a:xfrm>
            <a:off x="1332000" y="2205000"/>
            <a:ext cx="3619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le s’es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av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ans la baigno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1332000" y="2781360"/>
            <a:ext cx="3600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le s’es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avé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ans la baigno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se lav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1052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phrase bien orthographié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2205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781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72360" y="3699000"/>
            <a:ext cx="1635120" cy="1882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dur="indefinite" fill="hold">
                      <p:stCondLst>
                        <p:cond delay="0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2000" y="2205000"/>
            <a:ext cx="3619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le s’est lavé dans la baigno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2781360"/>
            <a:ext cx="3600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lle s’est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lavé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dans la baigno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se lav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1052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phrase bien orthographié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1335240" y="3789360"/>
            <a:ext cx="26665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le s’es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av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m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1"/>
          </p:cNvPr>
          <p:cNvSpPr/>
          <p:nvPr/>
        </p:nvSpPr>
        <p:spPr>
          <a:xfrm>
            <a:off x="1335600" y="4437000"/>
            <a:ext cx="27928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le s’es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avé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m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2205000"/>
            <a:ext cx="432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11280" y="2203560"/>
            <a:ext cx="4334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278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3789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4437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778800" y="4059360"/>
            <a:ext cx="131256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dur="indefinite" fill="hold">
                      <p:stCondLst>
                        <p:cond delay="0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32000" y="2205000"/>
            <a:ext cx="3619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le s’est lavé dans la baigno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32000" y="2781360"/>
            <a:ext cx="3600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lle s’est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lavé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dans la baigno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se lav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35240" y="3789360"/>
            <a:ext cx="266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lle s’est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lavé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les m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5600" y="4437000"/>
            <a:ext cx="2792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le s’est lavée les m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1280" y="2205000"/>
            <a:ext cx="432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411280" y="2203560"/>
            <a:ext cx="4334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11640" y="279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484360" y="4435560"/>
            <a:ext cx="4334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4437000"/>
            <a:ext cx="432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1640" y="378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Le participe passé des verbes occasionnellement pronominaux s’accorde avec le complément d’objet direct, si celui est placé avant le ver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0872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192720" y="907920"/>
            <a:ext cx="23418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68360" y="54936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 signifie le verbe « attraire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1"/>
          </p:cNvPr>
          <p:cNvSpPr/>
          <p:nvPr/>
        </p:nvSpPr>
        <p:spPr>
          <a:xfrm>
            <a:off x="2340000" y="3357720"/>
            <a:ext cx="2879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aiter un 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2"/>
          </p:cNvPr>
          <p:cNvSpPr/>
          <p:nvPr/>
        </p:nvSpPr>
        <p:spPr>
          <a:xfrm>
            <a:off x="2340000" y="2708280"/>
            <a:ext cx="2879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anter un mé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2340000" y="4653000"/>
            <a:ext cx="2879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igner en 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3"/>
          </p:cNvPr>
          <p:cNvSpPr/>
          <p:nvPr/>
        </p:nvSpPr>
        <p:spPr>
          <a:xfrm>
            <a:off x="2340000" y="4005360"/>
            <a:ext cx="2879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uver un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87280" y="4653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7280" y="4005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87280" y="3357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2708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6192720" y="2889360"/>
            <a:ext cx="1528920" cy="1709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dur="indefinite" fill="hold">
                      <p:stCondLst>
                        <p:cond delay="0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fai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1547640" y="3645000"/>
            <a:ext cx="5472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 et ta mèr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vez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it un travail remarqu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1"/>
          </p:cNvPr>
          <p:cNvSpPr/>
          <p:nvPr/>
        </p:nvSpPr>
        <p:spPr>
          <a:xfrm>
            <a:off x="1547640" y="2924280"/>
            <a:ext cx="5472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 et ta mèr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vai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ait un travail remarqu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2924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481640" y="5057640"/>
            <a:ext cx="1836720" cy="1189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dur="indefinite" fill="hold">
                      <p:stCondLst>
                        <p:cond delay="0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 fill="hold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fai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47640" y="3645000"/>
            <a:ext cx="5472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i et ta mère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vez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fait un travail remarqu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47640" y="2924280"/>
            <a:ext cx="5472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 et ta mère avaient fait un travail remarqu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94172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i les sujets correspondent à des personnes différentes, le verbe s’accorde avec la personne ayant la priorité : la 2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Verdana"/>
              </a:rPr>
              <a:t>ème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 personne a priorité sur la 3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Verdana"/>
              </a:rPr>
              <a:t>ème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64360" y="3645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59280" y="2924280"/>
            <a:ext cx="86508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059280" y="2922480"/>
            <a:ext cx="8650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551640" y="1400040"/>
            <a:ext cx="900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71640" y="549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 de l’adjecti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/>
          </p:cNvPr>
          <p:cNvSpPr/>
          <p:nvPr/>
        </p:nvSpPr>
        <p:spPr>
          <a:xfrm>
            <a:off x="1547640" y="2924280"/>
            <a:ext cx="6985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carte et la lettr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ç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ta part sont dans mon secrét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3"/>
          </p:cNvPr>
          <p:cNvSpPr/>
          <p:nvPr/>
        </p:nvSpPr>
        <p:spPr>
          <a:xfrm>
            <a:off x="1547640" y="3573360"/>
            <a:ext cx="6985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carte et la lettr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ç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ta part sont dans mon secrét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1547640" y="4221000"/>
            <a:ext cx="6985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carte et la lettr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çu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ta part sont dans mon secrét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4"/>
          </p:cNvPr>
          <p:cNvSpPr/>
          <p:nvPr/>
        </p:nvSpPr>
        <p:spPr>
          <a:xfrm>
            <a:off x="1547640" y="4869000"/>
            <a:ext cx="6985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carte et la lettr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ç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ta part sont dans mon secrét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2924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3573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4221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4869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6372360" y="728640"/>
            <a:ext cx="1339560" cy="1785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dur="indefinite" fill="hold">
                      <p:stCondLst>
                        <p:cond delay="0"/>
                      </p:stCondLst>
                      <p:childTnLst>
                        <p:par>
                          <p:cTn id="4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f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68360" y="549360"/>
            <a:ext cx="64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1601640" y="2529000"/>
            <a:ext cx="495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verr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résultats de son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998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/>
          </p:cNvPr>
          <p:cNvSpPr/>
          <p:nvPr/>
        </p:nvSpPr>
        <p:spPr>
          <a:xfrm>
            <a:off x="1601640" y="3068640"/>
            <a:ext cx="495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verr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e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résultats de son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1640" y="306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1640" y="252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1177920"/>
            <a:ext cx="40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00"/>
                </a:solidFill>
                <a:latin typeface="Verdana"/>
              </a:rPr>
              <a:t>« bien » ou « bien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302000" y="4821120"/>
            <a:ext cx="1349640" cy="1349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dur="indefinite" fill="hold">
                      <p:stCondLst>
                        <p:cond delay="0"/>
                      </p:stCondLst>
                      <p:childTnLst>
                        <p:par>
                          <p:cTn id="4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549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ment écri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1547640" y="3645000"/>
            <a:ext cx="5472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artistes saluent le public qui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cla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1547640" y="2924280"/>
            <a:ext cx="5472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artistes saluent le public qui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cl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1547640" y="4365720"/>
            <a:ext cx="5472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artistes saluent le public qui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clam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4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365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472000" y="1538280"/>
            <a:ext cx="2430720" cy="101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302000" y="5408640"/>
            <a:ext cx="900360" cy="642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f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549360"/>
            <a:ext cx="64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01640" y="2529000"/>
            <a:ext cx="495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 verra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bien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les résultats de son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998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1640" y="3068640"/>
            <a:ext cx="495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verra biens les résultats de son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1601640" y="4508640"/>
            <a:ext cx="495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 famille a d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e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mmobiliers sur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"/>
          </p:cNvPr>
          <p:cNvSpPr/>
          <p:nvPr/>
        </p:nvSpPr>
        <p:spPr>
          <a:xfrm>
            <a:off x="1601640" y="3968640"/>
            <a:ext cx="495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 famille a d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mmobiliers sur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1640" y="396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1640" y="450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02000" y="1177920"/>
            <a:ext cx="40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00"/>
                </a:solidFill>
                <a:latin typeface="Verdana"/>
              </a:rPr>
              <a:t>« bien » ou « bien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51640" y="25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912000" y="4890960"/>
            <a:ext cx="1800360" cy="16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dur="indefinite" fill="hold">
                      <p:stCondLst>
                        <p:cond delay="0"/>
                      </p:stCondLst>
                      <p:childTnLst>
                        <p:par>
                          <p:cTn id="5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f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8360" y="549360"/>
            <a:ext cx="64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01640" y="2529000"/>
            <a:ext cx="495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 verra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bien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les résultats de son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998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1640" y="3068640"/>
            <a:ext cx="495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verra biens les résultats de son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1640" y="4508640"/>
            <a:ext cx="495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 famille a de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bien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mmobiliers sur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01640" y="3968640"/>
            <a:ext cx="495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 famille a des bien immobiliers sur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02000" y="1177920"/>
            <a:ext cx="40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00"/>
                </a:solidFill>
                <a:latin typeface="Verdana"/>
              </a:rPr>
              <a:t>« bien » ou « bien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51640" y="25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11640" y="3968640"/>
            <a:ext cx="5396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311640" y="3967200"/>
            <a:ext cx="6300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2360" y="3068640"/>
            <a:ext cx="6285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592360" y="3066840"/>
            <a:ext cx="62856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5164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81640" y="603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062000" y="5229360"/>
            <a:ext cx="162072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bdbf"/>
            </a:gs>
            <a:gs pos="50000">
              <a:srgbClr val="dffafd"/>
            </a:gs>
            <a:gs pos="100000">
              <a:srgbClr val="a8bd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68360" y="54936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voi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/>
          </p:cNvPr>
          <p:cNvSpPr/>
          <p:nvPr/>
        </p:nvSpPr>
        <p:spPr>
          <a:xfrm>
            <a:off x="1547640" y="3645000"/>
            <a:ext cx="4969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s parents, elle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i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haque week-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2"/>
          </p:cNvPr>
          <p:cNvSpPr/>
          <p:nvPr/>
        </p:nvSpPr>
        <p:spPr>
          <a:xfrm>
            <a:off x="1547640" y="4365720"/>
            <a:ext cx="4969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s parents, elle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haque week-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/>
          </p:cNvPr>
          <p:cNvSpPr/>
          <p:nvPr/>
        </p:nvSpPr>
        <p:spPr>
          <a:xfrm>
            <a:off x="1547640" y="2924280"/>
            <a:ext cx="4969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s parents, elle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haque week-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2924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964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4365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1547640" y="5084640"/>
            <a:ext cx="4969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s parents, elle 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haque week-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9640" y="5084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7570800" y="368280"/>
            <a:ext cx="1098360" cy="1890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dur="indefinite" fill="hold">
                      <p:stCondLst>
                        <p:cond delay="0"/>
                      </p:stCondLst>
                      <p:childTnLst>
                        <p:par>
                          <p:cTn id="5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189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 de l’adjectif compos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0560" y="144936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nfant sourd-m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92000" y="549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932360" y="1719360"/>
            <a:ext cx="351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enfant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ourds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/>
          </p:cNvPr>
          <p:cNvSpPr/>
          <p:nvPr/>
        </p:nvSpPr>
        <p:spPr>
          <a:xfrm>
            <a:off x="4932360" y="1177920"/>
            <a:ext cx="351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enfant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ourd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41640" y="11779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41640" y="171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592360" y="4780080"/>
            <a:ext cx="468360" cy="13176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3402000" y="4780080"/>
            <a:ext cx="468360" cy="13176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4211640" y="4780080"/>
            <a:ext cx="468360" cy="1317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5022720" y="4780080"/>
            <a:ext cx="468360" cy="1317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dur="indefinite" fill="hold">
                      <p:stCondLst>
                        <p:cond delay="0"/>
                      </p:stCondLst>
                      <p:childTnLst>
                        <p:par>
                          <p:cTn id="5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50920" y="189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 de l’adjectif compos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0560" y="144936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nfant sourd-m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000" y="549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32360" y="171936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enfant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ourds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117792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enfants sourd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0560" y="288936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danseur court-vê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932360" y="2619360"/>
            <a:ext cx="351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danseus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urt-vê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/>
          </p:cNvPr>
          <p:cNvSpPr/>
          <p:nvPr/>
        </p:nvSpPr>
        <p:spPr>
          <a:xfrm>
            <a:off x="4932360" y="3159000"/>
            <a:ext cx="351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danseus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urte-vê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41640" y="261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41640" y="315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81640" y="1177920"/>
            <a:ext cx="126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281640" y="1176120"/>
            <a:ext cx="126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62360" y="17193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232000" y="4419720"/>
            <a:ext cx="812880" cy="1800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6192720" y="4780080"/>
            <a:ext cx="90036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dur="indefinite" fill="hold">
                      <p:stCondLst>
                        <p:cond delay="0"/>
                      </p:stCondLst>
                      <p:childTnLst>
                        <p:par>
                          <p:cTn id="5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50920" y="189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 de l’adjectif compos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20560" y="144936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nfant sourd-m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92000" y="549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32360" y="171936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enfant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ourds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32360" y="117792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enfants sourd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20560" y="288936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danseur court-vê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0560" y="432900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signe avant-cour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32360" y="261936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e danse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court-vê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315900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danseuse courte-vê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"/>
          </p:cNvPr>
          <p:cNvSpPr/>
          <p:nvPr/>
        </p:nvSpPr>
        <p:spPr>
          <a:xfrm>
            <a:off x="4932360" y="4059360"/>
            <a:ext cx="351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sign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vant-cour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" action="ppaction://hlinkshowjump?jump=nextslide"/>
          </p:cNvPr>
          <p:cNvSpPr/>
          <p:nvPr/>
        </p:nvSpPr>
        <p:spPr>
          <a:xfrm>
            <a:off x="4932360" y="4599000"/>
            <a:ext cx="351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sign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vant-cour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41640" y="459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41640" y="405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81640" y="1177920"/>
            <a:ext cx="126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281640" y="1176120"/>
            <a:ext cx="126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62360" y="17193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762360" y="26193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42000" y="3159000"/>
            <a:ext cx="1170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42000" y="3157560"/>
            <a:ext cx="11700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202360" y="5049720"/>
            <a:ext cx="1085760" cy="16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dur="indefinite" fill="hold">
                      <p:stCondLst>
                        <p:cond delay="0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0920" y="189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 de l’adjectif compos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0560" y="144936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nfant sourd-m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92000" y="549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932360" y="171936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enfant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ourds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32360" y="117792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enfants sourd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0560" y="288936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danseur court-vê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0560" y="432900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signe avant-cour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0560" y="576900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président tout-puiss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2360" y="261936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e danse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court-vê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32360" y="315900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danseuse courte-vê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932360" y="6039000"/>
            <a:ext cx="351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président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ut-puis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1"/>
          </p:cNvPr>
          <p:cNvSpPr/>
          <p:nvPr/>
        </p:nvSpPr>
        <p:spPr>
          <a:xfrm>
            <a:off x="4932360" y="5499000"/>
            <a:ext cx="351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président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us-puis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32360" y="405936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signes avant-cour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32360" y="459900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sign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vant-cour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41640" y="549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41640" y="603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81640" y="1177920"/>
            <a:ext cx="126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281640" y="1176120"/>
            <a:ext cx="126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762360" y="17193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62360" y="26193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42000" y="3159000"/>
            <a:ext cx="1170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642000" y="3157560"/>
            <a:ext cx="11700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62360" y="45990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81640" y="4059360"/>
            <a:ext cx="126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281640" y="4057560"/>
            <a:ext cx="1260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dur="indefinite" fill="hold">
                      <p:stCondLst>
                        <p:cond delay="0"/>
                      </p:stCondLst>
                      <p:childTnLst>
                        <p:par>
                          <p:cTn id="6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50920" y="189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 de l’adjectif compos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0560" y="144936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nfant sourd-m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171936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enfant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ourds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32360" y="117792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enfants sourd-m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0560" y="288936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danseur court-vê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0560" y="432900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signe avant-cour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0560" y="5769000"/>
            <a:ext cx="3330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président tout-puiss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261936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e danse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court-vê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315900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danseuse courte-vê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603900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présid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tout-puis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32360" y="549900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présidents tous-puis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32360" y="405936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signes avant-cour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32360" y="4599000"/>
            <a:ext cx="351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sign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vant-cour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81640" y="1177920"/>
            <a:ext cx="126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281640" y="1176120"/>
            <a:ext cx="126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62360" y="17193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62360" y="26193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642000" y="3159000"/>
            <a:ext cx="1170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642000" y="3157560"/>
            <a:ext cx="11700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62360" y="45990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81640" y="4059360"/>
            <a:ext cx="126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281640" y="4057560"/>
            <a:ext cx="1260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62360" y="60390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51640" y="5499000"/>
            <a:ext cx="14414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551640" y="5497560"/>
            <a:ext cx="14414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db2b"/>
            </a:gs>
            <a:gs pos="50000">
              <a:srgbClr val="66ff33"/>
            </a:gs>
            <a:gs pos="100000">
              <a:srgbClr val="57db2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24000" y="549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posséd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1"/>
          </p:cNvPr>
          <p:cNvSpPr/>
          <p:nvPr/>
        </p:nvSpPr>
        <p:spPr>
          <a:xfrm>
            <a:off x="1403280" y="2637000"/>
            <a:ext cx="6121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tiers des voitures vendu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ossèd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a climatis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1403280" y="2060640"/>
            <a:ext cx="6121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tiers des voitures vendu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ossè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a climatis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03280" y="1052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9640" y="2637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9640" y="2060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1069920" cy="1441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dur="indefinite" fill="hold">
                      <p:stCondLst>
                        <p:cond delay="0"/>
                      </p:stCondLst>
                      <p:childTnLst>
                        <p:par>
                          <p:cTn id="6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 fill="hold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 fill="hold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db2b"/>
            </a:gs>
            <a:gs pos="50000">
              <a:srgbClr val="66ff33"/>
            </a:gs>
            <a:gs pos="100000">
              <a:srgbClr val="57db2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24000" y="549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03280" y="2637000"/>
            <a:ext cx="612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tiers des voitures vendues possèdent la climatis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03280" y="2060640"/>
            <a:ext cx="612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 tiers des voitures vendue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possèd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la climatisatio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03280" y="1052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"/>
          </p:cNvPr>
          <p:cNvSpPr/>
          <p:nvPr/>
        </p:nvSpPr>
        <p:spPr>
          <a:xfrm>
            <a:off x="1403280" y="3789360"/>
            <a:ext cx="6121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du tiers des étudiant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n chambre étud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1403280" y="4437000"/>
            <a:ext cx="6121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du tiers des étudiant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iv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n chambre étud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9640" y="378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4437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2637000"/>
            <a:ext cx="1008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572000" y="2635200"/>
            <a:ext cx="10080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59640" y="2060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601640" y="4921200"/>
            <a:ext cx="2519640" cy="19368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6912000" y="819000"/>
            <a:ext cx="900000" cy="5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dur="indefinite" fill="hold">
                      <p:stCondLst>
                        <p:cond delay="0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 fill="hold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 fill="hold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’adjecti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"/>
          </p:cNvPr>
          <p:cNvSpPr/>
          <p:nvPr/>
        </p:nvSpPr>
        <p:spPr>
          <a:xfrm>
            <a:off x="1601640" y="3879720"/>
            <a:ext cx="3654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s ennuis le rend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lad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1601640" y="3159000"/>
            <a:ext cx="3654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s ennuis le rend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l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998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/>
          </p:cNvPr>
          <p:cNvSpPr/>
          <p:nvPr/>
        </p:nvSpPr>
        <p:spPr>
          <a:xfrm>
            <a:off x="1601640" y="4599000"/>
            <a:ext cx="3654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s ennuis le rend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lad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1640" y="315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3879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640" y="459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642000" y="2529000"/>
            <a:ext cx="1627200" cy="2293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0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db2b"/>
            </a:gs>
            <a:gs pos="50000">
              <a:srgbClr val="66ff33"/>
            </a:gs>
            <a:gs pos="100000">
              <a:srgbClr val="57db2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24000" y="549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 verb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03280" y="2637000"/>
            <a:ext cx="612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tiers des voitures vendues possèdent la climatis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03280" y="2060640"/>
            <a:ext cx="612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 tiers des voitures vendue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possèd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la climatisatio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03280" y="3789360"/>
            <a:ext cx="612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du tiers des étudiants vit en chambre étud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03280" y="4437000"/>
            <a:ext cx="612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us du tiers des étudiant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vivent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en chambre étud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0" y="2637000"/>
            <a:ext cx="1008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572000" y="2635200"/>
            <a:ext cx="10080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559640" y="2060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524720" y="44370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11640" y="378936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11640" y="3787560"/>
            <a:ext cx="36036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0872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962000" y="5684760"/>
            <a:ext cx="900360" cy="5079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6281640" y="728640"/>
            <a:ext cx="90036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24000" y="54936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 ou participe prés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" action="ppaction://hlinkshowjump?jump=nextslide"/>
          </p:cNvPr>
          <p:cNvSpPr/>
          <p:nvPr/>
        </p:nvSpPr>
        <p:spPr>
          <a:xfrm>
            <a:off x="1476360" y="2421000"/>
            <a:ext cx="4896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rriv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rop tard, ils n'ont pas eu à dî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5640" y="1052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rId2"/>
          </p:cNvPr>
          <p:cNvSpPr/>
          <p:nvPr/>
        </p:nvSpPr>
        <p:spPr>
          <a:xfrm>
            <a:off x="1476360" y="2997360"/>
            <a:ext cx="4896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rriva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rop tard, ils n'ont pas eu à dî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9640" y="2421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9640" y="2997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6642000" y="3429000"/>
            <a:ext cx="1246320" cy="22654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1420920" y="4599000"/>
            <a:ext cx="900000" cy="507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dur="indefinite" fill="hold">
                      <p:stCondLst>
                        <p:cond delay="0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 fill="hold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24000" y="54936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 ou participe prés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>
            <a:hlinkClick r:id="rId2"/>
          </p:cNvPr>
          <p:cNvSpPr/>
          <p:nvPr/>
        </p:nvSpPr>
        <p:spPr>
          <a:xfrm>
            <a:off x="1476360" y="4076640"/>
            <a:ext cx="48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jourd’hui, les enfants so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béiss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6360" y="2421000"/>
            <a:ext cx="4896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rrivant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trop tard, ils n'ont pas eu à dî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55640" y="1052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476360" y="2997360"/>
            <a:ext cx="4896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ivants trop tard, ils n'ont pas eu à dî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1476360" y="4653000"/>
            <a:ext cx="48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jourd’hui, les enfants so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béissa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9640" y="4581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9640" y="4076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47640" y="2997360"/>
            <a:ext cx="936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547640" y="2995560"/>
            <a:ext cx="936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732720" y="242100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6912000" y="4329000"/>
            <a:ext cx="1515960" cy="15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dur="indefinite" fill="hold">
                      <p:stCondLst>
                        <p:cond delay="0"/>
                      </p:stCondLst>
                      <p:childTnLst>
                        <p:par>
                          <p:cTn id="6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4000" y="54936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 ou participe prés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76360" y="4076640"/>
            <a:ext cx="48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jourd’hui, les enfants sont obéiss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76360" y="2421000"/>
            <a:ext cx="4896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rrivant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trop tard, ils n'ont pas eu à dî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5640" y="1052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476360" y="2997360"/>
            <a:ext cx="4896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ivants trop tard, ils n'ont pas eu à dî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76360" y="4653000"/>
            <a:ext cx="48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ujourd’hui, les enfants sont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obéissant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47640" y="2997360"/>
            <a:ext cx="936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547640" y="2995560"/>
            <a:ext cx="936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732720" y="242100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59640" y="465300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500720" y="4076640"/>
            <a:ext cx="1008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4500720" y="4075200"/>
            <a:ext cx="10080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0872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7451640" y="1154160"/>
            <a:ext cx="1081080" cy="7714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1962000" y="5684760"/>
            <a:ext cx="90036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Trouvez le bon temp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rId2"/>
          </p:cNvPr>
          <p:cNvSpPr/>
          <p:nvPr/>
        </p:nvSpPr>
        <p:spPr>
          <a:xfrm>
            <a:off x="1547640" y="2924280"/>
            <a:ext cx="5112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regarde mon frè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ang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n cart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116000" y="1052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rId3"/>
          </p:cNvPr>
          <p:cNvSpPr/>
          <p:nvPr/>
        </p:nvSpPr>
        <p:spPr>
          <a:xfrm>
            <a:off x="1547640" y="3645000"/>
            <a:ext cx="5112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regarde mon frè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angea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n cart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1547640" y="4365720"/>
            <a:ext cx="5112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regarde mon frè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ang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n cart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1280" y="2924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1280" y="3645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1280" y="43657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rId4"/>
          </p:cNvPr>
          <p:cNvSpPr/>
          <p:nvPr/>
        </p:nvSpPr>
        <p:spPr>
          <a:xfrm>
            <a:off x="1547640" y="5013360"/>
            <a:ext cx="5112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regarde mon frè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angez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n cart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11280" y="5013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6823080" y="907920"/>
            <a:ext cx="1490760" cy="1490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dur="indefinite" fill="hold">
                      <p:stCondLst>
                        <p:cond delay="0"/>
                      </p:stCondLst>
                      <p:childTnLst>
                        <p:par>
                          <p:cTn id="6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 fill="hold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 fill="hold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68360" y="54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2"/>
          </p:cNvPr>
          <p:cNvSpPr/>
          <p:nvPr/>
        </p:nvSpPr>
        <p:spPr>
          <a:xfrm>
            <a:off x="1547640" y="2924280"/>
            <a:ext cx="5977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ù sont les fourchettes que j’avai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r la tab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rId3"/>
          </p:cNvPr>
          <p:cNvSpPr/>
          <p:nvPr/>
        </p:nvSpPr>
        <p:spPr>
          <a:xfrm>
            <a:off x="1547640" y="3645000"/>
            <a:ext cx="5977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ù sont les fourchettes que j’avai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r la tab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>
            <a:hlinkClick r:id="" action="ppaction://hlinkshowjump?jump=nextslide"/>
          </p:cNvPr>
          <p:cNvSpPr/>
          <p:nvPr/>
        </p:nvSpPr>
        <p:spPr>
          <a:xfrm>
            <a:off x="1547640" y="4365720"/>
            <a:ext cx="5977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ù sont les fourchettes que j’avai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i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r la tab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1280" y="2924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1280" y="3645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43657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6462720" y="1474920"/>
            <a:ext cx="1260360" cy="11379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5"/>
          <a:stretch/>
        </p:blipFill>
        <p:spPr>
          <a:xfrm>
            <a:off x="2502000" y="4756320"/>
            <a:ext cx="2160360" cy="1912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dur="indefinite" fill="hold">
                      <p:stCondLst>
                        <p:cond delay="0"/>
                      </p:stCondLst>
                      <p:childTnLst>
                        <p:par>
                          <p:cTn id="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 fill="hold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 fill="hold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68360" y="549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Infinitif ou participe passé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rId1"/>
          </p:cNvPr>
          <p:cNvSpPr/>
          <p:nvPr/>
        </p:nvSpPr>
        <p:spPr>
          <a:xfrm>
            <a:off x="1547640" y="2924280"/>
            <a:ext cx="4392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devoirs de Julie so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rmin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rId2"/>
          </p:cNvPr>
          <p:cNvSpPr/>
          <p:nvPr/>
        </p:nvSpPr>
        <p:spPr>
          <a:xfrm>
            <a:off x="1547640" y="3573360"/>
            <a:ext cx="4392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devoirs de Julie so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rminé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rId3"/>
          </p:cNvPr>
          <p:cNvSpPr/>
          <p:nvPr/>
        </p:nvSpPr>
        <p:spPr>
          <a:xfrm>
            <a:off x="1547640" y="4221000"/>
            <a:ext cx="4392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devoirs de Julie so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rmi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1547640" y="4869000"/>
            <a:ext cx="4392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devoirs de Julie so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rminé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1280" y="2924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1280" y="3573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1280" y="4221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6551640" y="2033640"/>
            <a:ext cx="1620720" cy="1049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dur="indefinite" fill="hold">
                      <p:stCondLst>
                        <p:cond delay="0"/>
                      </p:stCondLst>
                      <p:childTnLst>
                        <p:par>
                          <p:cTn id="7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 fill="hold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33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s adjectifs de couleu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1"/>
          </p:cNvPr>
          <p:cNvSpPr/>
          <p:nvPr/>
        </p:nvSpPr>
        <p:spPr>
          <a:xfrm>
            <a:off x="1547640" y="1628640"/>
            <a:ext cx="30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rob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187280" y="765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1547640" y="2133720"/>
            <a:ext cx="30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rob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ou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162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4360" y="21337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1467000" cy="15681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6372360" y="1336680"/>
            <a:ext cx="1769760" cy="1112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dur="indefinite" fill="hold">
                      <p:stCondLst>
                        <p:cond delay="0"/>
                      </p:stCondLst>
                      <p:childTnLst>
                        <p:par>
                          <p:cTn id="7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 fill="hold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95280" y="333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s adjectifs de couleu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47640" y="162864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robes 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87280" y="765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547640" y="213372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robe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rou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nextslide"/>
          </p:cNvPr>
          <p:cNvSpPr/>
          <p:nvPr/>
        </p:nvSpPr>
        <p:spPr>
          <a:xfrm>
            <a:off x="1547640" y="2708280"/>
            <a:ext cx="30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vêtement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k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rId1"/>
          </p:cNvPr>
          <p:cNvSpPr/>
          <p:nvPr/>
        </p:nvSpPr>
        <p:spPr>
          <a:xfrm>
            <a:off x="1547640" y="3213000"/>
            <a:ext cx="30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vêtement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ka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1280" y="3213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11280" y="2708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700360" y="1628640"/>
            <a:ext cx="6476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700360" y="1627200"/>
            <a:ext cx="6476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59280" y="213372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6102360" y="3879720"/>
            <a:ext cx="1401840" cy="16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dur="indefinite" fill="hold">
                      <p:stCondLst>
                        <p:cond delay="0"/>
                      </p:stCondLst>
                      <p:childTnLst>
                        <p:par>
                          <p:cTn id="7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 fill="hold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 fill="hold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95280" y="333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s adjectifs de couleu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162864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robes 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87280" y="765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47640" y="213372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robe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rou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47640" y="270828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vêtement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k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47640" y="321300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vêtements ka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1547640" y="3789360"/>
            <a:ext cx="30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vest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u m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rId1"/>
          </p:cNvPr>
          <p:cNvSpPr/>
          <p:nvPr/>
        </p:nvSpPr>
        <p:spPr>
          <a:xfrm>
            <a:off x="1547640" y="4292640"/>
            <a:ext cx="302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vest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ues m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11280" y="4292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1280" y="3789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700360" y="1628640"/>
            <a:ext cx="6476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700360" y="1627200"/>
            <a:ext cx="6476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59280" y="213372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03640" y="3213000"/>
            <a:ext cx="5763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276720" y="3211560"/>
            <a:ext cx="5032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59280" y="27082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6642000" y="4149720"/>
            <a:ext cx="132732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dur="indefinite" fill="hold">
                      <p:stCondLst>
                        <p:cond delay="0"/>
                      </p:stCondLst>
                      <p:childTnLst>
                        <p:par>
                          <p:cTn id="7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 fill="hold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 fill="hold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549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Infinitif ou participe passé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1547640" y="2924280"/>
            <a:ext cx="4392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faudrai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ong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à refaire la toi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1547640" y="3716280"/>
            <a:ext cx="4392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faudrai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on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à refaire la toi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924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716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02360" y="4367160"/>
            <a:ext cx="2700360" cy="21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0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95280" y="333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ccordez les adjectifs de couleu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47640" y="162864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robes 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47640" y="213372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robe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rou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547640" y="270828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vêtement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k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547640" y="321300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vêtements ka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47640" y="378936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vestes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bleu m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547640" y="4292640"/>
            <a:ext cx="302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vestes bleues m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700360" y="1628640"/>
            <a:ext cx="6476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00360" y="1627200"/>
            <a:ext cx="6476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59280" y="213372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3640" y="3213000"/>
            <a:ext cx="5763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276720" y="3211560"/>
            <a:ext cx="5032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59280" y="27082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59280" y="378936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43280" y="4292640"/>
            <a:ext cx="14414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2843280" y="4290840"/>
            <a:ext cx="14414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4941720"/>
            <a:ext cx="896472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es adjectifs de couleur simple s'accordent en genre et en nombre avec le mot auquel ils se rapportent (blanc, brun, noir, jaune, rose, violet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es adjectifs de couleur qui proviennent de noms (métaux, fruits, légumes, pierres, etc.) sont invariables (abricot, argent, café, orange ,crème, olive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es adjectifs de couleur composée sont invariables (arc-en-ciel, vert olive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71640" y="2924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71640" y="4005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50872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002360" y="2495520"/>
            <a:ext cx="900360" cy="8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468360" y="549360"/>
            <a:ext cx="77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 verbal ou participe prés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>
            <a:hlinkClick r:id="" action="ppaction://hlinkshowjump?jump=nextslide"/>
          </p:cNvPr>
          <p:cNvSpPr/>
          <p:nvPr/>
        </p:nvSpPr>
        <p:spPr>
          <a:xfrm>
            <a:off x="1420920" y="2259000"/>
            <a:ext cx="486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rouvais qu’il était vrai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tig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2"/>
          </p:cNvPr>
          <p:cNvSpPr/>
          <p:nvPr/>
        </p:nvSpPr>
        <p:spPr>
          <a:xfrm>
            <a:off x="1420920" y="2798640"/>
            <a:ext cx="486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rouvais qu’il était vrai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tigu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0560" y="225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20560" y="279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5562720" y="4149720"/>
            <a:ext cx="1649160" cy="1940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dur="indefinite" fill="hold">
                      <p:stCondLst>
                        <p:cond delay="0"/>
                      </p:stCondLst>
                      <p:childTnLst>
                        <p:par>
                          <p:cTn id="8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 fill="hold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 fill="hold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468360" y="549360"/>
            <a:ext cx="77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 verbal ou participe prés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2"/>
          </p:cNvPr>
          <p:cNvSpPr/>
          <p:nvPr/>
        </p:nvSpPr>
        <p:spPr>
          <a:xfrm>
            <a:off x="1420920" y="4238640"/>
            <a:ext cx="486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est devenu célèbre en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bric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et ob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20920" y="2259000"/>
            <a:ext cx="486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Je trouvais qu’il était vrai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fatig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20920" y="2798640"/>
            <a:ext cx="486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rouvais qu’il était vraiment fatigu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" action="ppaction://hlinkshowjump?jump=nextslide"/>
          </p:cNvPr>
          <p:cNvSpPr/>
          <p:nvPr/>
        </p:nvSpPr>
        <p:spPr>
          <a:xfrm>
            <a:off x="1420920" y="4780080"/>
            <a:ext cx="486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est devenu célèbre en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briqu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et ob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0560" y="423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20560" y="47800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481640" y="2798640"/>
            <a:ext cx="108108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4481640" y="2797200"/>
            <a:ext cx="10810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81640" y="22590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002360" y="43815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dur="indefinite" fill="hold">
                      <p:stCondLst>
                        <p:cond delay="0"/>
                      </p:stCondLst>
                      <p:childTnLst>
                        <p:par>
                          <p:cTn id="8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 fill="hold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468360" y="549360"/>
            <a:ext cx="77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 verbal ou participe prés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20920" y="4238640"/>
            <a:ext cx="486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est devenu célèbre en fabricant cet ob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420920" y="2259000"/>
            <a:ext cx="486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Je trouvais qu’il était vrai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fatig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20920" y="2798640"/>
            <a:ext cx="486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rouvais qu’il était vraiment fatigu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20920" y="4780080"/>
            <a:ext cx="486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l est devenu célèbre en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fabriquant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cet ob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81640" y="2798640"/>
            <a:ext cx="108108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481640" y="2797200"/>
            <a:ext cx="10810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281640" y="22590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281640" y="47800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941640" y="423864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941640" y="4236840"/>
            <a:ext cx="99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292720" y="603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7002360" y="3063960"/>
            <a:ext cx="107964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894"/>
            </a:gs>
            <a:gs pos="50000">
              <a:srgbClr val="e5e9ad"/>
            </a:gs>
            <a:gs pos="100000">
              <a:srgbClr val="c4c8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8360" y="549360"/>
            <a:ext cx="78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est le féminin de « exigu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rId1"/>
          </p:cNvPr>
          <p:cNvSpPr/>
          <p:nvPr/>
        </p:nvSpPr>
        <p:spPr>
          <a:xfrm>
            <a:off x="1601640" y="2978280"/>
            <a:ext cx="28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maison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ig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2"/>
          </p:cNvPr>
          <p:cNvSpPr/>
          <p:nvPr/>
        </p:nvSpPr>
        <p:spPr>
          <a:xfrm>
            <a:off x="1601640" y="3699000"/>
            <a:ext cx="28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maison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igü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" action="ppaction://hlinkshowjump?jump=nextslide"/>
          </p:cNvPr>
          <p:cNvSpPr/>
          <p:nvPr/>
        </p:nvSpPr>
        <p:spPr>
          <a:xfrm>
            <a:off x="1601640" y="4419720"/>
            <a:ext cx="28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maison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igu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01640" y="2978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1640" y="369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01640" y="4419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6102360" y="3159000"/>
            <a:ext cx="944640" cy="1711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dur="indefinite" fill="hold">
                      <p:stCondLst>
                        <p:cond delay="0"/>
                      </p:stCondLst>
                      <p:childTnLst>
                        <p:par>
                          <p:cTn id="8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 fill="hold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 fill="hold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 fill="hold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s au plurie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>
            <a:hlinkClick r:id="rId1"/>
          </p:cNvPr>
          <p:cNvSpPr/>
          <p:nvPr/>
        </p:nvSpPr>
        <p:spPr>
          <a:xfrm>
            <a:off x="1601640" y="2798640"/>
            <a:ext cx="3149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châteaux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éod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692360" y="10890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1601640" y="3338640"/>
            <a:ext cx="3149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châteaux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éodau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01640" y="279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01640" y="333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5651640" y="2619360"/>
            <a:ext cx="2139840" cy="2986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dur="indefinite" fill="hold">
                      <p:stCondLst>
                        <p:cond delay="0"/>
                      </p:stCondLst>
                      <p:childTnLst>
                        <p:par>
                          <p:cTn id="8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 fill="hold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s au plurie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nextslide"/>
          </p:cNvPr>
          <p:cNvSpPr/>
          <p:nvPr/>
        </p:nvSpPr>
        <p:spPr>
          <a:xfrm>
            <a:off x="1601640" y="4419720"/>
            <a:ext cx="3149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chantier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av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1640" y="2798640"/>
            <a:ext cx="314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châteaux féod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92360" y="10890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601640" y="3338640"/>
            <a:ext cx="314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châteaux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féodaux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rId1"/>
          </p:cNvPr>
          <p:cNvSpPr/>
          <p:nvPr/>
        </p:nvSpPr>
        <p:spPr>
          <a:xfrm>
            <a:off x="1601640" y="4959360"/>
            <a:ext cx="3149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chantier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avau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640" y="4419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01640" y="495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132000" y="2798640"/>
            <a:ext cx="8096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132000" y="2797200"/>
            <a:ext cx="8096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51280" y="3338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6642000" y="2889360"/>
            <a:ext cx="185760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dur="indefinite" fill="hold">
                      <p:stCondLst>
                        <p:cond delay="0"/>
                      </p:stCondLst>
                      <p:childTnLst>
                        <p:par>
                          <p:cTn id="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 fill="hold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 fill="hold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s au plurie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601640" y="4419720"/>
            <a:ext cx="314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chanti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nav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601640" y="2798640"/>
            <a:ext cx="314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châteaux féod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601640" y="3338640"/>
            <a:ext cx="314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 châteaux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féodaux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01640" y="4959360"/>
            <a:ext cx="314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 chantiers nav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32000" y="2798640"/>
            <a:ext cx="8096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3132000" y="2797200"/>
            <a:ext cx="8096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51280" y="3338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51280" y="441972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32000" y="4959360"/>
            <a:ext cx="8096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132000" y="4957560"/>
            <a:ext cx="80964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92720" y="603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6823080" y="1628640"/>
            <a:ext cx="1163520" cy="16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s possess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>
            <a:hlinkClick r:id="rId2"/>
          </p:cNvPr>
          <p:cNvSpPr/>
          <p:nvPr/>
        </p:nvSpPr>
        <p:spPr>
          <a:xfrm>
            <a:off x="1511280" y="2798640"/>
            <a:ext cx="513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nuit les voitures allu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u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h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01640" y="998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nextslide"/>
          </p:cNvPr>
          <p:cNvSpPr/>
          <p:nvPr/>
        </p:nvSpPr>
        <p:spPr>
          <a:xfrm>
            <a:off x="1511280" y="3338640"/>
            <a:ext cx="513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nuit les voitures allu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u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h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1280" y="279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11280" y="333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6823080" y="4238640"/>
            <a:ext cx="1417680" cy="21272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7002360" y="1089000"/>
            <a:ext cx="938160" cy="6699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1871640" y="5083200"/>
            <a:ext cx="1800360" cy="955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dur="indefinite" fill="hold">
                      <p:stCondLst>
                        <p:cond delay="0"/>
                      </p:stCondLst>
                      <p:childTnLst>
                        <p:par>
                          <p:cTn id="8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 fill="hold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 fill="hold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s possess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1511280" y="4419720"/>
            <a:ext cx="513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ne peut pas faire confiance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u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d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511280" y="2798640"/>
            <a:ext cx="51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nuit les voitures allument leur ph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601640" y="998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11280" y="3338640"/>
            <a:ext cx="51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a nuit les voitures allument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leur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ph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>
            <a:hlinkClick r:id="rId2"/>
          </p:cNvPr>
          <p:cNvSpPr/>
          <p:nvPr/>
        </p:nvSpPr>
        <p:spPr>
          <a:xfrm>
            <a:off x="1511280" y="4959360"/>
            <a:ext cx="513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ne peut pas faire confiance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u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d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11280" y="44197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11280" y="4959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481640" y="2798640"/>
            <a:ext cx="45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81640" y="2797200"/>
            <a:ext cx="450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642000" y="3338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7002360" y="4853160"/>
            <a:ext cx="1170000" cy="11696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6912000" y="1104840"/>
            <a:ext cx="1328760" cy="10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dur="indefinite" fill="hold">
                      <p:stCondLst>
                        <p:cond delay="0"/>
                      </p:stCondLst>
                      <p:childTnLst>
                        <p:par>
                          <p:cTn id="9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 fill="hold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 fill="hold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549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Imparfait ou participe passé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1547640" y="2924280"/>
            <a:ext cx="46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enfa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erra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e bille dans sa m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1547640" y="3716280"/>
            <a:ext cx="46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enfa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err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e bille dans sa m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/>
          </p:cNvPr>
          <p:cNvSpPr/>
          <p:nvPr/>
        </p:nvSpPr>
        <p:spPr>
          <a:xfrm>
            <a:off x="1547640" y="4508640"/>
            <a:ext cx="46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enfa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err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e bille dans sa m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2924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716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450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/>
          </p:cNvPr>
          <p:cNvSpPr/>
          <p:nvPr/>
        </p:nvSpPr>
        <p:spPr>
          <a:xfrm>
            <a:off x="1547640" y="5300640"/>
            <a:ext cx="4680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enfa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erre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e bille dans sa m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00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732720" y="2438280"/>
            <a:ext cx="1949400" cy="3040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s possess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11280" y="4419720"/>
            <a:ext cx="51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 ne peut pas faire confiance à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leu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od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11280" y="2798640"/>
            <a:ext cx="51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nuit les voitures allument leur ph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601640" y="998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11280" y="3338640"/>
            <a:ext cx="51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a nuit les voitures allument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leur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ph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11280" y="4959360"/>
            <a:ext cx="51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ne peut pas faire confiance à leurs od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81640" y="2798640"/>
            <a:ext cx="45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481640" y="2797200"/>
            <a:ext cx="450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42000" y="3338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932360" y="4959360"/>
            <a:ext cx="6303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32360" y="4957560"/>
            <a:ext cx="63036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642000" y="441972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292720" y="603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6823080" y="907920"/>
            <a:ext cx="14130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9a0"/>
            </a:gs>
            <a:gs pos="50000">
              <a:srgbClr val="fbfdbb"/>
            </a:gs>
            <a:gs pos="100000">
              <a:srgbClr val="d7d9a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C’est ou ce so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>
            <a:hlinkClick r:id="rId1"/>
          </p:cNvPr>
          <p:cNvSpPr/>
          <p:nvPr/>
        </p:nvSpPr>
        <p:spPr>
          <a:xfrm>
            <a:off x="1511280" y="2978280"/>
            <a:ext cx="6175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ux qui m’aiment,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’e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eux qui viennent me vo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71640" y="998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" action="ppaction://hlinkshowjump?jump=nextslide"/>
          </p:cNvPr>
          <p:cNvSpPr/>
          <p:nvPr/>
        </p:nvSpPr>
        <p:spPr>
          <a:xfrm>
            <a:off x="1511280" y="3879720"/>
            <a:ext cx="6175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ux qui m’aiment,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 so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eux qui viennent me vo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11280" y="38797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978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502000" y="4748040"/>
            <a:ext cx="1709640" cy="13338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6281640" y="1152360"/>
            <a:ext cx="1260720" cy="1068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dur="indefinite" fill="hold">
                      <p:stCondLst>
                        <p:cond delay="0"/>
                      </p:stCondLst>
                      <p:childTnLst>
                        <p:par>
                          <p:cTn id="9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41280" y="549360"/>
            <a:ext cx="83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Même : adjectif, adverbe ou pron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50920" y="1989000"/>
            <a:ext cx="4771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tte voiture est belle, je veux l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>
            <a:hlinkClick r:id="rId2"/>
          </p:cNvPr>
          <p:cNvSpPr/>
          <p:nvPr/>
        </p:nvSpPr>
        <p:spPr>
          <a:xfrm>
            <a:off x="6192720" y="1538280"/>
            <a:ext cx="12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d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nextslide"/>
          </p:cNvPr>
          <p:cNvSpPr/>
          <p:nvPr/>
        </p:nvSpPr>
        <p:spPr>
          <a:xfrm>
            <a:off x="6192720" y="2438280"/>
            <a:ext cx="12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rId3"/>
          </p:cNvPr>
          <p:cNvSpPr/>
          <p:nvPr/>
        </p:nvSpPr>
        <p:spPr>
          <a:xfrm>
            <a:off x="6192720" y="1989000"/>
            <a:ext cx="12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202360" y="1989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202360" y="2438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202360" y="1538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4"/>
          <a:stretch/>
        </p:blipFill>
        <p:spPr>
          <a:xfrm>
            <a:off x="2862360" y="4116240"/>
            <a:ext cx="2700360" cy="1868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dur="indefinite" fill="hold">
                      <p:stCondLst>
                        <p:cond delay="0"/>
                      </p:stCondLst>
                      <p:childTnLst>
                        <p:par>
                          <p:cTn id="9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 fill="hold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 fill="hold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 fill="hold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41280" y="549360"/>
            <a:ext cx="83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Même : adjectif, adverbe ou pron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50920" y="3789360"/>
            <a:ext cx="4771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us avons l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pi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50920" y="1989000"/>
            <a:ext cx="4771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tte voiture est belle, je veux l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92720" y="153828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192720" y="243828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Pr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192720" y="198900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2"/>
          </p:cNvPr>
          <p:cNvSpPr/>
          <p:nvPr/>
        </p:nvSpPr>
        <p:spPr>
          <a:xfrm>
            <a:off x="6192720" y="3789360"/>
            <a:ext cx="12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6192720" y="3338640"/>
            <a:ext cx="12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d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>
            <a:hlinkClick r:id="rId3"/>
          </p:cNvPr>
          <p:cNvSpPr/>
          <p:nvPr/>
        </p:nvSpPr>
        <p:spPr>
          <a:xfrm>
            <a:off x="6192720" y="4238640"/>
            <a:ext cx="12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202360" y="3789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202360" y="423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02360" y="333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281640" y="153828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281640" y="1536480"/>
            <a:ext cx="99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281640" y="198900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281640" y="1987560"/>
            <a:ext cx="990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932360" y="2438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332000" y="4599000"/>
            <a:ext cx="113832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dur="indefinite" fill="hold">
                      <p:stCondLst>
                        <p:cond delay="0"/>
                      </p:stCondLst>
                      <p:childTnLst>
                        <p:par>
                          <p:cTn id="9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 fill="hold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 fill="hold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 fill="hold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341280" y="549360"/>
            <a:ext cx="83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Même : adjectif, adverbe ou pron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50920" y="3789360"/>
            <a:ext cx="4771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us avons l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pi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920" y="5589720"/>
            <a:ext cx="4771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voleurs ont pri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os chaus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0920" y="1989000"/>
            <a:ext cx="4771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tte voiture est belle, je veux l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192720" y="153828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92720" y="243828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192720" y="198900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192720" y="378936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92720" y="333864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d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92720" y="423864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nextslide"/>
          </p:cNvPr>
          <p:cNvSpPr/>
          <p:nvPr/>
        </p:nvSpPr>
        <p:spPr>
          <a:xfrm>
            <a:off x="6192720" y="5589720"/>
            <a:ext cx="12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>
            <a:hlinkClick r:id="rId2"/>
          </p:cNvPr>
          <p:cNvSpPr/>
          <p:nvPr/>
        </p:nvSpPr>
        <p:spPr>
          <a:xfrm>
            <a:off x="6192720" y="5138640"/>
            <a:ext cx="12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d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3"/>
          </p:cNvPr>
          <p:cNvSpPr/>
          <p:nvPr/>
        </p:nvSpPr>
        <p:spPr>
          <a:xfrm>
            <a:off x="6192720" y="6039000"/>
            <a:ext cx="12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02360" y="55897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02360" y="6039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202360" y="5138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1640" y="153828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6281640" y="1536480"/>
            <a:ext cx="99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81640" y="198900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281640" y="1987560"/>
            <a:ext cx="990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32360" y="2438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32360" y="333864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281640" y="378936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281640" y="3787560"/>
            <a:ext cx="99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372360" y="4238640"/>
            <a:ext cx="900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6462720" y="4236840"/>
            <a:ext cx="80964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dur="indefinite" fill="hold">
                      <p:stCondLst>
                        <p:cond delay="0"/>
                      </p:stCondLst>
                      <p:childTnLst>
                        <p:par>
                          <p:cTn id="9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 fill="hold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 fill="hold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 fill="hold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341280" y="549360"/>
            <a:ext cx="83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Même : adjectif, adverbe ou pron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0920" y="3789360"/>
            <a:ext cx="4771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us avons l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pi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0920" y="5589720"/>
            <a:ext cx="4771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voleurs ont pri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os chaus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0920" y="1989000"/>
            <a:ext cx="4771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tte voiture est belle, je veux l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92720" y="153828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92720" y="243828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192720" y="198900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192720" y="378936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192720" y="333864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d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192720" y="423864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192720" y="558972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192720" y="513864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192720" y="6039000"/>
            <a:ext cx="125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281640" y="153828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6281640" y="1536480"/>
            <a:ext cx="99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281640" y="198900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6281640" y="1987560"/>
            <a:ext cx="990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932360" y="2438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932360" y="333864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281640" y="378936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281640" y="3787560"/>
            <a:ext cx="99072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372360" y="4238640"/>
            <a:ext cx="900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462720" y="4236840"/>
            <a:ext cx="80964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32360" y="558972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81640" y="5138640"/>
            <a:ext cx="99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6281640" y="5137200"/>
            <a:ext cx="9907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372360" y="6039000"/>
            <a:ext cx="900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6372360" y="6037200"/>
            <a:ext cx="9000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411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dbb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468360" y="549360"/>
            <a:ext cx="64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rId1"/>
          </p:cNvPr>
          <p:cNvSpPr/>
          <p:nvPr/>
        </p:nvSpPr>
        <p:spPr>
          <a:xfrm>
            <a:off x="1601640" y="2889360"/>
            <a:ext cx="509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us sommes rentrés à trois heures e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m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1601640" y="3519360"/>
            <a:ext cx="509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us sommes rentrés à trois heures e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m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rId2"/>
          </p:cNvPr>
          <p:cNvSpPr/>
          <p:nvPr/>
        </p:nvSpPr>
        <p:spPr>
          <a:xfrm>
            <a:off x="1601640" y="4149720"/>
            <a:ext cx="509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us sommes rentrés à trois heures e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m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01640" y="288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01640" y="351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01640" y="4149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6912000" y="4149720"/>
            <a:ext cx="1255680" cy="188928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6551640" y="1089000"/>
            <a:ext cx="1828800" cy="1619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dur="indefinite" fill="hold">
                      <p:stCondLst>
                        <p:cond delay="0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 fill="hold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 fill="hold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 fill="hold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468360" y="549360"/>
            <a:ext cx="61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1"/>
          </p:cNvPr>
          <p:cNvSpPr/>
          <p:nvPr/>
        </p:nvSpPr>
        <p:spPr>
          <a:xfrm>
            <a:off x="1601640" y="2798640"/>
            <a:ext cx="446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traça deux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mi-cerc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r le 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nextslide"/>
          </p:cNvPr>
          <p:cNvSpPr/>
          <p:nvPr/>
        </p:nvSpPr>
        <p:spPr>
          <a:xfrm>
            <a:off x="1601640" y="3519360"/>
            <a:ext cx="446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traça deux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mi-cerc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r le 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01640" y="351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01640" y="279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rId2"/>
          </p:cNvPr>
          <p:cNvSpPr/>
          <p:nvPr/>
        </p:nvSpPr>
        <p:spPr>
          <a:xfrm>
            <a:off x="1601640" y="4238640"/>
            <a:ext cx="4464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traça deux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mis-cerc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r le 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01640" y="423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6732720" y="4113360"/>
            <a:ext cx="1530360" cy="14522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4"/>
          <a:stretch/>
        </p:blipFill>
        <p:spPr>
          <a:xfrm>
            <a:off x="6551640" y="1015920"/>
            <a:ext cx="162072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dur="indefinite" fill="hold">
                      <p:stCondLst>
                        <p:cond delay="0"/>
                      </p:stCondLst>
                      <p:childTnLst>
                        <p:par>
                          <p:cTn id="10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 fill="hold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 fill="hold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 fill="hold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9ac1"/>
            </a:gs>
            <a:gs pos="50000">
              <a:srgbClr val="ffccff"/>
            </a:gs>
            <a:gs pos="100000">
              <a:srgbClr val="c19a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>
            <a:hlinkClick r:id="" action="ppaction://hlinkshowjump?jump=nextslide"/>
          </p:cNvPr>
          <p:cNvSpPr/>
          <p:nvPr/>
        </p:nvSpPr>
        <p:spPr>
          <a:xfrm>
            <a:off x="1601640" y="2978280"/>
            <a:ext cx="500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ici votre facture,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y compr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bois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68360" y="549360"/>
            <a:ext cx="61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>
            <a:hlinkClick r:id="rId1"/>
          </p:cNvPr>
          <p:cNvSpPr/>
          <p:nvPr/>
        </p:nvSpPr>
        <p:spPr>
          <a:xfrm>
            <a:off x="1601640" y="3789360"/>
            <a:ext cx="500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ici votre facture,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y compri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bois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01640" y="2978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01640" y="378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6732720" y="4329000"/>
            <a:ext cx="1404720" cy="163692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3"/>
          <a:stretch/>
        </p:blipFill>
        <p:spPr>
          <a:xfrm>
            <a:off x="7093080" y="1552680"/>
            <a:ext cx="900000" cy="642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dur="indefinite" fill="hold">
                      <p:stCondLst>
                        <p:cond delay="0"/>
                      </p:stCondLst>
                      <p:childTnLst>
                        <p:par>
                          <p:cTn id="10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 fill="hold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 fill="hold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Adjectif ou adverb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>
            <a:hlinkClick r:id="" action="ppaction://hlinkshowjump?jump=nextslide"/>
          </p:cNvPr>
          <p:cNvSpPr/>
          <p:nvPr/>
        </p:nvSpPr>
        <p:spPr>
          <a:xfrm>
            <a:off x="1601640" y="2438280"/>
            <a:ext cx="3870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cigognes volent trè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01640" y="998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rId2"/>
          </p:cNvPr>
          <p:cNvSpPr/>
          <p:nvPr/>
        </p:nvSpPr>
        <p:spPr>
          <a:xfrm>
            <a:off x="1601640" y="3068640"/>
            <a:ext cx="3870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cigognes volent trè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ut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>
            <a:hlinkClick r:id="rId3"/>
          </p:cNvPr>
          <p:cNvSpPr/>
          <p:nvPr/>
        </p:nvSpPr>
        <p:spPr>
          <a:xfrm>
            <a:off x="1601640" y="3699000"/>
            <a:ext cx="3870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cigognes volent trè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u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01640" y="2438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1640" y="306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01640" y="369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4"/>
          <a:stretch/>
        </p:blipFill>
        <p:spPr>
          <a:xfrm>
            <a:off x="6192720" y="4149720"/>
            <a:ext cx="1757520" cy="18162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5"/>
          <a:stretch/>
        </p:blipFill>
        <p:spPr>
          <a:xfrm>
            <a:off x="4956120" y="549360"/>
            <a:ext cx="4187880" cy="91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dur="indefinite" fill="hold">
                      <p:stCondLst>
                        <p:cond delay="0"/>
                      </p:stCondLst>
                      <p:childTnLst>
                        <p:par>
                          <p:cTn id="10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 fill="hold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 fill="hold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549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ment écri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/>
          </p:cNvPr>
          <p:cNvSpPr/>
          <p:nvPr/>
        </p:nvSpPr>
        <p:spPr>
          <a:xfrm>
            <a:off x="1547640" y="3645000"/>
            <a:ext cx="3888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’est lui qu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1547640" y="2924280"/>
            <a:ext cx="3888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’est lui qu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1547640" y="4365720"/>
            <a:ext cx="3888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’est lui qu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2924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365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281640" y="3789360"/>
            <a:ext cx="2148120" cy="2336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468360" y="549360"/>
            <a:ext cx="65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Même : adjectif ou adverb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>
            <a:hlinkClick r:id="" action="ppaction://hlinkshowjump?jump=nextslide"/>
          </p:cNvPr>
          <p:cNvSpPr/>
          <p:nvPr/>
        </p:nvSpPr>
        <p:spPr>
          <a:xfrm>
            <a:off x="1420920" y="2708280"/>
            <a:ext cx="4321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chats étaient par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2"/>
          </p:cNvPr>
          <p:cNvSpPr/>
          <p:nvPr/>
        </p:nvSpPr>
        <p:spPr>
          <a:xfrm>
            <a:off x="1420920" y="3249720"/>
            <a:ext cx="4321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s chats étaient par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20560" y="2708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20560" y="3249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3"/>
          <a:stretch/>
        </p:blipFill>
        <p:spPr>
          <a:xfrm>
            <a:off x="4751280" y="4238640"/>
            <a:ext cx="2160720" cy="195588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4"/>
          <a:stretch/>
        </p:blipFill>
        <p:spPr>
          <a:xfrm>
            <a:off x="6823080" y="1177920"/>
            <a:ext cx="1298520" cy="1514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dur="indefinite" fill="hold">
                      <p:stCondLst>
                        <p:cond delay="0"/>
                      </p:stCondLst>
                      <p:childTnLst>
                        <p:par>
                          <p:cTn id="10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 fill="hold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468360" y="549360"/>
            <a:ext cx="65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Même : adjectif ou adverb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420920" y="2708280"/>
            <a:ext cx="432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 chats étaient par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rId2"/>
          </p:cNvPr>
          <p:cNvSpPr/>
          <p:nvPr/>
        </p:nvSpPr>
        <p:spPr>
          <a:xfrm>
            <a:off x="1420920" y="4419720"/>
            <a:ext cx="4321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s réparent eux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urs voi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420920" y="3249720"/>
            <a:ext cx="432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êmes les chats étaient par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1420920" y="4959360"/>
            <a:ext cx="4321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s réparent eux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êm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urs voi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20560" y="4419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20560" y="495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742000" y="2708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511280" y="3249720"/>
            <a:ext cx="809640" cy="35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511280" y="3247920"/>
            <a:ext cx="8096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3"/>
          <a:stretch/>
        </p:blipFill>
        <p:spPr>
          <a:xfrm>
            <a:off x="6462720" y="3608280"/>
            <a:ext cx="104292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dur="indefinite" fill="hold">
                      <p:stCondLst>
                        <p:cond delay="0"/>
                      </p:stCondLst>
                      <p:childTnLst>
                        <p:par>
                          <p:cTn id="1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 fill="hold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 fill="hold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468360" y="549360"/>
            <a:ext cx="65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Même : adjectif ou adverb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420920" y="2708280"/>
            <a:ext cx="432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Mê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 chats étaient par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420920" y="4419720"/>
            <a:ext cx="432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s réparent eux-même leurs voi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420920" y="3249720"/>
            <a:ext cx="432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êmes les chats étaient par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420920" y="4959360"/>
            <a:ext cx="432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ls réparent eux-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même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leurs voi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742000" y="2708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511280" y="3249720"/>
            <a:ext cx="809640" cy="35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1511280" y="3247920"/>
            <a:ext cx="8096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742000" y="49593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132000" y="4419720"/>
            <a:ext cx="6303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3220920" y="4417920"/>
            <a:ext cx="5414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472000" y="6219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6912000" y="1413000"/>
            <a:ext cx="1081080" cy="9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d3f1"/>
            </a:gs>
            <a:gs pos="50000">
              <a:srgbClr val="e1ffff"/>
            </a:gs>
            <a:gs pos="100000">
              <a:srgbClr val="d3d3f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68360" y="549360"/>
            <a:ext cx="49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Trouver l’adverb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971640" y="3338640"/>
            <a:ext cx="356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ectif : savant  =&gt;  adverb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1"/>
          </p:cNvPr>
          <p:cNvSpPr/>
          <p:nvPr/>
        </p:nvSpPr>
        <p:spPr>
          <a:xfrm>
            <a:off x="5651640" y="2798640"/>
            <a:ext cx="162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v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nextslide"/>
          </p:cNvPr>
          <p:cNvSpPr/>
          <p:nvPr/>
        </p:nvSpPr>
        <p:spPr>
          <a:xfrm>
            <a:off x="5651640" y="3338640"/>
            <a:ext cx="162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va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2"/>
          </p:cNvPr>
          <p:cNvSpPr/>
          <p:nvPr/>
        </p:nvSpPr>
        <p:spPr>
          <a:xfrm>
            <a:off x="5651640" y="3879720"/>
            <a:ext cx="162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ve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751280" y="333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751280" y="3879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51280" y="279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3311640" y="4329000"/>
            <a:ext cx="1265040" cy="18464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5651640" y="1312920"/>
            <a:ext cx="990360" cy="558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dur="indefinite" fill="hold">
                      <p:stCondLst>
                        <p:cond delay="0"/>
                      </p:stCondLst>
                      <p:childTnLst>
                        <p:par>
                          <p:cTn id="1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 fill="hold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 fill="hold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Préposition ou adverb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1241280" y="2349360"/>
            <a:ext cx="423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rix du vase est marqué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so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1"/>
          </p:cNvPr>
          <p:cNvSpPr/>
          <p:nvPr/>
        </p:nvSpPr>
        <p:spPr>
          <a:xfrm>
            <a:off x="1241280" y="2978280"/>
            <a:ext cx="423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rix du vase est marqué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o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41280" y="234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41280" y="2978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5292720" y="4419720"/>
            <a:ext cx="1401840" cy="168264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6281640" y="1268280"/>
            <a:ext cx="1890720" cy="10051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dur="indefinite" fill="hold">
                      <p:stCondLst>
                        <p:cond delay="0"/>
                      </p:stCondLst>
                      <p:childTnLst>
                        <p:par>
                          <p:cTn id="1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 fill="hold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Préposition ou adverb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241280" y="2349360"/>
            <a:ext cx="42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 prix du vase est marqué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dessou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rId1"/>
          </p:cNvPr>
          <p:cNvSpPr/>
          <p:nvPr/>
        </p:nvSpPr>
        <p:spPr>
          <a:xfrm>
            <a:off x="1241280" y="4238640"/>
            <a:ext cx="423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rix est marqué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sso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 v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241280" y="2978280"/>
            <a:ext cx="42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rix du vase est marqué s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1241280" y="4869000"/>
            <a:ext cx="423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rix est marqué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o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 v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41280" y="423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41280" y="4869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1280" y="2978280"/>
            <a:ext cx="54108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121280" y="2976480"/>
            <a:ext cx="5410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472000" y="2349360"/>
            <a:ext cx="12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6281640" y="4059360"/>
            <a:ext cx="1440000" cy="8046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7093080" y="998640"/>
            <a:ext cx="99360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dur="indefinite" fill="hold">
                      <p:stCondLst>
                        <p:cond delay="0"/>
                      </p:stCondLst>
                      <p:childTnLst>
                        <p:par>
                          <p:cTn id="1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 fill="hold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 fill="hold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6836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Préposition ou adverb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241280" y="2349360"/>
            <a:ext cx="42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 prix du vase est marqué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dessou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241280" y="4238640"/>
            <a:ext cx="42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rix est marqué dessous le v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241280" y="2978280"/>
            <a:ext cx="42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rix du vase est marqué s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41280" y="4869000"/>
            <a:ext cx="423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 prix est marqué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ou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le v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121280" y="2978280"/>
            <a:ext cx="54108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121280" y="2976480"/>
            <a:ext cx="5410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72000" y="2349360"/>
            <a:ext cx="12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72000" y="4869000"/>
            <a:ext cx="12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472000" y="6219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Cliquez pour contin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551640" y="23493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Adv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51640" y="486900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Pré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311640" y="4238640"/>
            <a:ext cx="900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11640" y="4236840"/>
            <a:ext cx="90000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6372360" y="442800"/>
            <a:ext cx="2340000" cy="169380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2889360" y="5589720"/>
            <a:ext cx="873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412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611280" y="4959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BRAVO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549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ment écri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1601640" y="2889360"/>
            <a:ext cx="356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’est elle qu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va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889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519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14972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/>
          </p:cNvPr>
          <p:cNvSpPr/>
          <p:nvPr/>
        </p:nvSpPr>
        <p:spPr>
          <a:xfrm>
            <a:off x="1601640" y="3519360"/>
            <a:ext cx="356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’est elle qu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vai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/>
          </p:cNvPr>
          <p:cNvSpPr/>
          <p:nvPr/>
        </p:nvSpPr>
        <p:spPr>
          <a:xfrm>
            <a:off x="1601640" y="4149720"/>
            <a:ext cx="3564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’est elle qui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ve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932360" y="4059360"/>
            <a:ext cx="3727440" cy="2307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0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549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Verdana"/>
              </a:rPr>
              <a:t>Quelle phrase est correctement écri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/>
          </p:cNvPr>
          <p:cNvSpPr/>
          <p:nvPr/>
        </p:nvSpPr>
        <p:spPr>
          <a:xfrm>
            <a:off x="1547640" y="3645000"/>
            <a:ext cx="5112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hommes so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mi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 les fem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/>
          </p:cNvPr>
          <p:cNvSpPr/>
          <p:nvPr/>
        </p:nvSpPr>
        <p:spPr>
          <a:xfrm>
            <a:off x="1547640" y="2924280"/>
            <a:ext cx="5112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hommes so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min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 les fem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0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(Cliquez sur la bonne réponse)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1547640" y="4365720"/>
            <a:ext cx="51120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hommes so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miné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 les fem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2924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3657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1773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00"/>
                </a:solidFill>
                <a:latin typeface="Verdana"/>
              </a:rPr>
              <a:t>Passé compo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51280" y="5319720"/>
            <a:ext cx="306072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732720" y="1506600"/>
            <a:ext cx="1260360" cy="1069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0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илипенко Галина Геннадьевна</dc:creator>
  <dc:description/>
  <dc:language>en-US</dc:language>
  <cp:lastModifiedBy>***</cp:lastModifiedBy>
  <dcterms:modified xsi:type="dcterms:W3CDTF">2012-09-25T09:05:06Z</dcterms:modified>
  <cp:revision>1</cp:revision>
  <dc:subject/>
  <dc:title>Французская грамматика (тесты)</dc:title>
</cp:coreProperties>
</file>