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REMINDER.WAV" ContentType="audio/x-wav"/>
  <Override PartName="/ppt/media/image6.gif" ContentType="image/gif"/>
  <Override PartName="/ppt/media/image3.wmf" ContentType="image/x-wmf"/>
  <Override PartName="/ppt/media/image4.png" ContentType="image/png"/>
  <Override PartName="/ppt/media/image5.wmf" ContentType="image/x-wmf"/>
  <Override PartName="/ppt/media/camera.wav" ContentType="audio/x-wav"/>
  <Override PartName="/ppt/media/image7.wmf" ContentType="image/x-wmf"/>
  <Override PartName="/ppt/media/image8.wmf" ContentType="image/x-wmf"/>
  <Override PartName="/ppt/media/image9.gif" ContentType="image/gif"/>
  <Override PartName="/ppt/media/SN00823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  <p:custShowLst>
    <p:custShow name="Произвольный показ 1" id="0">
      <p:sldLst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860-493D-42E1-AFFB-4142C700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B72-29E6-484B-A7F4-F222A1E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08B-9C0A-4DC5-92CE-AA020C46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11-A3C3-4429-9202-8A2B2582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8B11-E659-4242-A954-8F0878E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8F5-2BDC-4112-BFBA-6C8C583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BF92-2970-402F-9C12-66E11E6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3420-5E8B-41B7-885C-1CC0043D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F998-D6D3-4CFF-8B44-EB8B21E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B3CA-9E5E-47A3-99C4-F8E38F0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9EFF-BF14-45BF-BEC5-716C331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7C6-D8DF-4E5D-90A3-3E815F9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D08-C976-4F54-ACB3-82CC5E9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7AA1-962C-48FA-86EE-596E08CA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867F-C37D-4916-BE82-FAF41667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8D4-0FA2-405F-A408-BB305FD9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B930-BE3A-467B-AF1B-4D7E7C1F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0EE9-7622-4082-9942-662CAE0A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2A73-259D-48E4-9AC3-AD6D63CC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B563-9B1A-4FAD-A27A-283B32DE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1200-EA8B-452C-9B88-C7B203F6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A894-ACAA-4478-AF0D-333FDCD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D81-CC2B-4BF4-942B-BC30AD7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D17D-661F-4CCF-84C2-0ED665B6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EFAB-7462-4F85-BB23-B19B3B1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46B2-2355-438D-B1B4-15AB7E3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91F6-B994-4EDF-819D-25FD0C6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ECC7-4BE0-45C1-8D6D-90DBDA65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856E-9333-49EC-9318-F927CACF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97F3-4FC5-44D4-88D6-B433C3B0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90D3-29D4-472E-846C-A91458E7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71FE-0247-43D5-8861-55D124E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14A3-12A9-4567-9992-3D2C131F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FF3-4AD8-44E5-9786-647B1AB4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CAB4-EED7-4D82-B8C6-EA11CF6D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88F6-7661-4C80-B34C-E75704F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3A28-FACA-4AD5-AC27-189E087F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9202-3739-4BC3-BBF4-073A3A5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7D8E-EB9B-43D5-9A87-D631FAC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7D90-B0A4-4DA8-9BE2-9CA9746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4F6A-CC8B-4451-B214-EBA97541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55BD-14F6-475D-B4EA-86A14761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4A3B-CE13-4339-A546-A3E7FE6F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80111-2640-4171-9631-3087EF27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327-21B7-4EA3-B7F5-A39798F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D2E4F-D40E-461B-8EB6-A83D799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1AFE-C295-4B28-886C-C109346E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096F-88CB-447E-9AA5-9233D21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C775-0C44-4689-AC85-675224DF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DEF76-91D0-4801-B69B-B46ADD6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41D4-CBA1-4BC5-A2EC-53972BF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79F2-F966-46BC-A864-048BF09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E1FA-91B1-44FD-AE06-703AFB2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1861-E653-4CF7-9D9A-4EF08234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2354-7E16-4267-A0C3-23D8B029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B0C-F592-472C-83E0-9F36FCBA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F41DA-F145-4DD4-9739-472E3596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1C88-35C6-40E0-9542-F5171B2E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A74C-07E7-4681-9EF4-38493B92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F78D-DF0B-4F75-A42D-C2865DA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7400-6D20-4C33-A256-C21B3D5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0EDD-4E02-4D0F-92E4-49656D57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E3A35-9A90-488B-97C6-EB0C7AD3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65EA-9A5A-4896-88E1-2C8AC43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E721-6245-4003-8291-AC5F93D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7F39-ED4E-4D19-BE7A-DA1A2D7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F48-BD8E-4644-A75E-EA35BD5A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B74E-A6A6-4A8F-B74E-55315537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E4CD1-8825-4E30-871D-69799F13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54E7C-3CF2-49F3-AA61-F4AF3A0B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668-A28E-4DD5-AEC0-CA4C762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384-7557-4F2B-BF8A-9C1FE21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E102-E7FB-4303-B4DC-71ED55753B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1EDB-EB82-4287-A54E-45CBDB8438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5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8D7-716F-4B3E-808E-D2900950EF4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2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2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508-C438-415D-8BE1-05A620D02E6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0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E789-3DBE-4661-BF83-E2E1864759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2D3-0D64-4586-BBC8-329DDFC1D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EMIND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slide" Target="slide27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3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23.xml"/><Relationship Id="rId7" Type="http://schemas.openxmlformats.org/officeDocument/2006/relationships/image" Target="../media/image5.wmf"/><Relationship Id="rId8" Type="http://schemas.openxmlformats.org/officeDocument/2006/relationships/slide" Target="slide35.xml"/><Relationship Id="rId9" Type="http://schemas.openxmlformats.org/officeDocument/2006/relationships/image" Target="../media/image3.wmf"/><Relationship Id="rId10" Type="http://schemas.openxmlformats.org/officeDocument/2006/relationships/audio" Target="../media/REMINDER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3.xml"/><Relationship Id="rId3" Type="http://schemas.openxmlformats.org/officeDocument/2006/relationships/image" Target="../media/image7.wmf"/><Relationship Id="rId4" Type="http://schemas.openxmlformats.org/officeDocument/2006/relationships/slide" Target="slide28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14.xml"/><Relationship Id="rId7" Type="http://schemas.openxmlformats.org/officeDocument/2006/relationships/image" Target="../media/image5.wmf"/><Relationship Id="rId8" Type="http://schemas.openxmlformats.org/officeDocument/2006/relationships/slide" Target="slide23.xml"/><Relationship Id="rId9" Type="http://schemas.openxmlformats.org/officeDocument/2006/relationships/image" Target="../media/image5.wmf"/><Relationship Id="rId10" Type="http://schemas.openxmlformats.org/officeDocument/2006/relationships/slide" Target="slide35.xml"/><Relationship Id="rId11" Type="http://schemas.openxmlformats.org/officeDocument/2006/relationships/image" Target="../media/image3.wmf"/><Relationship Id="rId12" Type="http://schemas.openxmlformats.org/officeDocument/2006/relationships/audio" Target="../media/REMINDER.WAV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5.xml"/><Relationship Id="rId3" Type="http://schemas.openxmlformats.org/officeDocument/2006/relationships/image" Target="../media/image7.wmf"/><Relationship Id="rId4" Type="http://schemas.openxmlformats.org/officeDocument/2006/relationships/slide" Target="slide29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16.xml"/><Relationship Id="rId7" Type="http://schemas.openxmlformats.org/officeDocument/2006/relationships/image" Target="../media/image5.wmf"/><Relationship Id="rId8" Type="http://schemas.openxmlformats.org/officeDocument/2006/relationships/slide" Target="slide41.xml"/><Relationship Id="rId9" Type="http://schemas.openxmlformats.org/officeDocument/2006/relationships/image" Target="../media/image3.wmf"/><Relationship Id="rId10" Type="http://schemas.openxmlformats.org/officeDocument/2006/relationships/audio" Target="../media/REMINDER.WAV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slide" Target="slide30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3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image" Target="../media/image3.wmf"/><Relationship Id="rId7" Type="http://schemas.openxmlformats.org/officeDocument/2006/relationships/audio" Target="../media/REMINDER.WAV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9.xml"/><Relationship Id="rId3" Type="http://schemas.openxmlformats.org/officeDocument/2006/relationships/image" Target="../media/image7.wmf"/><Relationship Id="rId4" Type="http://schemas.openxmlformats.org/officeDocument/2006/relationships/slide" Target="slide31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0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23.xml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audio" Target="../media/REMINDER.WAV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" Target="slide32.xml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audio" Target="../media/REMINDER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3.xml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SN00823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4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23.xml"/><Relationship Id="rId7" Type="http://schemas.openxmlformats.org/officeDocument/2006/relationships/image" Target="../media/image5.wmf"/><Relationship Id="rId8" Type="http://schemas.openxmlformats.org/officeDocument/2006/relationships/slide" Target="slide42.xml"/><Relationship Id="rId9" Type="http://schemas.openxmlformats.org/officeDocument/2006/relationships/image" Target="../media/image3.wmf"/><Relationship Id="rId10" Type="http://schemas.openxmlformats.org/officeDocument/2006/relationships/audio" Target="../media/REMINDER.WAV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slide" Target="slide24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6.xml"/><Relationship Id="rId7" Type="http://schemas.openxmlformats.org/officeDocument/2006/relationships/image" Target="../media/image5.wmf"/><Relationship Id="rId8" Type="http://schemas.openxmlformats.org/officeDocument/2006/relationships/slide" Target="slide37.xml"/><Relationship Id="rId9" Type="http://schemas.openxmlformats.org/officeDocument/2006/relationships/image" Target="../media/image3.wmf"/><Relationship Id="rId10" Type="http://schemas.openxmlformats.org/officeDocument/2006/relationships/audio" Target="../media/REMINDER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7.xml"/><Relationship Id="rId3" Type="http://schemas.openxmlformats.org/officeDocument/2006/relationships/image" Target="../media/image7.wmf"/><Relationship Id="rId4" Type="http://schemas.openxmlformats.org/officeDocument/2006/relationships/slide" Target="slide25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8.xml"/><Relationship Id="rId3" Type="http://schemas.openxmlformats.org/officeDocument/2006/relationships/image" Target="../media/image5.wmf"/><Relationship Id="rId4" Type="http://schemas.openxmlformats.org/officeDocument/2006/relationships/slide" Target="slide23.xml"/><Relationship Id="rId5" Type="http://schemas.openxmlformats.org/officeDocument/2006/relationships/image" Target="../media/image5.wmf"/><Relationship Id="rId6" Type="http://schemas.openxmlformats.org/officeDocument/2006/relationships/slide" Target="slide23.xml"/><Relationship Id="rId7" Type="http://schemas.openxmlformats.org/officeDocument/2006/relationships/image" Target="../media/image5.wmf"/><Relationship Id="rId8" Type="http://schemas.openxmlformats.org/officeDocument/2006/relationships/slide" Target="slide40.xml"/><Relationship Id="rId9" Type="http://schemas.openxmlformats.org/officeDocument/2006/relationships/image" Target="../media/image3.wmf"/><Relationship Id="rId10" Type="http://schemas.openxmlformats.org/officeDocument/2006/relationships/audio" Target="../media/REMINDER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9.xml"/><Relationship Id="rId3" Type="http://schemas.openxmlformats.org/officeDocument/2006/relationships/image" Target="../media/image7.wmf"/><Relationship Id="rId4" Type="http://schemas.openxmlformats.org/officeDocument/2006/relationships/slide" Target="slide26.xml"/><Relationship Id="rId5" Type="http://schemas.openxmlformats.org/officeDocument/2006/relationships/image" Target="../media/image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5.wmf"/><Relationship Id="rId4" Type="http://schemas.openxmlformats.org/officeDocument/2006/relationships/slide" Target="slide10.xml"/><Relationship Id="rId5" Type="http://schemas.openxmlformats.org/officeDocument/2006/relationships/image" Target="../media/image5.wmf"/><Relationship Id="rId6" Type="http://schemas.openxmlformats.org/officeDocument/2006/relationships/slide" Target="slide23.xml"/><Relationship Id="rId7" Type="http://schemas.openxmlformats.org/officeDocument/2006/relationships/image" Target="../media/image5.wmf"/><Relationship Id="rId8" Type="http://schemas.openxmlformats.org/officeDocument/2006/relationships/slide" Target="slide40.xml"/><Relationship Id="rId9" Type="http://schemas.openxmlformats.org/officeDocument/2006/relationships/image" Target="../media/image3.wmf"/><Relationship Id="rId10" Type="http://schemas.openxmlformats.org/officeDocument/2006/relationships/audio" Target="../media/REMINDER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Грамматика французского язы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икторина для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Yvette est très belle. – Oui, mais Julie est </a:t>
            </a: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la plus belle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4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3" name="smile" descr=""/>
          <p:cNvPicPr/>
          <p:nvPr/>
        </p:nvPicPr>
        <p:blipFill>
          <a:blip r:embed="rId1"/>
          <a:stretch/>
        </p:blipFill>
        <p:spPr>
          <a:xfrm>
            <a:off x="4427640" y="371628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537372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27640" y="5373720"/>
            <a:ext cx="746280" cy="7491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6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7afa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7afa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6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’ai préparé de l’eau pour maman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t moi, je préfère ....... jus de fru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d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5. Mets l’article qui convient.  </a:t>
            </a:r>
            <a:br>
              <a:rPr sz="2400"/>
            </a:b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Вставь нужную форму артикля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rId1" action="ppaction://hlinksldjump"/>
          </p:cNvPr>
          <p:cNvSpPr/>
          <p:nvPr/>
        </p:nvSpPr>
        <p:spPr>
          <a:xfrm>
            <a:off x="2627280" y="2781360"/>
            <a:ext cx="43200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3357720"/>
            <a:ext cx="444600" cy="441000"/>
          </a:xfrm>
          <a:prstGeom prst="rect">
            <a:avLst/>
          </a:prstGeom>
          <a:ln w="0">
            <a:noFill/>
          </a:ln>
        </p:spPr>
      </p:pic>
      <p:pic>
        <p:nvPicPr>
          <p:cNvPr id="652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27280" y="465300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627280" y="400536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54" name="j029912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48360" y="4365720"/>
            <a:ext cx="70344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J’ai préparé de l’eau pour maman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et moi, je préfère </a:t>
            </a: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le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jus de fru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5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7" name="smile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58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37372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59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12000" y="5373720"/>
            <a:ext cx="745920" cy="74916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79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79"/>
                            </p:stCondLst>
                            <p:childTnLst>
                              <p:par>
                                <p:cTn id="10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f95c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f95c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6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1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ie, s’il te plaît, achète .......... confiture et un kilo de pom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l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de l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d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6. Mets l’article qui convient.   </a:t>
            </a:r>
            <a:br>
              <a:rPr sz="2400"/>
            </a:b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Вставь нужную форму артикля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2843280" y="2924280"/>
            <a:ext cx="43164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43280" y="357336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66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3280" y="494172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43280" y="422100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68" name="Рисунок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843280" y="558972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69" name="j0299125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732720" y="4508640"/>
            <a:ext cx="703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arie, s’il te plaît, achète </a:t>
            </a: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de la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confiture et un kilo de pomm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6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2" name="smile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73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51664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74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5516640"/>
            <a:ext cx="746280" cy="7491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6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50" autoRev="1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4" dur="250" autoRev="1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5" dur="250" autoRev="1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6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Nous allont visiter la Fra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Ils ont faire leurs devoi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Je vais regarder ce fil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élène va chanté une belle chans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7. Choisis la phrase correcte.  </a:t>
            </a:r>
            <a:br>
              <a:rPr sz="2800"/>
            </a:b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Найди правильное предложение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1" action="ppaction://hlinksldjump"/>
          </p:cNvPr>
          <p:cNvSpPr/>
          <p:nvPr/>
        </p:nvSpPr>
        <p:spPr>
          <a:xfrm>
            <a:off x="971640" y="2133720"/>
            <a:ext cx="43164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292428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81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71640" y="443700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71640" y="364500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83" name="j029912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48360" y="2997360"/>
            <a:ext cx="70344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1" lang="fr-FR" sz="4000" spc="-1" strike="noStrike">
                <a:solidFill>
                  <a:srgbClr val="ff0000"/>
                </a:solidFill>
                <a:latin typeface="Comic Sans MS"/>
              </a:rPr>
              <a:t> vais regarder 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ce fil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utur pro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n score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ntinue ?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quitte le je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7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6" name="smile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87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22936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88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56360" y="5229360"/>
            <a:ext cx="745920" cy="7491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6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79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141" dur="250" autoRev="1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set>
                                      <p:cBhvr>
                                        <p:cTn id="143" dur="250" autoRev="1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mph" presetID="20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102)"/>
                                      </p:to>
                                    </p:se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102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6" dur="1" fill="hold"/>
                                  <p:tgtEl>
                                    <p:spTgt spid="6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TGV est un train .... traverse toute la Fra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qu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o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8. Mets le pronom qui convient.  </a:t>
            </a:r>
            <a:br>
              <a:rPr sz="2800"/>
            </a:b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Вставь подходящее местоимение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1" action="ppaction://hlinksldjump"/>
          </p:cNvPr>
          <p:cNvSpPr/>
          <p:nvPr/>
        </p:nvSpPr>
        <p:spPr>
          <a:xfrm>
            <a:off x="2627280" y="3068640"/>
            <a:ext cx="43200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429264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96" name="j0299125" descr=""/>
          <p:cNvPicPr/>
          <p:nvPr/>
        </p:nvPicPr>
        <p:blipFill>
          <a:blip r:embed="rId6"/>
          <a:stretch/>
        </p:blipFill>
        <p:spPr>
          <a:xfrm>
            <a:off x="6804000" y="3357720"/>
            <a:ext cx="70344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Le TGV est un train </a:t>
            </a: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qui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traverse toute la Fra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8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9" name="smile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66100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5661000"/>
            <a:ext cx="746280" cy="749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6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71" dur="500" autoRev="1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72" dur="500" autoRev="1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6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 parl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à mes ami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e mes vac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Je les parle de mes vac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Je leur parle de mes vac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Je leurs parle de mes vac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Je leur parle de leur vac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9. Trouve la phrase qui correspond bien.  </a:t>
            </a:r>
            <a:br>
              <a:rPr sz="2800"/>
            </a:b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Найди выражение соответствующее данному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rId1" action="ppaction://hlinksldjump"/>
          </p:cNvPr>
          <p:cNvSpPr/>
          <p:nvPr/>
        </p:nvSpPr>
        <p:spPr>
          <a:xfrm>
            <a:off x="971640" y="2852640"/>
            <a:ext cx="431640" cy="4320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350028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708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71640" y="472428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709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71640" y="414972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710" name="j0299125" descr=""/>
          <p:cNvPicPr/>
          <p:nvPr/>
        </p:nvPicPr>
        <p:blipFill>
          <a:blip r:embed="rId8"/>
          <a:stretch/>
        </p:blipFill>
        <p:spPr>
          <a:xfrm>
            <a:off x="7020000" y="3357720"/>
            <a:ext cx="703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Ты уже многому научился, многое умеешь, мы предлагаем тебе проверить себя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Будь уверенным, но не спеши, вспоминай все то, о чем вы говорили на уроках французского язы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Если тебе нужна помощь, воспользуйся грамматическим справочник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Впере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Дорогой друг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9" name="j0299125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527040" cy="863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26445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 leur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arle de mes vaca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n score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ntinue ?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quitte le je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9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3" name="smile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714" name="Рисунок1" descr=""/>
          <p:cNvPicPr/>
          <p:nvPr/>
        </p:nvPicPr>
        <p:blipFill>
          <a:blip r:embed="rId2"/>
          <a:stretch/>
        </p:blipFill>
        <p:spPr>
          <a:xfrm>
            <a:off x="4067280" y="537372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715" name="Рисунок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56360" y="5373720"/>
            <a:ext cx="745920" cy="7491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5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79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79"/>
                            </p:stCondLst>
                            <p:childTnLst>
                              <p:par>
                                <p:cTn id="18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179"/>
                            </p:stCondLst>
                            <p:childTnLst>
                              <p:par>
                                <p:cTn id="194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f95c"/>
                                      </p:to>
                                    </p:animClr>
                                    <p:animClr clrSpc="rgb">
                                      <p:cBhvr>
                                        <p:cTn id="196" dur="250" autoRev="1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f95c"/>
                                      </p:to>
                                    </p:animClr>
                                    <p:set>
                                      <p:cBhvr>
                                        <p:cTn id="197" dur="250" autoRev="1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ançois parl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e son voyage en Russ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à ses am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Il le parle à ses am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Il en parles à ses am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Il leur parle à ses am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Il en parle à ses amis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9. Trouve la phrase qui correspond bien.  </a:t>
            </a:r>
            <a:br>
              <a:rPr sz="2800"/>
            </a:b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Найди выражение соответствующее данному</a:t>
            </a:r>
            <a:r>
              <a:rPr b="1" lang="fr-FR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71640" y="2852640"/>
            <a:ext cx="431640" cy="4320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Рисунок7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722" name="Рисунок7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723" name="Рисунок7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724" name="j0299125" descr=""/>
          <p:cNvPicPr/>
          <p:nvPr/>
        </p:nvPicPr>
        <p:blipFill>
          <a:blip r:embed="rId4"/>
          <a:stretch/>
        </p:blipFill>
        <p:spPr>
          <a:xfrm>
            <a:off x="7020000" y="3357720"/>
            <a:ext cx="703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1672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rançois parle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de son voyage en Russi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à ses am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en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arle à ses am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score f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7" name="smile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728" name="Рисунок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5589720"/>
            <a:ext cx="745920" cy="7491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50" autoRev="1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8" dur="250" autoRev="1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250" autoRev="1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2" dur="1" fill="hold"/>
                                  <p:tgtEl>
                                    <p:spTgt spid="7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971640" y="692280"/>
            <a:ext cx="7129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omic Sans MS"/>
              </a:rPr>
              <a:t>Oh la, la!..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ce n’est pas la bonne 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réponse..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66ff"/>
                </a:solidFill>
                <a:latin typeface="Comic Sans MS"/>
              </a:rPr>
              <a:t>refléchis un peu ou regarde notre précis de grammaire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4" name="AG00317_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1245960" cy="1600200"/>
          </a:xfrm>
          <a:prstGeom prst="rect">
            <a:avLst/>
          </a:prstGeom>
          <a:ln w="0">
            <a:noFill/>
          </a:ln>
        </p:spPr>
      </p:pic>
      <p:sp>
        <p:nvSpPr>
          <p:cNvPr id="735" name="">
            <a:hlinkClick r:id="" action="ppaction://hlinkshowjump?jump=previousslide"/>
          </p:cNvPr>
          <p:cNvSpPr/>
          <p:nvPr/>
        </p:nvSpPr>
        <p:spPr>
          <a:xfrm>
            <a:off x="8028000" y="6093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7493"/>
                </a:moveTo>
                <a:lnTo>
                  <a:pt x="7355" y="7493"/>
                </a:lnTo>
                <a:lnTo>
                  <a:pt x="7355" y="12828"/>
                </a:lnTo>
                <a:cubicBezTo>
                  <a:pt x="7355" y="13751"/>
                  <a:pt x="8156" y="14482"/>
                  <a:pt x="9192" y="14482"/>
                </a:cubicBezTo>
                <a:lnTo>
                  <a:pt x="10854" y="14482"/>
                </a:lnTo>
                <a:cubicBezTo>
                  <a:pt x="11890" y="14482"/>
                  <a:pt x="12691" y="13751"/>
                  <a:pt x="12691" y="12828"/>
                </a:cubicBezTo>
                <a:lnTo>
                  <a:pt x="12691" y="7493"/>
                </a:lnTo>
                <a:lnTo>
                  <a:pt x="10854" y="7493"/>
                </a:lnTo>
                <a:lnTo>
                  <a:pt x="14362" y="3985"/>
                </a:lnTo>
                <a:lnTo>
                  <a:pt x="18035" y="7493"/>
                </a:lnTo>
                <a:lnTo>
                  <a:pt x="16198" y="7493"/>
                </a:lnTo>
                <a:lnTo>
                  <a:pt x="16198" y="12828"/>
                </a:lnTo>
                <a:cubicBezTo>
                  <a:pt x="16198" y="15596"/>
                  <a:pt x="13622" y="18155"/>
                  <a:pt x="10854" y="18155"/>
                </a:cubicBezTo>
                <a:lnTo>
                  <a:pt x="9192" y="18155"/>
                </a:lnTo>
                <a:cubicBezTo>
                  <a:pt x="6424" y="18155"/>
                  <a:pt x="3848" y="15596"/>
                  <a:pt x="3848" y="12828"/>
                </a:cubicBezTo>
                <a:close/>
              </a:path>
            </a:pathLst>
          </a:custGeom>
          <a:solidFill>
            <a:srgbClr val="6666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1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3559 0.04467 L 0.02761 -0.11296 E">
                                      <p:cBhvr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600"/>
                            </p:stCondLst>
                            <p:childTnLst>
                              <p:par>
                                <p:cTn id="23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0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8664" fill="hold"/>
                                        <p:tgtEl>
                                          <p:spTgt spid="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ru-RU" sz="4400" spc="-1" strike="noStrike">
                <a:solidFill>
                  <a:srgbClr val="00ffff"/>
                </a:solidFill>
                <a:latin typeface="Arial Black"/>
              </a:rPr>
              <a:t>2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1979 0.06551 L 0.02761 -0.10625 E">
                                      <p:cBhvr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700"/>
                            </p:stCondLst>
                            <p:childTnLst>
                              <p:par>
                                <p:cTn id="25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0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8664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3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07483 0.13912 L 0.02761 -0.0919 E">
                                      <p:cBhvr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80" dur="500" fill="hold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866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4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276 0.05509 L 0.02761 -0.0919 E">
                                      <p:cBhvr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700"/>
                            </p:stCondLst>
                            <p:childTnLst>
                              <p:par>
                                <p:cTn id="29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0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8664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5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02743 0.10764 L 0.02761 -0.0919 E">
                                      <p:cBhvr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700"/>
                            </p:stCondLst>
                            <p:childTnLst>
                              <p:par>
                                <p:cTn id="31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20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8664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6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05903 0.19167 L 0.02761 -0.0919 E">
                                      <p:cBhvr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700"/>
                            </p:stCondLst>
                            <p:childTnLst>
                              <p:par>
                                <p:cTn id="33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40" dur="500" fill="hold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8664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u n’as rien mangé à l’écol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- Non, je (ne pas avoir) faim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av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n’avais p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n’avait p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n’ai p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1. Choisis la forme correcte du verbe à l’Imparfait.  </a:t>
            </a:r>
            <a:br>
              <a:rPr sz="2400"/>
            </a:b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Выбери подходящую форму глагола в 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Imparfa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2195640" y="2781360"/>
            <a:ext cx="43164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3357720"/>
            <a:ext cx="444240" cy="44100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195640" y="465300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95640" y="400536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598" name="j029912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93080" y="4581360"/>
            <a:ext cx="7030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7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434 0.19167 L 0.02761 -0.0919 E">
                                      <p:cBhvr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00"/>
                            </p:stCondLst>
                            <p:childTnLst>
                              <p:par>
                                <p:cTn id="35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60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8664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8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05903 0.07616 L 0.02761 -0.0919 E">
                                      <p:cBhvr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700"/>
                            </p:stCondLst>
                            <p:childTnLst>
                              <p:par>
                                <p:cTn id="37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80" dur="5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8664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9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 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276 0.09722 L 0.02761 -0.0919 E">
                                      <p:cBhvr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7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700"/>
                            </p:stCondLst>
                            <p:childTnLst>
                              <p:par>
                                <p:cTn id="39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00" dur="5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8664" fill="hold"/>
                                        <p:tgtEl>
                                          <p:spTgt spid="7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Tu as gagné </a:t>
            </a:r>
            <a:r>
              <a:rPr b="1" lang="fr-FR" sz="4400" spc="-1" strike="noStrike">
                <a:solidFill>
                  <a:srgbClr val="00ffff"/>
                </a:solidFill>
                <a:latin typeface="Arial Black"/>
              </a:rPr>
              <a:t>10 </a:t>
            </a:r>
            <a:r>
              <a:rPr b="1" lang="fr-FR" sz="4400" spc="-1" strike="noStrike">
                <a:solidFill>
                  <a:srgbClr val="8f5fd5"/>
                </a:solidFill>
                <a:latin typeface="Arial Black"/>
              </a:rPr>
              <a:t>points !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ccffff"/>
                </a:solidFill>
                <a:latin typeface="Arial Black"/>
              </a:rPr>
              <a:t>BRAVO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Black"/>
              </a:rPr>
              <a:t>Au revoir!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01962 0.20208 L 0.02761 -0.0919 E">
                                      <p:cBhvr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800"/>
                            </p:stCondLst>
                            <p:childTnLst>
                              <p:par>
                                <p:cTn id="4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8664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200"/>
                            </p:stCondLst>
                            <p:childTnLst>
                              <p:par>
                                <p:cTn id="42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e8ac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29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8664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1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7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bf95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ru-RU" sz="2800" spc="-1" strike="noStrike">
                <a:solidFill>
                  <a:srgbClr val="e4005c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Article parti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ru-RU" sz="2800" spc="-1" strike="noStrike">
                <a:solidFill>
                  <a:srgbClr val="e4005c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Pronom – complément d’obje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Pronom – complément d’objet in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Pronom </a:t>
            </a:r>
            <a:r>
              <a:rPr b="1" i="1" lang="fr-FR" sz="2800" spc="-1" strike="noStrike">
                <a:solidFill>
                  <a:srgbClr val="e4005c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Pronom rel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Degrés de comparaison des ad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Futur pr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4005c"/>
                </a:solidFill>
                <a:latin typeface="Arial"/>
                <a:ea typeface="Arial"/>
              </a:rPr>
              <a:t>■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e4005c"/>
                </a:solidFill>
                <a:latin typeface="Arial"/>
              </a:rPr>
              <a:t>Impar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j0299125" descr=""/>
          <p:cNvPicPr/>
          <p:nvPr/>
        </p:nvPicPr>
        <p:blipFill>
          <a:blip r:embed="rId1"/>
          <a:stretch/>
        </p:blipFill>
        <p:spPr>
          <a:xfrm>
            <a:off x="7800840" y="404640"/>
            <a:ext cx="703440" cy="11527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339640" y="1197000"/>
            <a:ext cx="6165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4005c"/>
                </a:solidFill>
                <a:latin typeface="Arial"/>
              </a:rPr>
              <a:t>Article partitif</a:t>
            </a:r>
            <a:r>
              <a:rPr b="1" lang="ru-RU" sz="1800" spc="-1" strike="noStrike">
                <a:solidFill>
                  <a:srgbClr val="e4005c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e4005c"/>
                </a:solidFill>
                <a:latin typeface="Arial"/>
              </a:rPr>
              <a:t>Частичный  артик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2268360" y="1699920"/>
            <a:ext cx="657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бозначения неопределенного количества какого-нибудь вещества 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ом языке употребляется специальная форма артикля –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l’article partiti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4005c"/>
                </a:solidFill>
                <a:latin typeface="Arial"/>
              </a:rPr>
              <a:t>d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 существительными мужского 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4005c"/>
                </a:solidFill>
                <a:latin typeface="Arial"/>
              </a:rPr>
              <a:t>de la</a:t>
            </a:r>
            <a:r>
              <a:rPr b="1" lang="ru-RU" sz="14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 существительными женского 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4005c"/>
                </a:solidFill>
                <a:latin typeface="Arial"/>
              </a:rPr>
              <a:t>de l’</a:t>
            </a:r>
            <a:r>
              <a:rPr b="1" lang="ru-RU" sz="14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 существительными мужского и женского рода, начинающимися на гласную или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assez-moi du sel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Donnez-moi de la vian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pportez-moi de l’eau miné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трицательной форме частичный артикль заменяется предлогом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ous n’avons pas  de sal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ous n’avons pas  de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ous n’avons pas d’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лаголов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imer, adorer; préférer; détester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гда употребляется определенный артикль. В отрицательной форме он сохран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J’aime le beurre et le fro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Je n’aime pas la vian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j0299125" descr=""/>
          <p:cNvPicPr/>
          <p:nvPr/>
        </p:nvPicPr>
        <p:blipFill>
          <a:blip r:embed="rId1"/>
          <a:stretch/>
        </p:blipFill>
        <p:spPr>
          <a:xfrm>
            <a:off x="7800840" y="404640"/>
            <a:ext cx="703440" cy="1152720"/>
          </a:xfrm>
          <a:prstGeom prst="rect">
            <a:avLst/>
          </a:prstGeom>
          <a:ln w="0">
            <a:noFill/>
          </a:ln>
        </p:spPr>
      </p:pic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340000" y="981000"/>
            <a:ext cx="6237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4005c"/>
                </a:solidFill>
                <a:latin typeface="Arial"/>
              </a:rPr>
              <a:t>Pronom – complément d’objet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Местоимение – прямое 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626920" y="1844280"/>
            <a:ext cx="6211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е дополнение в предложении может быть представлено в форме личного местои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j0299125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7034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9" name=""/>
          <p:cNvGraphicFramePr/>
          <p:nvPr/>
        </p:nvGraphicFramePr>
        <p:xfrm>
          <a:off x="4067280" y="2565360"/>
          <a:ext cx="2232000" cy="1004760"/>
        </p:xfrm>
        <a:graphic>
          <a:graphicData uri="http://schemas.openxmlformats.org/drawingml/2006/table">
            <a:tbl>
              <a:tblPr/>
              <a:tblGrid>
                <a:gridCol w="1223640"/>
                <a:gridCol w="10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me, m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n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te, t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v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le, la, l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700360" y="3573360"/>
            <a:ext cx="6211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0" i="1" lang="fr-FR" sz="1600" spc="-1" strike="noStrike">
                <a:solidFill>
                  <a:srgbClr val="8c0039"/>
                </a:solidFill>
                <a:latin typeface="Arial"/>
              </a:rPr>
              <a:t>m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’entend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Mais oui, je </a:t>
            </a:r>
            <a:r>
              <a:rPr b="0" i="1" lang="fr-FR" sz="1600" spc="-1" strike="noStrike">
                <a:solidFill>
                  <a:srgbClr val="e4005c"/>
                </a:solidFill>
                <a:latin typeface="Arial"/>
              </a:rPr>
              <a:t>t’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ntends bi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u regardes </a:t>
            </a:r>
            <a:r>
              <a:rPr b="0" i="1" lang="fr-FR" sz="1600" spc="-1" strike="noStrike">
                <a:solidFill>
                  <a:srgbClr val="8c0039"/>
                </a:solidFill>
                <a:latin typeface="Arial"/>
              </a:rPr>
              <a:t>ce film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Non, je ne </a:t>
            </a:r>
            <a:r>
              <a:rPr b="0" i="1" lang="fr-FR" sz="1600" spc="-1" strike="noStrike">
                <a:solidFill>
                  <a:srgbClr val="e4005c"/>
                </a:solidFill>
                <a:latin typeface="Arial"/>
              </a:rPr>
              <a:t>l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regard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a grand-mère </a:t>
            </a:r>
            <a:r>
              <a:rPr b="0" i="1" lang="fr-FR" sz="1600" spc="-1" strike="noStrike">
                <a:solidFill>
                  <a:srgbClr val="8c0039"/>
                </a:solidFill>
                <a:latin typeface="Arial"/>
              </a:rPr>
              <a:t>nous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att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Bien sûr, elle </a:t>
            </a:r>
            <a:r>
              <a:rPr b="0" i="1" lang="fr-FR" sz="1600" spc="-1" strike="noStrike">
                <a:solidFill>
                  <a:srgbClr val="e4005c"/>
                </a:solidFill>
                <a:latin typeface="Arial"/>
              </a:rPr>
              <a:t>vous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atten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u donnes </a:t>
            </a:r>
            <a:r>
              <a:rPr b="0" i="1" lang="fr-FR" sz="1600" spc="-1" strike="noStrike">
                <a:solidFill>
                  <a:srgbClr val="8c0039"/>
                </a:solidFill>
                <a:latin typeface="Arial"/>
              </a:rPr>
              <a:t>ces livres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à Mari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Non, je </a:t>
            </a:r>
            <a:r>
              <a:rPr b="0" i="1" lang="fr-FR" sz="1600" spc="-1" strike="noStrike">
                <a:solidFill>
                  <a:srgbClr val="e4005c"/>
                </a:solidFill>
                <a:latin typeface="Arial"/>
              </a:rPr>
              <a:t>les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donne à Isab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11480" indent="-82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1480" indent="-82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553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4005c"/>
                </a:solidFill>
                <a:latin typeface="Arial"/>
              </a:rPr>
              <a:t>Pronom – complément d’objet indirect – </a:t>
            </a:r>
            <a:r>
              <a:rPr b="1" lang="ru-RU" sz="20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Местоимение – косвенное  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2268360" y="1773360"/>
            <a:ext cx="6570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ое дополнение может быть представлено в форме личного местои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aman, pourrais-tu </a:t>
            </a:r>
            <a:r>
              <a:rPr b="0" i="1" lang="fr-FR" sz="1600" spc="-1" strike="noStrike" u="sng">
                <a:solidFill>
                  <a:srgbClr val="8c0039"/>
                </a:solidFill>
                <a:uFillTx/>
                <a:latin typeface="Arial"/>
              </a:rPr>
              <a:t>m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’acheter un nouveau feut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D’accord, je pourrais </a:t>
            </a:r>
            <a:r>
              <a:rPr b="0" i="1" lang="fr-FR" sz="1600" spc="-1" strike="noStrike">
                <a:solidFill>
                  <a:srgbClr val="e4005c"/>
                </a:solidFill>
                <a:latin typeface="Arial"/>
              </a:rPr>
              <a:t>t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cheter  des feutres aprè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on trav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us demandons </a:t>
            </a:r>
            <a:r>
              <a:rPr b="0" i="1" lang="fr-FR" sz="1600" spc="-1" strike="noStrike" u="sng">
                <a:solidFill>
                  <a:srgbClr val="8c0039"/>
                </a:solidFill>
                <a:uFillTx/>
                <a:latin typeface="Arial"/>
              </a:rPr>
              <a:t>à Nicolas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de faire la vaissel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 Non, on </a:t>
            </a:r>
            <a:r>
              <a:rPr b="1" i="1" lang="fr-FR" sz="1600" spc="-1" strike="noStrike">
                <a:solidFill>
                  <a:srgbClr val="e4005c"/>
                </a:solidFill>
                <a:latin typeface="Arial"/>
              </a:rPr>
              <a:t>lui</a:t>
            </a:r>
            <a:r>
              <a:rPr b="0" i="1" lang="fr-FR" sz="16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mande de préparer le gâteau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nne donne </a:t>
            </a:r>
            <a:r>
              <a:rPr b="0" i="1" lang="fr-FR" sz="1600" spc="-1" strike="noStrike" u="sng">
                <a:solidFill>
                  <a:srgbClr val="8c0039"/>
                </a:solidFill>
                <a:uFillTx/>
                <a:latin typeface="Arial"/>
              </a:rPr>
              <a:t>à sa s</a:t>
            </a:r>
            <a:r>
              <a:rPr b="0" i="1" lang="en-US" sz="1600" spc="-1" strike="noStrike" u="sng">
                <a:solidFill>
                  <a:srgbClr val="8c0039"/>
                </a:solidFill>
                <a:uFillTx/>
                <a:latin typeface="Arial"/>
                <a:ea typeface="Arial"/>
              </a:rPr>
              <a:t>œ</a:t>
            </a:r>
            <a:r>
              <a:rPr b="0" i="1" lang="fr-FR" sz="1600" spc="-1" strike="noStrike" u="sng">
                <a:solidFill>
                  <a:srgbClr val="8c0039"/>
                </a:solidFill>
                <a:uFillTx/>
                <a:latin typeface="Arial"/>
              </a:rPr>
              <a:t>ur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5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€ ?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Oui, elle </a:t>
            </a:r>
            <a:r>
              <a:rPr b="1" i="1" lang="fr-FR" sz="1600" spc="-1" strike="noStrike">
                <a:solidFill>
                  <a:srgbClr val="e4005c"/>
                </a:solidFill>
                <a:latin typeface="Arial"/>
              </a:rPr>
              <a:t>lui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onne 5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€  pour acheter des timb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Qu’est-ce que tu as offert </a:t>
            </a:r>
            <a:r>
              <a:rPr b="0" i="1" lang="fr-FR" sz="1600" spc="-1" strike="noStrike" u="sng">
                <a:solidFill>
                  <a:srgbClr val="8c0039"/>
                </a:solidFill>
                <a:uFillTx/>
                <a:latin typeface="Arial"/>
                <a:ea typeface="Arial"/>
              </a:rPr>
              <a:t>à tes grands-parents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Je </a:t>
            </a:r>
            <a:r>
              <a:rPr b="1" i="1" lang="fr-FR" sz="1600" spc="-1" strike="noStrike">
                <a:solidFill>
                  <a:srgbClr val="e4005c"/>
                </a:solidFill>
                <a:latin typeface="Arial"/>
                <a:ea typeface="Arial"/>
              </a:rPr>
              <a:t>leur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i offert des fleurs et un album de photos.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j0299125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70308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6" name=""/>
          <p:cNvGraphicFramePr/>
          <p:nvPr/>
        </p:nvGraphicFramePr>
        <p:xfrm>
          <a:off x="3924360" y="2421000"/>
          <a:ext cx="2879640" cy="107928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me, m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n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te, t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v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7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2373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4005c"/>
                </a:solidFill>
                <a:latin typeface="Arial"/>
              </a:rPr>
              <a:t>Pronom </a:t>
            </a:r>
            <a:r>
              <a:rPr b="1" i="1" lang="fr-FR" sz="2800" spc="-1" strike="noStrike">
                <a:solidFill>
                  <a:srgbClr val="8c0039"/>
                </a:solidFill>
                <a:latin typeface="Arial"/>
              </a:rPr>
              <a:t>en</a:t>
            </a:r>
            <a:r>
              <a:rPr b="1" i="1" lang="ru-RU" sz="2800" spc="-1" strike="noStrike">
                <a:solidFill>
                  <a:srgbClr val="e4005c"/>
                </a:solidFill>
                <a:latin typeface="Arial"/>
              </a:rPr>
              <a:t> – Местоимение</a:t>
            </a:r>
            <a:r>
              <a:rPr b="1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8c0039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626920" y="2276280"/>
            <a:ext cx="6211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имение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редложении может заме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ительное с предлогом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Je parl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cette visite à mes amis. – J’en parle à mes a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ительное с частичным артик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e mange de la purée. – J’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m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ительное, которому предшествует количественное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’achète cinq stylos. – J’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chète cin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j0299125" descr=""/>
          <p:cNvPicPr/>
          <p:nvPr/>
        </p:nvPicPr>
        <p:blipFill>
          <a:blip r:embed="rId1"/>
          <a:stretch/>
        </p:blipFill>
        <p:spPr>
          <a:xfrm>
            <a:off x="7800840" y="404640"/>
            <a:ext cx="703440" cy="1152720"/>
          </a:xfrm>
          <a:prstGeom prst="rect">
            <a:avLst/>
          </a:prstGeom>
          <a:ln w="0">
            <a:noFill/>
          </a:ln>
        </p:spPr>
      </p:pic>
      <p:sp>
        <p:nvSpPr>
          <p:cNvPr id="792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7920" y="1125000"/>
            <a:ext cx="638172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4005c"/>
                </a:solidFill>
                <a:latin typeface="Arial"/>
              </a:rPr>
              <a:t>Pronom relatif</a:t>
            </a:r>
            <a:r>
              <a:rPr b="1" lang="ru-RU" sz="2000" spc="-1" strike="noStrike">
                <a:solidFill>
                  <a:srgbClr val="e4005c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Относи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484000" y="1916280"/>
            <a:ext cx="6364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е местоимение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няет в придаточном предложении подлежащ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ets le journal sur la table.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chaise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st devant la fenêt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ets le journal sur la chais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st devant la fenêt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Regarde le chat.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e chat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mia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Regarde le chat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ia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Une femme parle à Michel.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ette femme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est profeseur de frança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 femm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arle à Michel est professeur de françai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е местоимение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няет в придаточном предложении прямое дополн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’ai perdu un crayon. J’ai acheté ce crayon hi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’ai perdu le crayo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’ai acheté h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Un clown était amusant. Nous avons vu ce clown au cir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clow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us avons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vu au cirque était amus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j0299125" descr=""/>
          <p:cNvPicPr/>
          <p:nvPr/>
        </p:nvPicPr>
        <p:blipFill>
          <a:blip r:embed="rId1"/>
          <a:stretch/>
        </p:blipFill>
        <p:spPr>
          <a:xfrm>
            <a:off x="7800840" y="404640"/>
            <a:ext cx="703440" cy="115272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900000" y="2136240"/>
            <a:ext cx="69408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u n’as rien mangé à l’éco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Non, je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n’avais pa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fai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1 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1" name="smile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66100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5661000"/>
            <a:ext cx="746280" cy="7491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autoRev="1" fill="hold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59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2268000" y="1628640"/>
            <a:ext cx="6696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авнительная степень прилагательных образуется при помощи слов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более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oin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енее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такой же) и формы прилагательного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lus grand – plus grands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lus grande – plus gr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moins chaud – moins chauds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moins chaude – moins cha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ussi long – aussi longs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ussi longue – aussi l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ая часть сравнения присоединяется союзом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qu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ins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rande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 cous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s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осходная степень образуется при помощи определенного артикля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, la, le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лов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us, moin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 plus intéressant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– самый интерес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 moins intéressa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– самый неинтересный (наименее интерес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s plus intéressant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– самые интере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s moins intéressant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– самые неинтересные (наименее интерес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агательное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o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собые формы степеней срав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bon – meilleur – le meill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bons – meilleurs – les meill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bonne – meilleure – la meille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bonnes – meilleures – les meille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2410920" y="907560"/>
            <a:ext cx="63817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4005c"/>
                </a:solidFill>
                <a:latin typeface="Arial"/>
              </a:rPr>
              <a:t>Degrés de comparaison des adjectifs</a:t>
            </a:r>
            <a:r>
              <a:rPr b="1" lang="ru-RU" sz="2000" spc="-1" strike="noStrike">
                <a:solidFill>
                  <a:srgbClr val="e4005c"/>
                </a:solidFill>
                <a:latin typeface="Arial"/>
              </a:rPr>
              <a:t> – </a:t>
            </a:r>
            <a:r>
              <a:rPr b="1" lang="fr-FR" sz="20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Степени сравнения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987640" y="3860640"/>
            <a:ext cx="2890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987640" y="3789360"/>
            <a:ext cx="36036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3780000" y="3213000"/>
            <a:ext cx="360360" cy="360360"/>
            <a:chOff x="3780000" y="3213000"/>
            <a:chExt cx="360360" cy="360360"/>
          </a:xfrm>
        </p:grpSpPr>
        <p:sp>
          <p:nvSpPr>
            <p:cNvPr id="804" name=""/>
            <p:cNvSpPr/>
            <p:nvPr/>
          </p:nvSpPr>
          <p:spPr>
            <a:xfrm flipV="1">
              <a:off x="3780000" y="3213000"/>
              <a:ext cx="3603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80000" y="342900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80000" y="3429000"/>
              <a:ext cx="360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7" name="j0299125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703440" cy="1152360"/>
          </a:xfrm>
          <a:prstGeom prst="rect">
            <a:avLst/>
          </a:prstGeom>
          <a:ln w="0">
            <a:noFill/>
          </a:ln>
        </p:spPr>
      </p:pic>
      <p:sp>
        <p:nvSpPr>
          <p:cNvPr id="808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339640" y="907920"/>
            <a:ext cx="6381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4005c"/>
                </a:solidFill>
                <a:latin typeface="Arial"/>
              </a:rPr>
              <a:t>Futur proche – </a:t>
            </a:r>
            <a:r>
              <a:rPr b="1" i="1" lang="ru-RU" sz="2000" spc="-1" strike="noStrike">
                <a:solidFill>
                  <a:srgbClr val="e4005c"/>
                </a:solidFill>
                <a:latin typeface="Arial"/>
              </a:rPr>
              <a:t>Ближайшее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2484360" y="1412640"/>
            <a:ext cx="635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говорить о действиях, которые должны совершиться в ближайшем будущем, во французском языке существует специальная форма будущего времени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Futur proch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vai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regarder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 tél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vas dessiner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la Tour Eiff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va acheter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des fleurs pour sa mè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va chanter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cette chanson ensem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allons aider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maman à faire ce gâtea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allez envoyer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cette lettre ce so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Ils </a:t>
            </a:r>
            <a:r>
              <a:rPr b="0" i="1" lang="fr-FR" sz="1400" spc="-1" strike="noStrike">
                <a:solidFill>
                  <a:srgbClr val="e4005c"/>
                </a:solidFill>
                <a:latin typeface="Arial"/>
              </a:rPr>
              <a:t>vont visiter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toute la Fr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русский язык глаголы в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Futur proch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могут переводиться по-разно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Я сейчас буду смотреть телевиз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ы собираешься нарисовать Эйфелеву башн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купит цветы для ма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j0299125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703440" cy="11523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348000" y="328464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76720" y="2492280"/>
            <a:ext cx="3887640" cy="576360"/>
          </a:xfrm>
          <a:prstGeom prst="rect">
            <a:avLst/>
          </a:prstGeom>
          <a:noFill/>
          <a:ln cap="rnd" w="28440">
            <a:solidFill>
              <a:srgbClr val="66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erbe </a:t>
            </a:r>
            <a:r>
              <a:rPr b="0" lang="fr-FR" sz="2000" spc="-1" strike="noStrike">
                <a:solidFill>
                  <a:srgbClr val="e4005c"/>
                </a:solidFill>
                <a:latin typeface="Arial"/>
              </a:rPr>
              <a:t>ALL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+ verbe conjugu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 prés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à l’infini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j0299125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03080" cy="115236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c0039"/>
                </a:solidFill>
                <a:latin typeface="Arial"/>
              </a:rPr>
              <a:t>Précis de grammai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339640" y="1052640"/>
            <a:ext cx="6381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4005c"/>
                </a:solidFill>
                <a:latin typeface="Arial"/>
              </a:rPr>
              <a:t>Imparfait</a:t>
            </a:r>
            <a:r>
              <a:rPr b="1" lang="ru-RU" sz="2400" spc="-1" strike="noStrike">
                <a:solidFill>
                  <a:srgbClr val="e4005c"/>
                </a:solidFill>
                <a:latin typeface="Arial"/>
              </a:rPr>
              <a:t> - </a:t>
            </a:r>
            <a:r>
              <a:rPr b="1" i="1" lang="ru-RU" sz="2400" spc="-1" strike="noStrike">
                <a:solidFill>
                  <a:srgbClr val="e4005c"/>
                </a:solidFill>
                <a:latin typeface="Arial"/>
              </a:rPr>
              <a:t>Прошедшее незаконч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2268360" y="1699920"/>
            <a:ext cx="657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рассказать о событиях, которые происходили в прошлом, чтобы описать их  во французском языке существует специальная форма прошедшего времени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mparfai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egarder       nous regard</a:t>
            </a:r>
            <a:r>
              <a:rPr b="0" i="1" lang="fr-FR" sz="2000" spc="-1" strike="noStrike">
                <a:solidFill>
                  <a:srgbClr val="660066"/>
                </a:solidFill>
                <a:latin typeface="Arial"/>
              </a:rPr>
              <a:t>ons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egard + 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ais  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     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ais    iez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     ait    a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Je pren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ais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oujours mon déjeuner à mi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Que lis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ais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-tu en été?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Hier, il fais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ait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ès ch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haque jour, nous regard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ions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es mêmes émissions sur  T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ous ét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iez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n France en septemb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es enfants s’amus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aient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ans leur chambre.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         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         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            </a:t>
            </a:r>
            <a:r>
              <a:rPr b="0" i="1" lang="fr-FR" sz="1800" spc="-1" strike="noStrike">
                <a:solidFill>
                  <a:srgbClr val="e4005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148000" y="2852640"/>
            <a:ext cx="431640" cy="432000"/>
            <a:chOff x="5148000" y="2852640"/>
            <a:chExt cx="431640" cy="432000"/>
          </a:xfrm>
        </p:grpSpPr>
        <p:sp>
          <p:nvSpPr>
            <p:cNvPr id="821" name=""/>
            <p:cNvSpPr/>
            <p:nvPr/>
          </p:nvSpPr>
          <p:spPr>
            <a:xfrm>
              <a:off x="5219640" y="2924280"/>
              <a:ext cx="28692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148000" y="2852640"/>
              <a:ext cx="43164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348000" y="2997360"/>
            <a:ext cx="432000" cy="217440"/>
          </a:xfrm>
          <a:custGeom>
            <a:avLst/>
            <a:gdLst>
              <a:gd name="textAreaLeft" fmla="*/ 54000 w 432000"/>
              <a:gd name="textAreaRight" fmla="*/ 378000 w 432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651640" y="2997360"/>
            <a:ext cx="431640" cy="215640"/>
          </a:xfrm>
          <a:custGeom>
            <a:avLst/>
            <a:gdLst>
              <a:gd name="textAreaLeft" fmla="*/ 54000 w 431640"/>
              <a:gd name="textAreaRight" fmla="*/ 378000 w 431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us téléphonon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à nos ami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ce so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us ............ téléphonons ce so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’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2. Remplace les mots soulignés par des pronoms personnels.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  </a:t>
            </a:r>
            <a:br>
              <a:rPr sz="2400"/>
            </a:b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Замени подчеркнутые слова на подходящее местоимение</a:t>
            </a: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rId1" action="ppaction://hlinksldjump"/>
          </p:cNvPr>
          <p:cNvSpPr/>
          <p:nvPr/>
        </p:nvSpPr>
        <p:spPr>
          <a:xfrm>
            <a:off x="2627280" y="2781360"/>
            <a:ext cx="43200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3357720"/>
            <a:ext cx="444600" cy="44100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27280" y="465300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627280" y="4005360"/>
            <a:ext cx="444600" cy="441360"/>
          </a:xfrm>
          <a:prstGeom prst="rect">
            <a:avLst/>
          </a:prstGeom>
          <a:ln w="0">
            <a:noFill/>
          </a:ln>
        </p:spPr>
      </p:pic>
      <p:pic>
        <p:nvPicPr>
          <p:cNvPr id="612" name="j029912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48360" y="4581360"/>
            <a:ext cx="70344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us téléphonons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à nos ami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ce so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leu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téléphonons ce so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2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5" name="smile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44500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5445000"/>
            <a:ext cx="746280" cy="7495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25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61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climat en France est ............. qu’en Russ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moins dou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lus dou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e plus dou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e moins dou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3. Choisis la forme correcte de l’adjectif.  </a:t>
            </a:r>
            <a:br>
              <a:rPr sz="2400"/>
            </a:b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Подбери правильную форму прилагательного 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>
            <a:hlinkClick r:id="rId1" action="ppaction://hlinksldjump"/>
          </p:cNvPr>
          <p:cNvSpPr/>
          <p:nvPr/>
        </p:nvSpPr>
        <p:spPr>
          <a:xfrm>
            <a:off x="2195640" y="2781360"/>
            <a:ext cx="43164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3357720"/>
            <a:ext cx="444240" cy="4410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195640" y="465300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95640" y="400536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26" name="j029912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93080" y="3933720"/>
            <a:ext cx="7030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417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Le climat en France est </a:t>
            </a: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plus doux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qu’en Russi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n score: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continue ?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quitte le jeu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0101"/>
                </a:solidFill>
                <a:latin typeface="Comic Sans MS"/>
              </a:rPr>
              <a:t>3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03dff"/>
                </a:solidFill>
                <a:latin typeface="Comic Sans MS"/>
              </a:rPr>
              <a:t>Bravo! Tu as bien choisi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9" name="smile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1871640" cy="1522440"/>
          </a:xfrm>
          <a:prstGeom prst="rect">
            <a:avLst/>
          </a:prstGeom>
          <a:ln w="0">
            <a:noFill/>
          </a:ln>
        </p:spPr>
      </p:pic>
      <p:pic>
        <p:nvPicPr>
          <p:cNvPr id="630" name="Рисунок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5516640"/>
            <a:ext cx="752400" cy="7714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5516640"/>
            <a:ext cx="746280" cy="749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6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79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79"/>
                            </p:stCondLst>
                            <p:childTnLst>
                              <p:par>
                                <p:cTn id="6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50" autoRev="1" fill="hold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f95c"/>
                                      </p:to>
                                    </p:animClr>
                                    <p:animClr clrSpc="rgb">
                                      <p:cBhvr>
                                        <p:cTn id="63" dur="250" autoRev="1" fill="hold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f95c"/>
                                      </p:to>
                                    </p:animClr>
                                    <p:set>
                                      <p:cBhvr>
                                        <p:cTn id="64" dur="250" autoRev="1" fill="hold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6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Yvette est très belle. – Oui, mais Julie est ............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a plus bel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lus be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a plus be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la plus be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4. Choisis la forme correcte du superlatif.  </a:t>
            </a:r>
            <a:br>
              <a:rPr sz="2400"/>
            </a:b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-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Подбери правильную форму превосходной степени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133200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1" action="ppaction://hlinksldjump"/>
          </p:cNvPr>
          <p:cNvSpPr/>
          <p:nvPr/>
        </p:nvSpPr>
        <p:spPr>
          <a:xfrm>
            <a:off x="2195640" y="2781360"/>
            <a:ext cx="431640" cy="431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Рисунок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3357720"/>
            <a:ext cx="444240" cy="4410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195640" y="465300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95640" y="4005360"/>
            <a:ext cx="444240" cy="441360"/>
          </a:xfrm>
          <a:prstGeom prst="rect">
            <a:avLst/>
          </a:prstGeom>
          <a:ln w="0">
            <a:noFill/>
          </a:ln>
        </p:spPr>
      </p:pic>
      <p:pic>
        <p:nvPicPr>
          <p:cNvPr id="640" name="j029912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77080" y="4149720"/>
            <a:ext cx="703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6:57:19Z</dcterms:created>
  <dc:creator>Advanced</dc:creator>
  <dc:description/>
  <dc:language>en-US</dc:language>
  <cp:lastModifiedBy>Advanced</cp:lastModifiedBy>
  <dcterms:modified xsi:type="dcterms:W3CDTF">2005-03-31T21:15:02Z</dcterms:modified>
  <cp:revision>61</cp:revision>
  <dc:subject/>
  <dc:title>Грамматика французского языка</dc:title>
</cp:coreProperties>
</file>