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49C-4EF6-4A41-994A-D1F082C2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647-EB51-47D8-AFBC-6DB5411A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45F-E11B-4C1C-AFBB-A945BB75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B70-2FA0-4BFC-B051-0F339DBF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53C-D355-4D2C-AC18-DBB6CA5D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861-C46E-4E77-9723-0E04E49B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1D1-CF86-4521-A58B-980A90B1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CE2-ED50-4A52-9EE6-7019847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86C-1C6F-4154-B27B-83680B88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EC7-CF7B-41BF-9206-F3972270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00F-667B-4A19-BF6D-BE52E3D4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473-1815-4E5C-AC71-870304A7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2CD1-856C-4D6A-9AE6-EE36C4D01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AND BODY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1000015"/>
          <p:cNvPicPr/>
          <p:nvPr/>
        </p:nvPicPr>
        <p:blipFill>
          <a:blip r:embed="rId1"/>
          <a:stretch/>
        </p:blipFill>
        <p:spPr>
          <a:xfrm>
            <a:off x="762120" y="11430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DRINKING ALCOH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4" descr="dsad18.jpg"/>
          <p:cNvPicPr/>
          <p:nvPr/>
        </p:nvPicPr>
        <p:blipFill>
          <a:blip r:embed="rId1"/>
          <a:stretch/>
        </p:blipFill>
        <p:spPr>
          <a:xfrm>
            <a:off x="228600" y="1905120"/>
            <a:ext cx="3351240" cy="25160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BADKITTY.JPG"/>
          <p:cNvPicPr/>
          <p:nvPr/>
        </p:nvPicPr>
        <p:blipFill>
          <a:blip r:embed="rId2"/>
          <a:stretch/>
        </p:blipFill>
        <p:spPr>
          <a:xfrm>
            <a:off x="4529160" y="3692520"/>
            <a:ext cx="4614840" cy="316548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4786200" y="1285920"/>
            <a:ext cx="4357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kin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кожа)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un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clothes sm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peech unclear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речь неяс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 whol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214200" y="4643280"/>
            <a:ext cx="43578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 headache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головная бо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heart disease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(болезнь серд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low reactions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(замедленная реак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loss of memory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(потеря памят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TAKING DRUG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4" descr="nark.jpg"/>
          <p:cNvPicPr/>
          <p:nvPr/>
        </p:nvPicPr>
        <p:blipFill>
          <a:blip r:embed="rId1"/>
          <a:stretch/>
        </p:blipFill>
        <p:spPr>
          <a:xfrm>
            <a:off x="0" y="1523880"/>
            <a:ext cx="3124080" cy="313236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5" descr="474604.big.jpg"/>
          <p:cNvPicPr/>
          <p:nvPr/>
        </p:nvPicPr>
        <p:blipFill>
          <a:blip r:embed="rId2"/>
          <a:stretch/>
        </p:blipFill>
        <p:spPr>
          <a:xfrm>
            <a:off x="6129360" y="2643120"/>
            <a:ext cx="3014640" cy="421488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1"/>
          <p:cNvSpPr/>
          <p:nvPr/>
        </p:nvSpPr>
        <p:spPr>
          <a:xfrm>
            <a:off x="3214800" y="1500120"/>
            <a:ext cx="28573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brain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мозг)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centres sle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blood (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ровь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heart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brain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low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loss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357120" y="4643280"/>
            <a:ext cx="28576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 whole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вся)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your knowledge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(зн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your social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RAZY QUESTIONS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How do we call “the front of the neck 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n organ in the mouth used for tasting, swallowing or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g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The right food keeps you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Users\Джулета\Desktop\СМАЙЛИКИ\QUESTIONS.jpg"/>
          <p:cNvPicPr/>
          <p:nvPr/>
        </p:nvPicPr>
        <p:blipFill>
          <a:blip r:embed="rId1"/>
          <a:stretch/>
        </p:blipFill>
        <p:spPr>
          <a:xfrm>
            <a:off x="5334120" y="4419720"/>
            <a:ext cx="3632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9" dur="250" autoRev="1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0" dur="250" autoRev="1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1" dur="250" autoRev="1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RAZY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837720"/>
            <a:ext cx="8839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Never …to keep 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Users\Джулета\Desktop\СМАЙЛИКИ\QUESTIONS.jpg"/>
          <p:cNvPicPr/>
          <p:nvPr/>
        </p:nvPicPr>
        <p:blipFill>
          <a:blip r:embed="rId1"/>
          <a:stretch/>
        </p:blipFill>
        <p:spPr>
          <a:xfrm>
            <a:off x="5334120" y="4419720"/>
            <a:ext cx="3632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7" dur="250" autoRev="1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8" dur="250" autoRev="1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9" dur="250" autoRev="1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"/>
              </a:rPr>
              <a:t>Jokes</a:t>
            </a:r>
            <a:r>
              <a:rPr b="1" i="1" lang="ru-RU" sz="8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828440"/>
            <a:ext cx="9144000" cy="899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ay he left no money!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You see he lost his health trying to get wealthy, and then he lost his wealth trying to get health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Джулета\Desktop\СМАЙЛИКИ\SMILE.jpg"/>
          <p:cNvPicPr/>
          <p:nvPr/>
        </p:nvPicPr>
        <p:blipFill>
          <a:blip r:embed="rId1"/>
          <a:stretch/>
        </p:blipFill>
        <p:spPr>
          <a:xfrm>
            <a:off x="6781680" y="762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OKES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903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, mother, I feel s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he doctor. Quick, quick, qu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tor, doctor, shall I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my dear. And so sha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: I’m in love with you. I don’t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:  You won’t. The doctor sa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ssing me, and he’s in love with me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: I’m in love with you. I don’t want to get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Users\Джулета\Desktop\СМАЙЛИКИ\SMILE.jpg"/>
          <p:cNvPicPr/>
          <p:nvPr/>
        </p:nvPicPr>
        <p:blipFill>
          <a:blip r:embed="rId1"/>
          <a:stretch/>
        </p:blipFill>
        <p:spPr>
          <a:xfrm>
            <a:off x="701028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057400" y="152280"/>
            <a:ext cx="556272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52280" y="1828800"/>
            <a:ext cx="1447920" cy="838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752480" y="1828800"/>
            <a:ext cx="1447920" cy="838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276720" y="1828800"/>
            <a:ext cx="1676160" cy="838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5105520" y="1828800"/>
            <a:ext cx="1828800" cy="838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EPING F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7162920" y="1828800"/>
            <a:ext cx="1828800" cy="838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52280" y="3276720"/>
            <a:ext cx="1828800" cy="1218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276720" y="3200400"/>
            <a:ext cx="167616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E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3124080" y="4267080"/>
            <a:ext cx="198144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VE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7162920" y="3200400"/>
            <a:ext cx="182880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RY DA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>
            <a:off x="837720" y="609480"/>
            <a:ext cx="121932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2514600" y="1295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4114800" y="1295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5867280" y="1295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2"/>
          <p:cNvSpPr/>
          <p:nvPr/>
        </p:nvSpPr>
        <p:spPr>
          <a:xfrm>
            <a:off x="7620120" y="685800"/>
            <a:ext cx="4572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4038480" y="2666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4038480" y="37339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838080" y="26668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6"/>
          <p:cNvSpPr/>
          <p:nvPr/>
        </p:nvSpPr>
        <p:spPr>
          <a:xfrm>
            <a:off x="8077320" y="2666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C:\Users\Джулета\Desktop\СМАЙЛИКИ\img22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Джулета\Desktop\СМАЙЛИКИ\img10.jpg"/>
          <p:cNvPicPr/>
          <p:nvPr/>
        </p:nvPicPr>
        <p:blipFill>
          <a:blip r:embed="rId1"/>
          <a:stretch/>
        </p:blipFill>
        <p:spPr>
          <a:xfrm>
            <a:off x="152280" y="152280"/>
            <a:ext cx="877752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la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to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mer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life is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Джулета\Desktop\СМАЙЛИКИ\LIFE IS BEAUTIFUL.jpg"/>
          <p:cNvPicPr/>
          <p:nvPr/>
        </p:nvPicPr>
        <p:blipFill>
          <a:blip r:embed="rId1"/>
          <a:stretch/>
        </p:blipFill>
        <p:spPr>
          <a:xfrm>
            <a:off x="5638680" y="228600"/>
            <a:ext cx="32832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PROVERBS ABOUT HEAL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health is above w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pple a day keeps a doctor awa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to bed and early to rise make a man healthy, wealthy and 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asty is not always heal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y body, healthy m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Users\Джулета\Desktop\СМАЙЛИКИ\LIVE HEALTHY LIFE.jpg"/>
          <p:cNvPicPr/>
          <p:nvPr/>
        </p:nvPicPr>
        <p:blipFill>
          <a:blip r:embed="rId1"/>
          <a:stretch/>
        </p:blipFill>
        <p:spPr>
          <a:xfrm>
            <a:off x="6477120" y="4191120"/>
            <a:ext cx="2404800" cy="2404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PROVERBS ABOUT HEAL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PROVERBS ABOUT HEAL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t to live not live to 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st wealth is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doctors have killed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erry heart is a good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ound mind in a sound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Джулета\Desktop\СМАЙЛИКИ\LIVE HEALTHY LIFE.jpg"/>
          <p:cNvPicPr/>
          <p:nvPr/>
        </p:nvPicPr>
        <p:blipFill>
          <a:blip r:embed="rId1"/>
          <a:stretch/>
        </p:blipFill>
        <p:spPr>
          <a:xfrm>
            <a:off x="6705720" y="4495680"/>
            <a:ext cx="22525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Arial"/>
              </a:rPr>
              <a:t>ABC OF A HEALTHY M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l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your emo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orning exercis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sportive clubs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 right foo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 is forbidden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mok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rug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 not less than eight hours a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gh extends lif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Users\Джулета\Desktop\СМАЙЛИКИ\LIVE HEALTHY LIFE.jpg"/>
          <p:cNvPicPr/>
          <p:nvPr/>
        </p:nvPicPr>
        <p:blipFill>
          <a:blip r:embed="rId1"/>
          <a:stretch/>
        </p:blipFill>
        <p:spPr>
          <a:xfrm>
            <a:off x="6248520" y="1676520"/>
            <a:ext cx="240480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6520" y="304920"/>
            <a:ext cx="632484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880" y="380520"/>
            <a:ext cx="6477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2361960" cy="6477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251460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PARTS OF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Match the verbs on the left with a part of the body on the right to form common ex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sh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b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co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f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b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n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60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r a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r n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r n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r 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r 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7"/>
          <p:cNvSpPr/>
          <p:nvPr/>
        </p:nvSpPr>
        <p:spPr>
          <a:xfrm>
            <a:off x="2286000" y="2514600"/>
            <a:ext cx="2514600" cy="30481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1872" h="1320">
                <a:moveTo>
                  <a:pt x="0" y="0"/>
                </a:moveTo>
                <a:cubicBezTo>
                  <a:pt x="104" y="48"/>
                  <a:pt x="208" y="96"/>
                  <a:pt x="384" y="288"/>
                </a:cubicBezTo>
                <a:cubicBezTo>
                  <a:pt x="560" y="480"/>
                  <a:pt x="808" y="984"/>
                  <a:pt x="1056" y="1152"/>
                </a:cubicBezTo>
                <a:cubicBezTo>
                  <a:pt x="1304" y="1320"/>
                  <a:pt x="1736" y="1272"/>
                  <a:pt x="1872" y="1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8"/>
          <p:cNvSpPr/>
          <p:nvPr/>
        </p:nvSpPr>
        <p:spPr>
          <a:xfrm>
            <a:off x="1828800" y="3276720"/>
            <a:ext cx="2819520" cy="9144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12" h="344">
                <a:moveTo>
                  <a:pt x="0" y="0"/>
                </a:moveTo>
                <a:cubicBezTo>
                  <a:pt x="280" y="116"/>
                  <a:pt x="560" y="232"/>
                  <a:pt x="912" y="288"/>
                </a:cubicBezTo>
                <a:cubicBezTo>
                  <a:pt x="1264" y="344"/>
                  <a:pt x="1688" y="340"/>
                  <a:pt x="2112" y="336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0"/>
          <p:cNvSpPr/>
          <p:nvPr/>
        </p:nvSpPr>
        <p:spPr>
          <a:xfrm>
            <a:off x="2133720" y="3962520"/>
            <a:ext cx="2666880" cy="2286000"/>
          </a:xfrm>
          <a:custGeom>
            <a:avLst/>
            <a:gdLst>
              <a:gd name="textAreaLeft" fmla="*/ 0 w 2666880"/>
              <a:gd name="textAreaRight" fmla="*/ 2667240 w 26668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920" h="976">
                <a:moveTo>
                  <a:pt x="0" y="0"/>
                </a:moveTo>
                <a:cubicBezTo>
                  <a:pt x="224" y="328"/>
                  <a:pt x="448" y="656"/>
                  <a:pt x="768" y="816"/>
                </a:cubicBezTo>
                <a:cubicBezTo>
                  <a:pt x="1088" y="976"/>
                  <a:pt x="1504" y="968"/>
                  <a:pt x="1920" y="960"/>
                </a:cubicBez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"/>
          <p:cNvSpPr/>
          <p:nvPr/>
        </p:nvSpPr>
        <p:spPr>
          <a:xfrm>
            <a:off x="1905120" y="3200400"/>
            <a:ext cx="2895480" cy="2362320"/>
          </a:xfrm>
          <a:custGeom>
            <a:avLst/>
            <a:gdLst>
              <a:gd name="textAreaLeft" fmla="*/ 0 w 2895480"/>
              <a:gd name="textAreaRight" fmla="*/ 2895480 w 289548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1968" h="1032">
                <a:moveTo>
                  <a:pt x="0" y="1032"/>
                </a:moveTo>
                <a:cubicBezTo>
                  <a:pt x="292" y="684"/>
                  <a:pt x="584" y="336"/>
                  <a:pt x="912" y="168"/>
                </a:cubicBezTo>
                <a:cubicBezTo>
                  <a:pt x="1240" y="0"/>
                  <a:pt x="1604" y="12"/>
                  <a:pt x="1968" y="24"/>
                </a:cubicBezTo>
              </a:path>
            </a:pathLst>
          </a:custGeom>
          <a:noFill/>
          <a:ln w="2844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3"/>
          <p:cNvSpPr/>
          <p:nvPr/>
        </p:nvSpPr>
        <p:spPr>
          <a:xfrm>
            <a:off x="1752480" y="4724280"/>
            <a:ext cx="3048120" cy="152424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016" h="672">
                <a:moveTo>
                  <a:pt x="0" y="672"/>
                </a:moveTo>
                <a:cubicBezTo>
                  <a:pt x="384" y="464"/>
                  <a:pt x="768" y="256"/>
                  <a:pt x="1104" y="144"/>
                </a:cubicBezTo>
                <a:cubicBezTo>
                  <a:pt x="1440" y="32"/>
                  <a:pt x="1864" y="24"/>
                  <a:pt x="2016" y="0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5"/>
          <p:cNvSpPr/>
          <p:nvPr/>
        </p:nvSpPr>
        <p:spPr>
          <a:xfrm>
            <a:off x="1752480" y="2438280"/>
            <a:ext cx="3124440" cy="252756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824" h="1512">
                <a:moveTo>
                  <a:pt x="0" y="1408"/>
                </a:moveTo>
                <a:cubicBezTo>
                  <a:pt x="296" y="1460"/>
                  <a:pt x="592" y="1512"/>
                  <a:pt x="768" y="1312"/>
                </a:cubicBezTo>
                <a:cubicBezTo>
                  <a:pt x="944" y="1112"/>
                  <a:pt x="880" y="416"/>
                  <a:pt x="1056" y="208"/>
                </a:cubicBezTo>
                <a:cubicBezTo>
                  <a:pt x="1232" y="0"/>
                  <a:pt x="1528" y="32"/>
                  <a:pt x="1824" y="64"/>
                </a:cubicBezTo>
              </a:path>
            </a:pathLst>
          </a:custGeom>
          <a:noFill/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IND WORDS DESCRIBING PARTS OF THE BODY, EITHER ACROSS OR DOWN, IN THIS WORD SQUAR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828800"/>
          <a:ext cx="8229600" cy="43959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"/>
              </a:rPr>
              <a:t>SMOK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j3451_1175975698.jpg"/>
          <p:cNvPicPr/>
          <p:nvPr/>
        </p:nvPicPr>
        <p:blipFill>
          <a:blip r:embed="rId1"/>
          <a:stretch/>
        </p:blipFill>
        <p:spPr>
          <a:xfrm>
            <a:off x="0" y="1143000"/>
            <a:ext cx="3214800" cy="571500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6" descr="%c8 %eb%ff%e3%f3%f8%ea%e8 %ea%f3%f0%ff%f2.jpg"/>
          <p:cNvPicPr/>
          <p:nvPr/>
        </p:nvPicPr>
        <p:blipFill>
          <a:blip r:embed="rId2"/>
          <a:stretch/>
        </p:blipFill>
        <p:spPr>
          <a:xfrm>
            <a:off x="3571920" y="2928960"/>
            <a:ext cx="5237280" cy="362412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1"/>
          <p:cNvSpPr/>
          <p:nvPr/>
        </p:nvSpPr>
        <p:spPr>
          <a:xfrm>
            <a:off x="3286080" y="1428840"/>
            <a:ext cx="58579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K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US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A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eeth yellow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  cough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(кашель)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th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hair smell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cancer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рак)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           around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clothes smell (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п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жулета</cp:lastModifiedBy>
  <dcterms:modified xsi:type="dcterms:W3CDTF">2019-10-13T08:51:24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